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2: Vent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000" y="696960"/>
            <a:ext cx="4650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9B21-3981-441F-BFAE-7E50335CDCC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2: Vent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501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9989-D83D-494A-8987-94DA9D04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A655-322B-4160-9757-ED2F6135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ECA6-65DC-4C76-8F3E-E92DC076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104B-9690-4FDA-A50C-375FC9B1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72A4-558D-4BEC-B399-65A6E699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BD6C-7D5B-45D3-98F7-0B4F9663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6EAD-E93A-423A-8520-E2D37D1D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621E-8194-46C2-80DE-3BEC966C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D062-6DF6-455F-8A09-0530AE5E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F7EC-0DAC-4AF8-B463-85CBD60D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4679-F52F-42DE-8914-53A34900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D64B-A28B-4F11-8BA8-5769558B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E5E6-B56F-4FA9-A334-1E4474E7F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399960" y="301680"/>
          <a:ext cx="8460000" cy="683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301680"/>
                    <a:ext cx="8460000" cy="68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523800" y="266760"/>
          <a:ext cx="8220240" cy="619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266760"/>
                    <a:ext cx="8220240" cy="61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185760" y="425520"/>
          <a:ext cx="8629560" cy="594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60" y="425520"/>
                    <a:ext cx="8629560" cy="59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541440" y="558720"/>
          <a:ext cx="8345520" cy="628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558720"/>
                    <a:ext cx="8345520" cy="62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jercicio. Programa que nunca pierde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1280" y="37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a vez que se ingrese un N° responder con uno más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Botón “de nuevo” debe limpiar la frase “Gano yo con el n°”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449568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3 Rectángulo"/>
          <p:cNvSpPr/>
          <p:nvPr/>
        </p:nvSpPr>
        <p:spPr>
          <a:xfrm>
            <a:off x="250920" y="333360"/>
            <a:ext cx="871380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métodos para Entry y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obtener n° y mostrar men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ostrarMensaje(x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=int(respuesta.get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.config(text="gano yo con el "+str(n+1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limpiar men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jugarDeNuevo()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.config(text="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1 Rectángulo"/>
          <p:cNvSpPr/>
          <p:nvPr/>
        </p:nvSpPr>
        <p:spPr>
          <a:xfrm>
            <a:off x="0" y="189000"/>
            <a:ext cx="914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Jalisco: programa que nunca pi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arco para agrupar pregunta y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=Frame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=Label(marco,text="Ingrese un número: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.pack(side=LEF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=Entry(mar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bind("&lt;Return&gt;",mostrarMensa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nsaje y boton en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=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=Button(ventana,text="de nuevo",command=jugarDeNue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uctura de uso comú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lase para interfaz con el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étodos para atender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gra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a objeto para la vent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a objeto para la interfaz (de la venta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op” de espera de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Rectángulo"/>
          <p:cNvSpPr/>
          <p:nvPr/>
        </p:nvSpPr>
        <p:spPr>
          <a:xfrm>
            <a:off x="250920" y="189000"/>
            <a:ext cx="8893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Interfaz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nstructor: define e inicializa compon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ventan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arco para pregunta y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=Frame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pregunta=Label(marco,text="Ingrese un número: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pregunta.pack(side=LEF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 = Entry(mar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bind("&lt;Return&gt;",self.mostrarMensa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nsaje y botón 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=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boton=Button(ventana,text="de nuevo",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and=self.jugarDeNue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boton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1 Rectángulo"/>
          <p:cNvSpPr/>
          <p:nvPr/>
        </p:nvSpPr>
        <p:spPr>
          <a:xfrm>
            <a:off x="108000" y="620640"/>
            <a:ext cx="8928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étodos para ev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ostrarMensaje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=int(self.respuesta.get(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.config(text="gano yo con el "+str(n+1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jugarDeNuevo(self)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.config(text="")#limpiar mens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delete(0,END)#limpiar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Jalisco: programa que nunca pi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Interfaz(ventana)  #o Interfaz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ta. clase Interfaz podría grabarse en otro arch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99960" y="239760"/>
          <a:ext cx="8274240" cy="716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239760"/>
                    <a:ext cx="8274240" cy="71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18960" y="185760"/>
          <a:ext cx="8150400" cy="777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85760"/>
                    <a:ext cx="8150400" cy="77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Rectángulo"/>
          <p:cNvSpPr/>
          <p:nvPr/>
        </p:nvSpPr>
        <p:spPr>
          <a:xfrm>
            <a:off x="179280" y="115920"/>
            <a:ext cx="8785440" cy="83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todos que se ejecutan en caso de click en bot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aludar(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odificar objeto con texto “hola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config(text="hola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greet(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config(text="hello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boton “español”. Un click ejecuta método saluda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1 = Button(ventana,text="español",command=salud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1.pack()  #ubica botón en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boton “english”. Un click ejecuta gree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2 = Button(ventana,text="english",command=gre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2.pack()  #ubica botón debajo de an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mponente para mostrar salu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= 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pack() #ubica Label de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loop para clicks en botones (hasta cerrar 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355680" y="338040"/>
          <a:ext cx="8788320" cy="696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338040"/>
                    <a:ext cx="8788320" cy="696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1 Rectángulo"/>
          <p:cNvSpPr/>
          <p:nvPr/>
        </p:nvSpPr>
        <p:spPr>
          <a:xfrm>
            <a:off x="324000" y="333360"/>
            <a:ext cx="86407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todo que se ejecuta en caso de ingresar un no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aludar(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=respuesta.get()  #obtener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config(text="hola "+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programa que salu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 = Label(ventana,text="Cuál es tu nombre?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mponente para ingresar no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 = Entry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bind("&lt;Return&gt;",salud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mponente para mostrar salu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=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239760" y="257040"/>
          <a:ext cx="8523360" cy="641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257040"/>
                    <a:ext cx="8523360" cy="641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338040" y="257040"/>
          <a:ext cx="8415360" cy="567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040" y="257040"/>
                    <a:ext cx="8415360" cy="567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160200" y="284040"/>
          <a:ext cx="8805960" cy="63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200" y="284040"/>
                    <a:ext cx="8805960" cy="63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5:15:25Z</dcterms:created>
  <dc:creator>jalvarez</dc:creator>
  <dc:description/>
  <dc:language>en-US</dc:language>
  <cp:lastModifiedBy>jalvarez</cp:lastModifiedBy>
  <cp:lastPrinted>2006-04-18T16:26:29Z</cp:lastPrinted>
  <dcterms:modified xsi:type="dcterms:W3CDTF">2012-04-20T16:28:51Z</dcterms:modified>
  <cp:revision>351</cp:revision>
  <dc:subject/>
  <dc:title>Sin título de diapositiva</dc:title>
</cp:coreProperties>
</file>