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0AA-20C7-4A6D-B02D-90B99F8801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BCE-4C03-40FE-9367-51D467C806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E6D-A9DE-4CAD-95A1-1E0929FB6A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0DF-A18A-4C4E-9374-96C3884B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8DA-6E7A-4892-BBCB-E4DE6EE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46A-060F-4592-8D9E-7C551D11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3C4-1722-4442-B418-DC926B77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72F-9CCC-4D0F-8243-27EEBEC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631-F2D3-40A1-A21A-EB505E8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A0B-B6EC-4200-A0AA-28C6DD3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7A-3932-4F99-8E83-B14990F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42B-C904-4896-85C7-662F7C7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544-EB59-4F9D-B481-A48B45C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D62-60F9-4943-B9C5-FF34736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ECB-B23E-4034-B2EF-20605EB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BA4-8067-4D8D-B502-0972E39F2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i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96800" y="444600"/>
          <a:ext cx="7670880" cy="62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7670880" cy="62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11-10T13:37:13Z</dcterms:modified>
  <cp:revision>75</cp:revision>
  <dc:subject/>
  <dc:title>Sin título de diapositiva</dc:title>
</cp:coreProperties>
</file>