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2EFE-4C36-40DC-9B84-BFEB5060881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3C40-3A4B-4489-98CA-3A307792543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0D3-43F5-4524-B2F6-8867BF18743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58F9-1021-4EE3-9A3F-05A62F54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0B32-F021-40C7-9EE0-6D1238CD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B65-C55E-45BE-B19F-56C4C86F6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77E-8F0D-44DC-86D1-7CA8F00DF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810-C971-4959-A3DD-55DF7A31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776-4B95-487D-A7D9-145C16C3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E3D-DF54-47F9-A6F4-6C43346D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F0B-A3DA-48D1-8BB2-D02CE233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D1E8-8DF3-4747-9C50-7E2D5BC5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D2B3-D761-4D15-BB26-AB7C595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707-1E8A-43C0-94B9-208BE623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56BB-E937-42C1-BE51-AEF9DCA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B9A50-407F-4C79-A345-731D316F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i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96800" y="444600"/>
          <a:ext cx="7670880" cy="62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7670880" cy="62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11-10T13:37:13Z</dcterms:modified>
  <cp:revision>75</cp:revision>
  <dc:subject/>
  <dc:title>Sin título de diapositiva</dc:title>
</cp:coreProperties>
</file>