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8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6EE9-4576-4BAD-8B69-F6C27EEB2D7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8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2FDB-65C4-40B6-AB99-4F9F6577B64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8: Her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4EFB-46BC-4BA7-84D3-A016D2C2CC4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07FF-7AEA-4451-B634-9C153B5C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BDA6-068B-4394-BD06-F18EBD01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CAC1-25D9-447E-A9C7-79C2D308A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D4E6-B3BA-43CA-B981-034D7C10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8C7-A9D6-4F99-997E-878A8AAF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6614-C1F0-42D7-816D-534E4643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AA0-FC2B-448A-971F-61FF26F8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E5AE-6838-4F10-B5A0-601B92AC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DA0-194E-4C88-980A-353E4E62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BD7-360F-4E4C-A0FB-E28E99A7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E110-3237-4C57-9A38-3FB4E3B1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047-A50E-49D0-B505-227A7265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AB72-AF99-4AB1-B2B4-DE8DB23AA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701640" y="534960"/>
          <a:ext cx="7610400" cy="564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534960"/>
                    <a:ext cx="7610400" cy="564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24000" y="404640"/>
            <a:ext cx="849600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r=raw_input(“circulo,cuadrado,rectangulo o ” + \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riangulo?").lower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f r=="circ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irculo(input("radi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cuadrad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Cuadrado(input("lad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rect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Rectangulo(input("largo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ancho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if r=="triangulo"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=Triangulo(input("lado1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2?"),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input("lado3?")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exit("figura incorrecta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area=",f.area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print "perimetro=",f.perimetro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-10800"/>
            <a:ext cx="896472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transitiva” (“sucesiva”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(A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.__init__(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hereda de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588000" y="1197000"/>
            <a:ext cx="1152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6659640" y="2349360"/>
            <a:ext cx="1081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6659640" y="3429000"/>
            <a:ext cx="1152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7164360" y="169992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1"/>
          <p:cNvSpPr/>
          <p:nvPr/>
        </p:nvSpPr>
        <p:spPr>
          <a:xfrm flipV="1">
            <a:off x="7236000" y="2852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79560"/>
            <a:ext cx="8964720" cy="64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rencia “múltipl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b=x  #una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(A,B)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C hereda de clases A y 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,y,z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__init__(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c=z  #tres variables pq a y b se hereda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=C(1,2,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&gt;c.f()+c.g()+c.h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5651640" y="476280"/>
            <a:ext cx="1008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164360" y="476280"/>
            <a:ext cx="9367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6516720" y="1628640"/>
            <a:ext cx="8636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"/>
          <p:cNvSpPr/>
          <p:nvPr/>
        </p:nvSpPr>
        <p:spPr>
          <a:xfrm flipH="1" flipV="1">
            <a:off x="6300720" y="98064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7093080" y="980640"/>
            <a:ext cx="431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396720" y="480960"/>
          <a:ext cx="850752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480960"/>
                    <a:ext cx="850752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191520"/>
            <a:ext cx="8893080" cy="61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r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r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exit("lado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a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a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08000" y="205560"/>
            <a:ext cx="8893080" cy="58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lución 2. Con H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er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__init__(self,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Esfera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*math.pi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4.0/3.0*math.pi*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bo(Cuerp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area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6*self.x**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volumen(self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*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468360" y="112536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arch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vención: cada clase en un archivo con nombre de la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erp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mport math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erp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__init__(self,x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self.x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260280"/>
            <a:ext cx="8642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Esfera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#desde archivo importe cl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Esfera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*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4.0/3.0*math.pi*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archivo Cubo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from Cuerpo import Cuer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class Cubo(Cuerpo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area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6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ef volumen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return self.x**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275400" y="663120"/>
            <a:ext cx="8593200" cy="55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archivo nombr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Esfera import E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Cubo import Cu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=raw_input(“esfera o cubo?”).lower()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r=="esfera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Esfera(input("radi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r=="cubo"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uerpo=Cubo(input("lado?"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("error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area=",cuerpo.area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volumen=",cuerpo.perimetro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24000" y="406440"/>
          <a:ext cx="8635680" cy="67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06440"/>
                    <a:ext cx="8635680" cy="67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80960" y="480960"/>
          <a:ext cx="80535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80960"/>
                    <a:ext cx="80535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471600" y="480960"/>
          <a:ext cx="8367480" cy="686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480960"/>
                    <a:ext cx="836748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496800" y="444600"/>
          <a:ext cx="7670880" cy="620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7670880" cy="62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6"/>
          <p:cNvSpPr/>
          <p:nvPr/>
        </p:nvSpPr>
        <p:spPr>
          <a:xfrm>
            <a:off x="25092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ircu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"radi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r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r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Cuad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lado&lt;=0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a=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a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Constructores son 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179280" y="53712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H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mport m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(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,x): #constructor ú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x=x #significado de x depende d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math.pi*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2*math.pi*self.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self.x*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return 4*self.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"/>
          <p:cNvSpPr/>
          <p:nvPr/>
        </p:nvSpPr>
        <p:spPr>
          <a:xfrm>
            <a:off x="250920" y="830880"/>
            <a:ext cx="889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lass Rect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_init__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,x,y):   #constr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.__init__(self,x) #ctor clase Fig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f.y=y  #an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&lt;=0: exit(“nº&lt;=0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self.x*self.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2*(self.x+self.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Rectangulo(nº,nº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Otras figura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5"/>
          <p:cNvSpPr/>
          <p:nvPr/>
        </p:nvSpPr>
        <p:spPr>
          <a:xfrm>
            <a:off x="179280" y="260280"/>
            <a:ext cx="8964720" cy="64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class Triangulo(Figur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__init__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,x,y,z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=0 or y&lt;=0 or z&lt;=0 \ #continu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or x+y&lt;=z or x+z&lt;=y or y+z&lt;=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xit("no forman triangulo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elf.x=x; self.y=y; self.z=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perimetr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self.x+self.y+self.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area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=(self.x+self.y+self.z)/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return math.sqrt(s*(s-self.x)*(s-self.y)*(s-self.z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Uso?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</a:rPr>
              <a:t> t=Triangulo(nº,nº,nº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11-11-10T13:37:13Z</dcterms:modified>
  <cp:revision>75</cp:revision>
  <dc:subject/>
  <dc:title>Sin título de diapositiva</dc:title>
</cp:coreProperties>
</file>