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542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080" y="686880"/>
            <a:ext cx="4681800" cy="351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54560"/>
            <a:ext cx="3056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54560"/>
            <a:ext cx="30542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F174-1588-4ED7-8C94-1571157CEE0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C837-79D6-4F41-A7BD-81F21CBFD69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F0E7-F04F-4738-819A-9C2F6484A03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144A-A538-4416-8DFE-55E23C3DA8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087E-84CA-4B20-A72C-E7F5B148D06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C2FD-0CA4-4BE1-A379-4C6D1A63C78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5A20-0890-4A08-B647-7926A9370D5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2F2E-D699-4C40-8C2E-72442C34009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7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1808-411B-4687-9972-EFBF779A659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C1F-5E9F-42BB-932E-0C657E1B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B08-A803-457F-885C-837724C5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AB1-A75B-4707-A5ED-6C1EC189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0548-520C-4DC5-9ADF-9D26BFF5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51D-B61D-4054-BBDF-C2EF8661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8223-B9EA-41EE-8ED1-D56836CA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3D3-AB7F-4941-8544-B268CE21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D53-1857-4244-8FDB-482722B4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2A6-5B73-4EBA-B679-410D384A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D19F-1F8C-460F-983C-C30A4A56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EE6-1CBA-4F7F-BF2E-9607E4E2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7D24-69BE-4C6C-B35E-3B6B056D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840E-041E-4C06-A2E6-D7630B4A2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609480" y="480960"/>
          <a:ext cx="8183520" cy="68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960"/>
                    <a:ext cx="818352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417600" y="338040"/>
          <a:ext cx="851364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1364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417600" y="338040"/>
          <a:ext cx="8424720" cy="62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424720" cy="62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414360" y="336600"/>
          <a:ext cx="8364600" cy="62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336600"/>
                    <a:ext cx="8364600" cy="62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4"/>
          <p:cNvGraphicFramePr/>
          <p:nvPr/>
        </p:nvGraphicFramePr>
        <p:xfrm>
          <a:off x="996840" y="655560"/>
          <a:ext cx="711216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655560"/>
                    <a:ext cx="711216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390600" y="407880"/>
          <a:ext cx="856764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07880"/>
                    <a:ext cx="856764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318960" y="328680"/>
          <a:ext cx="8691840" cy="66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328680"/>
                    <a:ext cx="869184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380880" y="407880"/>
          <a:ext cx="8372520" cy="60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7880"/>
                    <a:ext cx="8372520" cy="60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24000" y="331920"/>
          <a:ext cx="784044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1920"/>
                    <a:ext cx="784044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31920" y="415800"/>
          <a:ext cx="83692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692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754200" y="620640"/>
          <a:ext cx="7821360" cy="672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20640"/>
                    <a:ext cx="7821360" cy="67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755640" y="689040"/>
          <a:ext cx="754704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89040"/>
                    <a:ext cx="75470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417600" y="338040"/>
          <a:ext cx="8521560" cy="63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215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701640" y="360360"/>
          <a:ext cx="775800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360360"/>
                    <a:ext cx="7758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24000" y="798840"/>
            <a:ext cx="828036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ayorQue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compara dos objetos (fracciones)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uelve un bool (True o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mayorQue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primer operando: self (componentes: self.a, self.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segundo operando: x (componentes: x.a, x.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suma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suma dos f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suma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 nuevo objeto con la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ado: referencia a nuevo objeto de clase Fra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331920" y="415800"/>
          <a:ext cx="8359560" cy="648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59560" cy="648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12-04-12T16:43:52Z</dcterms:modified>
  <cp:revision>103</cp:revision>
  <dc:subject/>
  <dc:title>Sin título de diapositiva</dc:title>
</cp:coreProperties>
</file>