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542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080" y="686880"/>
            <a:ext cx="468180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54560"/>
            <a:ext cx="3056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54560"/>
            <a:ext cx="30542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AB98-2D5E-409D-88DB-36D206B4EA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EE63-1362-4BAF-B52E-0E4836D0D09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003A-6047-4C2D-9370-19FA5C40E8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E9DD-544A-4B0B-BAE4-A84A791888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A6C2-CC8D-46AB-B419-7FE08F2C68A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F064-0F1C-441C-9A3B-045AB1DB7ED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7A72-D4CB-4F05-952B-0ED2C39CAC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7695-4E54-4591-8CA2-9BAB749E89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B134-7942-4BE4-A36F-4DEFEAE4D74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798-A273-4997-B631-0501992E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2B9-8DA3-40EC-B08B-14AABA93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99C-770C-4237-B69F-F698287B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7F4-DD3C-4736-BE64-42F7FB76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418-1F96-4060-AD0E-55482CB8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AFE-C6BE-4DA4-9881-DDC1364C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6F2-3E25-40C0-A681-ACFD5814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EA2-B095-4A2A-A201-BDF063B1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E4A-9F09-4353-AA6E-B1C05191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089-02F0-498C-BCD4-1A394DEA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201-6281-4B38-B4CC-B6C58936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013-48B6-443F-8E2C-530C2B9B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33DC-1F38-4817-9CFC-7C44414BA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09480" y="480960"/>
          <a:ext cx="8183520" cy="68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18352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417600" y="338040"/>
          <a:ext cx="851364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1364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417600" y="338040"/>
          <a:ext cx="84247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4247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14360" y="336600"/>
          <a:ext cx="8364600" cy="62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336600"/>
                    <a:ext cx="8364600" cy="62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4"/>
          <p:cNvGraphicFramePr/>
          <p:nvPr/>
        </p:nvGraphicFramePr>
        <p:xfrm>
          <a:off x="996840" y="655560"/>
          <a:ext cx="711216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655560"/>
                    <a:ext cx="711216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390600" y="407880"/>
          <a:ext cx="856764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7880"/>
                    <a:ext cx="856764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318960" y="328680"/>
          <a:ext cx="869184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28680"/>
                    <a:ext cx="869184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380880" y="407880"/>
          <a:ext cx="8372520" cy="60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7880"/>
                    <a:ext cx="8372520" cy="60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24000" y="331920"/>
          <a:ext cx="784044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1920"/>
                    <a:ext cx="784044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31920" y="415800"/>
          <a:ext cx="83692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692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754200" y="620640"/>
          <a:ext cx="7821360" cy="67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20640"/>
                    <a:ext cx="782136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55640" y="689040"/>
          <a:ext cx="754704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89040"/>
                    <a:ext cx="75470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417600" y="338040"/>
          <a:ext cx="852156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215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701640" y="360360"/>
          <a:ext cx="775800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360360"/>
                    <a:ext cx="7758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24000" y="798840"/>
            <a:ext cx="82803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Que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compara dos objetos (fracciones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uelve un bool (True o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mayorQue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primer operando: self (componentes: self.a, self.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segundo operando: x (componentes: x.a, x.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suma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suma do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suma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 nuevo objeto con la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: referencia a nuevo objeto de clase Fra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331920" y="415800"/>
          <a:ext cx="8359560" cy="648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59560" cy="648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12-04-12T16:43:52Z</dcterms:modified>
  <cp:revision>103</cp:revision>
  <dc:subject/>
  <dc:title>Sin título de diapositiva</dc:title>
</cp:coreProperties>
</file>