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5604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7: Objetos y Cl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1880" y="0"/>
            <a:ext cx="305424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1080" y="686880"/>
            <a:ext cx="4681800" cy="3511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5480" y="4428720"/>
            <a:ext cx="5193000" cy="41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54560"/>
            <a:ext cx="305604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1880" y="8854560"/>
            <a:ext cx="305424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984DE-9373-41E4-B265-9AE75669B3FE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2"/>
          <p:cNvSpPr/>
          <p:nvPr/>
        </p:nvSpPr>
        <p:spPr>
          <a:xfrm>
            <a:off x="0" y="0"/>
            <a:ext cx="30560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7: Objetos y Cl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6"/>
          <p:cNvSpPr/>
          <p:nvPr/>
        </p:nvSpPr>
        <p:spPr>
          <a:xfrm>
            <a:off x="0" y="8854920"/>
            <a:ext cx="3056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7"/>
          <p:cNvSpPr/>
          <p:nvPr/>
        </p:nvSpPr>
        <p:spPr>
          <a:xfrm>
            <a:off x="3971880" y="8854920"/>
            <a:ext cx="305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AF91D-581F-46DF-A31E-AF58C28BC4F0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71440" y="687240"/>
            <a:ext cx="4681800" cy="35118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5480" y="4428720"/>
            <a:ext cx="5193000" cy="41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0" y="0"/>
            <a:ext cx="30560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7: Objetos y Cl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0" y="8854920"/>
            <a:ext cx="3056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3971880" y="8854920"/>
            <a:ext cx="305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0EFA3-E436-42FA-A484-41F32B91C706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71440" y="687240"/>
            <a:ext cx="4681800" cy="35118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5480" y="4428720"/>
            <a:ext cx="5193000" cy="41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0" y="0"/>
            <a:ext cx="30560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7: Objetos y Cl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0" y="8854920"/>
            <a:ext cx="3056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3971880" y="8854920"/>
            <a:ext cx="305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3A603-97F7-4EC7-9B0F-4AA9E8537F46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71440" y="687240"/>
            <a:ext cx="4681800" cy="35118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5480" y="4428720"/>
            <a:ext cx="5193000" cy="41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0" y="0"/>
            <a:ext cx="30560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7: Objetos y Cl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0" y="8854920"/>
            <a:ext cx="3056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3971880" y="8854920"/>
            <a:ext cx="305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4D569-44FC-45FD-8B58-C280DFCC5EEA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71440" y="687240"/>
            <a:ext cx="4681800" cy="35118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15480" y="4428720"/>
            <a:ext cx="5193000" cy="41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0" y="0"/>
            <a:ext cx="30560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7: Objetos y Cl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0" y="8854920"/>
            <a:ext cx="3056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3971880" y="8854920"/>
            <a:ext cx="305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B4C32-2109-4862-8B90-2A4422198D66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71440" y="687240"/>
            <a:ext cx="4681800" cy="35118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5480" y="4428720"/>
            <a:ext cx="5193000" cy="41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0" y="0"/>
            <a:ext cx="30560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7: Objetos y Cl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6"/>
          <p:cNvSpPr/>
          <p:nvPr/>
        </p:nvSpPr>
        <p:spPr>
          <a:xfrm>
            <a:off x="0" y="8854920"/>
            <a:ext cx="3056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971880" y="8854920"/>
            <a:ext cx="305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20E7E-BA52-47DD-B7BA-D77D9B839000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71440" y="687240"/>
            <a:ext cx="4681800" cy="35118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5480" y="4428720"/>
            <a:ext cx="5193000" cy="41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0" y="0"/>
            <a:ext cx="30560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7: Objetos y Cl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0" y="8854920"/>
            <a:ext cx="3056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3971880" y="8854920"/>
            <a:ext cx="305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AC89C-FF42-41B6-9D59-6D97DD114F3A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71440" y="687240"/>
            <a:ext cx="4681800" cy="35118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5480" y="4428720"/>
            <a:ext cx="5193000" cy="41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0" y="0"/>
            <a:ext cx="30560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7: Objetos y Cl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6"/>
          <p:cNvSpPr/>
          <p:nvPr/>
        </p:nvSpPr>
        <p:spPr>
          <a:xfrm>
            <a:off x="0" y="8854920"/>
            <a:ext cx="3056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3971880" y="8854920"/>
            <a:ext cx="305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EB48F-0AB5-4A06-8F12-384887AE4B68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71440" y="687240"/>
            <a:ext cx="4681800" cy="35118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5480" y="4428720"/>
            <a:ext cx="5193000" cy="41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7784-7ADB-4AA9-BAD4-4141F0931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7AD1-3996-486C-BD8E-6E5D6AE44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2143-D1D4-4864-B7A5-6F8EB959A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6303-30DA-4EB0-B874-9CD26BCB7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675A-4353-4E26-8DED-2202C7BE9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FE05-59D5-48F7-8C59-6C693297A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957D-D061-4CC9-A3FD-65069C28F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B2F3-14C8-4DC4-9E21-933C88E10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E7A3-EE9C-4B8C-8BCB-798B37C39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4F46-D6B2-4AB1-A14B-37E5AFE2B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1C88-A6E7-4E24-BF9F-26FFCE2A9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D9CD-D543-421E-B4BB-251C7B6B4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723C5-A0C6-45A0-BE02-C3AE8E0C61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Object 2"/>
          <p:cNvGraphicFramePr/>
          <p:nvPr/>
        </p:nvGraphicFramePr>
        <p:xfrm>
          <a:off x="609480" y="480960"/>
          <a:ext cx="8183520" cy="6843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80960"/>
                    <a:ext cx="8183520" cy="68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Object 4"/>
          <p:cNvGraphicFramePr/>
          <p:nvPr/>
        </p:nvGraphicFramePr>
        <p:xfrm>
          <a:off x="417600" y="338040"/>
          <a:ext cx="8513640" cy="6346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7600" y="338040"/>
                    <a:ext cx="8513640" cy="634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Object 4"/>
          <p:cNvGraphicFramePr/>
          <p:nvPr/>
        </p:nvGraphicFramePr>
        <p:xfrm>
          <a:off x="417600" y="338040"/>
          <a:ext cx="8424720" cy="6284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7600" y="338040"/>
                    <a:ext cx="8424720" cy="628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Object 4"/>
          <p:cNvGraphicFramePr/>
          <p:nvPr/>
        </p:nvGraphicFramePr>
        <p:xfrm>
          <a:off x="414360" y="336600"/>
          <a:ext cx="8364600" cy="6275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360" y="336600"/>
                    <a:ext cx="8364600" cy="627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Object 4"/>
          <p:cNvGraphicFramePr/>
          <p:nvPr/>
        </p:nvGraphicFramePr>
        <p:xfrm>
          <a:off x="996840" y="655560"/>
          <a:ext cx="7112160" cy="5827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6840" y="655560"/>
                    <a:ext cx="7112160" cy="582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Object 4"/>
          <p:cNvGraphicFramePr/>
          <p:nvPr/>
        </p:nvGraphicFramePr>
        <p:xfrm>
          <a:off x="390600" y="407880"/>
          <a:ext cx="8567640" cy="6197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0600" y="407880"/>
                    <a:ext cx="8567640" cy="619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Object 4"/>
          <p:cNvGraphicFramePr/>
          <p:nvPr/>
        </p:nvGraphicFramePr>
        <p:xfrm>
          <a:off x="318960" y="328680"/>
          <a:ext cx="8691840" cy="6640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8960" y="328680"/>
                    <a:ext cx="8691840" cy="664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Object 4"/>
          <p:cNvGraphicFramePr/>
          <p:nvPr/>
        </p:nvGraphicFramePr>
        <p:xfrm>
          <a:off x="380880" y="407880"/>
          <a:ext cx="8372520" cy="6081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407880"/>
                    <a:ext cx="8372520" cy="608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Object 2"/>
          <p:cNvGraphicFramePr/>
          <p:nvPr/>
        </p:nvGraphicFramePr>
        <p:xfrm>
          <a:off x="324000" y="331920"/>
          <a:ext cx="7840440" cy="7065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331920"/>
                    <a:ext cx="7840440" cy="706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Object 2"/>
          <p:cNvGraphicFramePr/>
          <p:nvPr/>
        </p:nvGraphicFramePr>
        <p:xfrm>
          <a:off x="331920" y="415800"/>
          <a:ext cx="8369280" cy="6473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920" y="415800"/>
                    <a:ext cx="8369280" cy="647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4"/>
          <p:cNvGraphicFramePr/>
          <p:nvPr/>
        </p:nvGraphicFramePr>
        <p:xfrm>
          <a:off x="754200" y="620640"/>
          <a:ext cx="7821360" cy="6729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620640"/>
                    <a:ext cx="7821360" cy="672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Object 2"/>
          <p:cNvGraphicFramePr/>
          <p:nvPr/>
        </p:nvGraphicFramePr>
        <p:xfrm>
          <a:off x="755640" y="689040"/>
          <a:ext cx="7547040" cy="6168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689040"/>
                    <a:ext cx="7547040" cy="616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Object 4"/>
          <p:cNvGraphicFramePr/>
          <p:nvPr/>
        </p:nvGraphicFramePr>
        <p:xfrm>
          <a:off x="417600" y="338040"/>
          <a:ext cx="8521560" cy="6337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7600" y="338040"/>
                    <a:ext cx="8521560" cy="633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Object 4"/>
          <p:cNvGraphicFramePr/>
          <p:nvPr/>
        </p:nvGraphicFramePr>
        <p:xfrm>
          <a:off x="701640" y="360360"/>
          <a:ext cx="7758000" cy="6473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1640" y="360360"/>
                    <a:ext cx="7758000" cy="647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5"/>
          <p:cNvSpPr/>
          <p:nvPr/>
        </p:nvSpPr>
        <p:spPr>
          <a:xfrm>
            <a:off x="324000" y="798840"/>
            <a:ext cx="8280360" cy="49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mayorQue(self,x):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étodo que compara dos objetos (fracciones)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uelve un bool (True o Fal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j de invocacion:  f1.mayorQue(f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f de primer operando: self (componentes: self.a, self.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f de segundo operando: x (componentes: x.a, x.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suma(self,x):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étodo que suma dos frac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j de invocacion:  f1.suma(f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 nuevo objeto con la su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ado: referencia a nuevo objeto de clase Frac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Object 4"/>
          <p:cNvGraphicFramePr/>
          <p:nvPr/>
        </p:nvGraphicFramePr>
        <p:xfrm>
          <a:off x="331920" y="415800"/>
          <a:ext cx="8359560" cy="6483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920" y="415800"/>
                    <a:ext cx="8359560" cy="648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0T15:21:23Z</dcterms:created>
  <dc:creator>jalvarez</dc:creator>
  <dc:description/>
  <dc:language>en-US</dc:language>
  <cp:lastModifiedBy>jalvarez</cp:lastModifiedBy>
  <cp:lastPrinted>2006-04-08T15:00:39Z</cp:lastPrinted>
  <dcterms:modified xsi:type="dcterms:W3CDTF">2012-04-12T16:43:52Z</dcterms:modified>
  <cp:revision>103</cp:revision>
  <dc:subject/>
  <dc:title>Sin título de diapositiva</dc:title>
</cp:coreProperties>
</file>