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54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08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54560"/>
            <a:ext cx="3056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54560"/>
            <a:ext cx="30542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DCA1-7189-48B1-B7B1-5DD72A296E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E520-34D9-428E-B8A5-58F04FAAE5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3622-D401-419F-95BE-8724108915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8878-3E69-454B-96B5-43FECB7B53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3F6-0E3B-42D7-BD48-CA04368B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E12-FB69-421E-A40E-C26DE20B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889-0F6E-4512-BBD6-B82FA19C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2C9-B99D-4C2F-9579-6A10A3EF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FAE-87BF-496D-99BE-817BFA3B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EEA-4E87-446C-98BF-155DD6F9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759-C5A2-49F5-81E0-7089E939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344-C3BD-4F9F-821E-EE0B9B74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E03-903E-449A-BB03-6B33768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095-24FC-4F7A-9030-D1143CDA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F3E-9839-4E51-87AB-5A52781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D2E-53B0-46C3-A8ED-B350FAAF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3C17-32E6-4C3D-9BDB-B84F3D6B0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390600" y="511200"/>
          <a:ext cx="8631000" cy="68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511200"/>
                    <a:ext cx="863100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2-04-11T19:04:01Z</dcterms:modified>
  <cp:revision>66</cp:revision>
  <dc:subject/>
  <dc:title>Sin título de diapositiva</dc:title>
</cp:coreProperties>
</file>