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54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080" y="686880"/>
            <a:ext cx="468180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54560"/>
            <a:ext cx="3056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54560"/>
            <a:ext cx="30542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199B-FB72-4BAD-A4F5-27F83E0E67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4DAF-8B10-4DF5-B843-61B030713D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ACA3-8E24-478D-8979-36A3B3239B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56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6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54920"/>
            <a:ext cx="30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1880" y="8854920"/>
            <a:ext cx="30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FEC-8743-4E43-A885-ABC57C8EA6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71440" y="687240"/>
            <a:ext cx="4681800" cy="3511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480" y="4428720"/>
            <a:ext cx="5193000" cy="41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C01-3477-498F-9003-6B4629FA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56A-F5C1-46C9-B532-BBF05B3D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AF6-2FEC-47C3-9CF1-B0273689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9BB-3149-4534-B7FB-7F6B157B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676-9EAB-43B4-8729-3102820A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E10-AD7A-4FD1-BB34-74936C3A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25E-C7F8-4C4C-B147-DB66BD4D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199-DF11-4E6D-94B6-CA0C669A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A03-C60B-4581-98CB-52E5D163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8BF-AAB1-401D-8ABD-279841A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263-A359-42FC-9DE4-57C7C5B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E9BF-56BD-4BE6-B701-2AFF74F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1D9D-B7A3-4F7E-8A6E-EE7680015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390600" y="511200"/>
          <a:ext cx="8631000" cy="68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511200"/>
                    <a:ext cx="863100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2-04-11T19:04:01Z</dcterms:modified>
  <cp:revision>66</cp:revision>
  <dc:subject/>
  <dc:title>Sin título de diapositiva</dc:title>
</cp:coreProperties>
</file>