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54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080" y="686880"/>
            <a:ext cx="46818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54560"/>
            <a:ext cx="3056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54560"/>
            <a:ext cx="30542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6FFA-6577-4929-B338-E072B59585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CE1F-310D-4353-B54B-63D5903ED3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F039-BF3C-4C47-B86D-0DE6A2F741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D34F-3E57-478F-BB12-2F1F1AC1CFC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017-ED0B-413D-A5FF-2D99625A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417-9F04-4412-8492-C9E65E38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6A5-361E-4EA5-9ED3-E60E8169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CD0-1952-4410-B6B0-28970E1C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EDE-4832-4F6C-B55C-7C45214C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B71-45BF-42A3-964F-CF5FAC99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EC1-2ED2-48BE-BB79-D48C519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950-9542-46E3-B05A-899D951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E8E-B5A1-44AD-BFB1-8D39F944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DBE-2623-4EE1-8E85-5C0FCD93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8E6-3F5B-4658-B201-65B180A0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B1E-650B-4D9D-906B-8E6D0DBE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B390-B73D-4BF8-8AE0-000632564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390600" y="511200"/>
          <a:ext cx="8631000" cy="68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511200"/>
                    <a:ext cx="863100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2-04-11T19:04:01Z</dcterms:modified>
  <cp:revision>66</cp:revision>
  <dc:subject/>
  <dc:title>Sin título de diapositiva</dc:title>
</cp:coreProperties>
</file>