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542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080" y="686880"/>
            <a:ext cx="46818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54560"/>
            <a:ext cx="3056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54560"/>
            <a:ext cx="30542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20C6-8E69-4A0F-8D50-9481C6C1D18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D55A-0C38-4AF8-9FF9-E77CA89A450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AC62-E8E2-40A8-AA30-5BDE344DE2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B855-0BDB-4D86-A048-AC7A85C8D1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834-1F09-47F0-9608-D0992FB4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0E6-2F4F-4084-A232-5157E674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211-D3FF-446F-A0AD-DD441A21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EA8-B57F-4D43-9AE2-1F42EE79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16B-AD0E-4D5A-8455-4BA33F2F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A07-82FB-47E9-8EA8-926EF666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278-F411-4953-B6F4-15B457AA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E7B-7335-4F35-A298-A0D0E564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8B0-0B95-4C93-8863-253B23D6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6E3-E8F9-41C8-A4F0-76F08242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8E8-913E-4E8B-B714-762DD6CA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E2F-F497-443B-A230-C39C16E1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0655-73CE-497F-AE46-7D5C2E8F6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390600" y="511200"/>
          <a:ext cx="8631000" cy="68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511200"/>
                    <a:ext cx="863100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2-04-11T19:04:01Z</dcterms:modified>
  <cp:revision>66</cp:revision>
  <dc:subject/>
  <dc:title>Sin título de diapositiva</dc:title>
</cp:coreProperties>
</file>