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5: 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380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7872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37872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6EE46-3FDF-4F15-9A6A-7D0CAFA36EB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0" y="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5: 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0" y="937908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3851280" y="937908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446EB-B8C6-4ABA-9A2B-02759DDF422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0" y="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5: 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0" y="937908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3851280" y="937908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31B6E-301F-4339-996B-A5FF8060D75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0" y="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5: 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0" y="937908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3851280" y="937908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A7595-3C42-4D7E-ABA2-533DF261E8A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54BD-0A47-4366-9B9C-C50381FCD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0173-2E73-4BD3-BBF2-ED2771FD8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E3CA-BA3B-47CF-9BCE-6AE0FB61E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7602-63F4-49F7-84A8-722F0EE53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2D21-E876-456F-8258-D8189CDAB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E298-2949-4E66-B812-E8E6A2EAE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DD14-A1D1-454E-8C2B-47472D477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22BE-224B-4933-A38F-45A65EDD0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1B35-FEF4-429A-A146-EB37B5343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073B-9EEB-4FCB-94CF-A1677125C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4FA9-6BEE-4D11-A060-039672000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35F6-CAA6-4E0A-8D54-9FCF31E48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D9772-F9C8-4AA9-B8C0-6238D87DA8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471600" y="406440"/>
          <a:ext cx="7905600" cy="641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406440"/>
                    <a:ext cx="7905600" cy="641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4"/>
          <p:cNvGraphicFramePr/>
          <p:nvPr/>
        </p:nvGraphicFramePr>
        <p:xfrm>
          <a:off x="841320" y="222120"/>
          <a:ext cx="8015400" cy="593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222120"/>
                    <a:ext cx="8015400" cy="593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Object 5"/>
          <p:cNvGraphicFramePr/>
          <p:nvPr/>
        </p:nvGraphicFramePr>
        <p:xfrm>
          <a:off x="396720" y="258840"/>
          <a:ext cx="8386920" cy="6381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9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6720" y="258840"/>
                    <a:ext cx="8386920" cy="638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4"/>
          <p:cNvGraphicFramePr/>
          <p:nvPr/>
        </p:nvGraphicFramePr>
        <p:xfrm>
          <a:off x="471600" y="406440"/>
          <a:ext cx="8099280" cy="6649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406440"/>
                    <a:ext cx="8099280" cy="664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4"/>
          <p:cNvGraphicFramePr/>
          <p:nvPr/>
        </p:nvGraphicFramePr>
        <p:xfrm>
          <a:off x="471600" y="415800"/>
          <a:ext cx="8256600" cy="6519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415800"/>
                    <a:ext cx="8256600" cy="651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4"/>
          <p:cNvGraphicFramePr/>
          <p:nvPr/>
        </p:nvGraphicFramePr>
        <p:xfrm>
          <a:off x="471600" y="406440"/>
          <a:ext cx="7886520" cy="713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406440"/>
                    <a:ext cx="7886520" cy="71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2"/>
          <p:cNvGraphicFramePr/>
          <p:nvPr/>
        </p:nvGraphicFramePr>
        <p:xfrm>
          <a:off x="471600" y="406440"/>
          <a:ext cx="7988040" cy="7203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406440"/>
                    <a:ext cx="7988040" cy="72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2"/>
          <p:cNvGraphicFramePr/>
          <p:nvPr/>
        </p:nvGraphicFramePr>
        <p:xfrm>
          <a:off x="461880" y="480960"/>
          <a:ext cx="8318520" cy="6658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480960"/>
                    <a:ext cx="8318520" cy="665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4"/>
          <p:cNvGraphicFramePr/>
          <p:nvPr/>
        </p:nvGraphicFramePr>
        <p:xfrm>
          <a:off x="609480" y="415800"/>
          <a:ext cx="8147160" cy="636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5800"/>
                    <a:ext cx="8147160" cy="636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4"/>
          <p:cNvGraphicFramePr/>
          <p:nvPr/>
        </p:nvGraphicFramePr>
        <p:xfrm>
          <a:off x="831960" y="573120"/>
          <a:ext cx="8053200" cy="565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1960" y="573120"/>
                    <a:ext cx="8053200" cy="565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295200" y="369720"/>
          <a:ext cx="8756640" cy="6289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5200" y="369720"/>
                    <a:ext cx="8756640" cy="628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4"/>
          <p:cNvGraphicFramePr/>
          <p:nvPr/>
        </p:nvGraphicFramePr>
        <p:xfrm>
          <a:off x="471600" y="379440"/>
          <a:ext cx="8348400" cy="6464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379440"/>
                    <a:ext cx="8348400" cy="646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2"/>
          <p:cNvGraphicFramePr/>
          <p:nvPr/>
        </p:nvGraphicFramePr>
        <p:xfrm>
          <a:off x="757080" y="831960"/>
          <a:ext cx="7813800" cy="543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7080" y="831960"/>
                    <a:ext cx="7813800" cy="54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4"/>
          <p:cNvGraphicFramePr/>
          <p:nvPr/>
        </p:nvGraphicFramePr>
        <p:xfrm>
          <a:off x="492120" y="225360"/>
          <a:ext cx="8377200" cy="7000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2120" y="225360"/>
                    <a:ext cx="8377200" cy="700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4"/>
          <p:cNvGraphicFramePr/>
          <p:nvPr/>
        </p:nvGraphicFramePr>
        <p:xfrm>
          <a:off x="442800" y="363600"/>
          <a:ext cx="8298000" cy="680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800" y="363600"/>
                    <a:ext cx="8298000" cy="680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4"/>
          <p:cNvGraphicFramePr/>
          <p:nvPr/>
        </p:nvGraphicFramePr>
        <p:xfrm>
          <a:off x="471600" y="406440"/>
          <a:ext cx="7878600" cy="642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406440"/>
                    <a:ext cx="7878600" cy="642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7T12:56:39Z</dcterms:created>
  <dc:creator>jalvarez</dc:creator>
  <dc:description/>
  <dc:language>en-US</dc:language>
  <cp:lastModifiedBy>jalvarez</cp:lastModifiedBy>
  <cp:lastPrinted>2006-03-30T20:21:23Z</cp:lastPrinted>
  <dcterms:modified xsi:type="dcterms:W3CDTF">2012-04-03T11:14:31Z</dcterms:modified>
  <cp:revision>86</cp:revision>
  <dc:subject/>
  <dc:title>Sin título de diapositiva</dc:title>
</cp:coreProperties>
</file>