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E920-CBEC-4521-AA15-3C58C987F1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B6A9-927C-4986-ADCA-36BB54A503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444-315B-48FD-A076-CC37F41681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1C3-EB8B-4FC6-B8ED-9494DF6FE4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86B-21A8-40B0-9367-CE57C6D8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A09-C406-4800-B700-69014B6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133-12C2-4BBE-8611-975CEA3F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2B7-E1EB-4963-B97E-635C1EC8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BE1-2DB3-4285-A3BE-448AA58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4BF-569A-4E00-945F-B3E2018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3B5-842D-4DD7-9972-C3DF939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130-F0C3-4F1C-81DC-8FCF74A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48E-27B9-44AC-AFFA-72707FC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3DA-50EF-4785-B144-4B4E717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B73-D874-4CBF-817C-B3F6651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551-312A-4C47-A2A6-93EBBF1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442A-6CF1-4DE0-8396-AC593C1D7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92120" y="225360"/>
          <a:ext cx="8377200" cy="70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225360"/>
                    <a:ext cx="837720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42800" y="363600"/>
          <a:ext cx="82980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363600"/>
                    <a:ext cx="82980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2-04-03T11:14:31Z</dcterms:modified>
  <cp:revision>86</cp:revision>
  <dc:subject/>
  <dc:title>Sin título de diapositiva</dc:title>
</cp:coreProperties>
</file>