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7F8A-B717-47A6-9553-F632C1A00F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92E-FCE3-414C-B2F5-6634FF64B5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38E0-04CF-4898-B4F6-26B91C73A6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1778-C0AE-4028-9FD6-57F1E1A154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995C-0868-41E1-B721-C1C87AB8E2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5C90-14A9-41FD-A307-D31CDDE13F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9C9D-49CD-4BF5-BF0A-DFDACD63DB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B81-175C-45B8-9EB5-88B07B5317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E394-7744-4706-831B-B362F47327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C4CD-B0EA-4E9A-A1BC-9A91F197932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036-B60E-4DDC-9EF7-6D2D8349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F23-F4AB-433E-B5FA-5A58762A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349-0841-4ACF-B36D-0154CB95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053-251A-4FFD-B3A7-63312262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5F5-F1F4-40AC-B9DF-B785C27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E07-D71A-4CDE-9C92-6D79FF39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7C6-71F4-4E97-83F9-5073CBFA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619-CE85-4912-94F3-7236DB0F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5F8-CD0A-42E4-A379-12BC6BCB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C64-81B2-4A0B-911F-40881545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45F-F67B-4446-9825-3DC1E7C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568-FB70-4A8B-AC32-D3C84A9B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AB1D-06E1-4943-8779-2D2C1987D32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nstrucción 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instrucción whil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52600" y="190440"/>
          <a:ext cx="819144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90440"/>
                    <a:ext cx="819144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 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395280" y="115920"/>
          <a:ext cx="7953480" cy="65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5348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50920" y="21816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probando sólo con imp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==2: return True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False #otro par no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x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i=3,5,…,x-1 (imp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probando hasta raíz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 hay divisor &gt; también hay &l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x==2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=int(math.sqrt(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#i=3,5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569080" cy="64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factoria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actorial(x-1)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#recu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10: retur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potencia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==0: retur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tencia(x,y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%2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p *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 * p *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+1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,y-1)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números de fibonacci: 0,1,1,2,3,5,8,13,21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): #i-ésimo n° de fibonac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i&lt;=2: return i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C(x,y)=C(x-1,y)+C(x-1,y-1); C(x,x)=C(x,0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x==y or y==0:  retur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) 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escrib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380880"/>
          <a:ext cx="845820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85760" y="762120"/>
          <a:ext cx="8713800" cy="63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762120"/>
                    <a:ext cx="8713800" cy="63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ax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f1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438120" y="276120"/>
          <a:ext cx="7686720" cy="68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76120"/>
                    <a:ext cx="76867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9640" y="26028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549360"/>
            <a:ext cx="864072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c/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Rectángulo"/>
          <p:cNvSpPr/>
          <p:nvPr/>
        </p:nvSpPr>
        <p:spPr>
          <a:xfrm>
            <a:off x="179280" y="260280"/>
            <a:ext cx="8964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,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1 or m==3 or m==5 or m==7 \#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m==8 or m==10 or m==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4 or m==6 or m==9 or m==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bisiesto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 #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de 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%400==0:   #si es divisible por 4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100==0: #si es divisible por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4==0:   #si es divisible po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         #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00==0 or x%100!=0 and x%4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and x%100!=0 or x%40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2-03-29T12:19:24Z</dcterms:modified>
  <cp:revision>207</cp:revision>
  <dc:subject/>
  <dc:title>Diapositiva 1</dc:title>
</cp:coreProperties>
</file>