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F4AF-4A7F-4129-8661-EB79301F8A6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DCC7-D496-48A3-854A-C3FA617C443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773B-9C08-4221-9289-F1782E1377E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CCD9-795E-49EA-8610-BC533178A6F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EDD6-36BF-4F69-9F39-9C6C4829DD8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8674-BD32-4DA3-A0E4-7506F206E46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0D8B-CAB2-4404-BA23-F70E3C1BB38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9E2D-89EE-4F58-A332-D07C6F10276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72E4-BDEB-4B4B-87F9-F5AD62B1D88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0771-D756-46E5-9BB8-05FD9193243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E28A-BB4D-407F-A701-0DFA82A0D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660C-5EDD-45E4-9418-1FBF4271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9DE5-32DD-48FE-9C4B-5598C0FE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91D4-F486-49AB-BDF2-B2384BFA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72DE-A2BD-4725-967C-14564E0F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F781-30D3-4256-821F-43185BB8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EB20-609E-4D2A-B62F-A741A194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AC3D-3EEA-47FC-B869-F1EEE00C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5EB8-587B-4F5F-BFD0-9FB2D4EC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A276-97EC-4746-B7E4-32498BCB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2566-3F64-46DF-896E-C9678AAC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ED0A-CBAF-44B3-938E-00E360F1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J.Alvar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FB0C-9E5E-466C-BB7C-2189ABA3CAC5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457200" y="274680"/>
            <a:ext cx="83059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epaso/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468360" y="836640"/>
            <a:ext cx="829476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lectura/escritura y asign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fun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selección de instrucciones (instrucción if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repetición de instrucciones (instrucción while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recur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552600" y="190440"/>
          <a:ext cx="8191440" cy="632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190440"/>
                    <a:ext cx="8191440" cy="63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97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nstrucción 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874872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tabla celsius - fahrenh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=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&lt;=4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g,”ºC =“,9.0/5.0*g+32,”ºF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=g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tabla grados – funcion s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rados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rados&lt;=36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adianes=math.pi*grados/18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grados,radianes,math.sin(radia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rados=grados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179280" y="2746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atrones (esquemas) para proceso de 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79280" y="1413000"/>
            <a:ext cx="864072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inicializar             #inici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mayor=0;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mayor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leer 1º                 #repetir siemp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=input(“nº?”)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 Tr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repetir mientras          #le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n!=0: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  n=input(“nº?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procesar                #condición de térm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 n&gt;mayor: mayor=n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if n==0: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leer sgte              #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=input(“nº?”)           mayor=max(mayor,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finalizar               #finalizar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“mayor=“,mayor      print “mayor=“,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395280" y="115920"/>
          <a:ext cx="7953480" cy="659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5920"/>
                    <a:ext cx="7953480" cy="65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542880" y="476280"/>
          <a:ext cx="7953480" cy="658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476280"/>
                    <a:ext cx="7953480" cy="65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250920" y="21816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2. probando sólo con imp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==2: return True #2 es pr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%2==0: return False #otro par no es pr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=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 i&lt;x: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#i=3,5,…,x-1 (impa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%i==0: return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=i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3. probando hasta raíz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i hay divisor &gt; también hay &l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):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%2==0: return x==2 #2 es pr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 i&lt;=int(math.sqrt(x)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#i=3,5,…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%i==0: return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=i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Rectángulo"/>
          <p:cNvSpPr/>
          <p:nvPr/>
        </p:nvSpPr>
        <p:spPr>
          <a:xfrm>
            <a:off x="250920" y="189000"/>
            <a:ext cx="8569080" cy="64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ones recurs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def factorial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x==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 1 #caso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 x*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actorial(x-1)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#recu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def digitos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x&lt;10: retur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 1 +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digitos(x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potencia(x,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y==0: return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tencia(x,y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y%2==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p *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 * p * 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686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unciones Recurs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893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suma(x,y): x + (x+1) + … +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a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&gt;y: return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x +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a(x+1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suma(x,y): x + (x+1) + … +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a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&gt;y: return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a(x,y-1)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+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números de fibonacci: 0,1,1,2,3,5,8,13,21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i): #i-ésimo n° de fibonac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 i&lt;=2: return i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i-1)+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i-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C(x,y)=C(x-1,y)+C(x-1,y-1); C(x,x)=C(x,0)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x==y or y==0:  retur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-1,y) +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-1,y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324000" y="0"/>
            <a:ext cx="836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cedimientos (no devuelven resultado) recur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250920" y="765000"/>
            <a:ext cx="8893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de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misterio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=input(“nº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 n==0: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misterio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rin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¿Qué escribe misterio() con los sgtes da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457200" y="380880"/>
          <a:ext cx="8458200" cy="65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45820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%: operador de resto de di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179280" y="1125360"/>
            <a:ext cx="8964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invertir entero de 3 díg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=input(“Nº 3 dígitos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1=n/100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3=n%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2=n%100/10 #d2=n/10%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“inverso=”,100*d3+10*d2+d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cajero auto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=input(“¿Cuánto dinero necesita?”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d/20000,”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 $20.000”; d=d%2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d/10000,”de $10.000”; d=d%1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d/5000,”de $5.000”); d=d%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d/2000,”de $2.000”); d=d%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d/1000,”de $1.000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unciones predefin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4"/>
          <p:cNvGraphicFramePr/>
          <p:nvPr/>
        </p:nvGraphicFramePr>
        <p:xfrm>
          <a:off x="185760" y="762120"/>
          <a:ext cx="8713800" cy="639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60" y="762120"/>
                    <a:ext cx="8713800" cy="63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unciones definidas por el progra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6756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#convertir fecha ddmmaaaa a la forma aaaamm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aaaammdd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d=x/1000000; mm=x/10000%100; aaaa=x%1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aaaa*10000 + mm*100 + 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#convertir fecha aaaammdd a la forma ddmmaa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ddmmaaaa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d=x%100; mm=x%10000/100; aaaa=x/1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dd*1000000 + mm*10000 + aa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#seleccionar mayor entre dos fec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1=input(“fecha1(ddmmaaaa)?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2=input(“fecha2(ddmmaaaa)?”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“mayor=“,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ddmmaaaa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max(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aaaammdd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f1),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aaaammdd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f2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4"/>
          <p:cNvGraphicFramePr/>
          <p:nvPr/>
        </p:nvGraphicFramePr>
        <p:xfrm>
          <a:off x="438120" y="276120"/>
          <a:ext cx="7686720" cy="687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276120"/>
                    <a:ext cx="768672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539640" y="260280"/>
            <a:ext cx="82296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strucción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24000" y="549360"/>
            <a:ext cx="8640720" cy="52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resolver ecuación axx+bx+c=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=input(“a?”); b=input(“b?”); c=input(“c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resultado:”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a==0 and b==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indefini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a==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”x=“,-c/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=b**2-4*a*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d==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x=“,-b/(2*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d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aiz=math.sqrt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x=“,(-b+raiz)/(2*a),(-b-raiz)/(2*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raices complej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5 Rectángulo"/>
          <p:cNvSpPr/>
          <p:nvPr/>
        </p:nvSpPr>
        <p:spPr>
          <a:xfrm>
            <a:off x="179280" y="260280"/>
            <a:ext cx="8964720" cy="65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asM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m,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m==1 or m==3 or m==5 or m==7 \#contin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r m==8 or m==10 or m==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m==4 or m==6 or m==9 or m==1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m==2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bisiesto(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0 #mes in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ones de tipo 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4000" y="83628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isiest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 x%400==0:   #si es divisible por 40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True  #  es bisi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if x%100==0: #si es divisible por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False #  no es bisi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if x%4==0:   #si es divisible por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True  #  es bisi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:          #s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False #  no es bisi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isiest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%400==0 or x%100!=0 and x%4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isiest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%4==0 and x%100!=0 or x%40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3:16:51Z</dcterms:created>
  <dc:creator> iara</dc:creator>
  <dc:description/>
  <dc:language>en-US</dc:language>
  <cp:lastModifiedBy>jalvarez</cp:lastModifiedBy>
  <cp:lastPrinted>2006-04-25T18:59:03Z</cp:lastPrinted>
  <dcterms:modified xsi:type="dcterms:W3CDTF">2012-03-29T12:19:24Z</dcterms:modified>
  <cp:revision>207</cp:revision>
  <dc:subject/>
  <dc:title>Diapositiva 1</dc:title>
</cp:coreProperties>
</file>