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18C7-5B69-47B4-AD77-5F06C548EF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A063-F05D-4B65-B60F-0A8C2E37728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241E-9251-4603-A8B5-70999B9B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FAB-AD9F-4F2E-8701-B092EEEF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D032-A19A-4860-B7F0-1363E666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F80-CDC9-407B-84F6-A9366CFC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E47-710C-4E2F-97BA-E9AC73F0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232-B326-4C43-90B9-2EBFC358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CA11-3CB0-4AFC-9667-EEE9E260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1C4-0574-458C-BCD9-66DE96DD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EBED-0D0C-485D-A90D-50B133E2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B6C-C67E-4D88-A9E6-D9DFFBAA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2D1-37A8-40BD-8059-7A55B6C5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28D1-582A-49C2-A9E8-7F901718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E06B-FD90-42B4-BBF3-DAE92D9AC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90440" y="600120"/>
          <a:ext cx="71884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600120"/>
                    <a:ext cx="71884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365040" y="549360"/>
          <a:ext cx="8575920" cy="67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549360"/>
                    <a:ext cx="8575920" cy="67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914400" y="619200"/>
          <a:ext cx="730584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19200"/>
                    <a:ext cx="730584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3"/>
          <p:cNvGraphicFramePr/>
          <p:nvPr/>
        </p:nvGraphicFramePr>
        <p:xfrm>
          <a:off x="334800" y="216000"/>
          <a:ext cx="849492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216000"/>
                    <a:ext cx="849492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233280" y="457200"/>
          <a:ext cx="866628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57200"/>
                    <a:ext cx="866628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98600" y="650880"/>
          <a:ext cx="8086680" cy="646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650880"/>
                    <a:ext cx="808668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8200" y="477720"/>
          <a:ext cx="8342280" cy="710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77720"/>
                    <a:ext cx="8342280" cy="71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5"/>
          <p:cNvGraphicFramePr/>
          <p:nvPr/>
        </p:nvGraphicFramePr>
        <p:xfrm>
          <a:off x="528480" y="365040"/>
          <a:ext cx="8137800" cy="750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365040"/>
                    <a:ext cx="8137800" cy="750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15800" y="263520"/>
          <a:ext cx="8169480" cy="70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263520"/>
                    <a:ext cx="8169480" cy="70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suma(x,y)#x + (x+1) + … +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permutaciones(x,y) #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combinaciones(x,y) #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fibonacci(i)#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inverso(x)#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30280" y="128520"/>
          <a:ext cx="79246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28520"/>
                    <a:ext cx="79246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53880" y="353880"/>
          <a:ext cx="7934400" cy="577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353880"/>
                    <a:ext cx="793440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042920" y="776160"/>
          <a:ext cx="7423200" cy="586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76160"/>
                    <a:ext cx="742320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162000" y="233280"/>
          <a:ext cx="8229600" cy="740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233280"/>
                    <a:ext cx="8229600" cy="740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62120" y="477720"/>
          <a:ext cx="8047080" cy="61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77720"/>
                    <a:ext cx="804708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762120" y="477720"/>
          <a:ext cx="7823160" cy="627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77720"/>
                    <a:ext cx="7823160" cy="62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233280" y="457200"/>
          <a:ext cx="855504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57200"/>
                    <a:ext cx="85550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12-03-28T17:43:55Z</dcterms:modified>
  <cp:revision>74</cp:revision>
  <dc:subject/>
  <dc:title>Sin título de diapositiva</dc:title>
</cp:coreProperties>
</file>