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A5E-4EF9-48A5-9C53-A7FB780264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CAEC-CCBB-44DD-A0EF-3A0D8E601B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6C0-562E-4090-8267-47664FF3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11E-1A3B-464F-972C-F1BD8078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3CC-52C2-41D9-AD1D-F95FBE9C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123-C410-44C3-8AC3-67FB1A8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56F-6486-46CB-80F5-0025F98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94C-FBF3-454E-AC0A-B5E08AF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55E-FD00-4A9F-A53A-4115E0B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6C7-B674-41D3-8643-3EFA86A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C86-9D8F-4E8E-ADC4-F40C60B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059-0F83-4255-A4E6-C585319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11E-CA93-434A-9A6F-196E87A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CE4-C989-4519-8E20-EDF05F7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CBF6-CFF5-491A-A655-F469B527D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1884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1884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365040" y="549360"/>
          <a:ext cx="8575920" cy="67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549360"/>
                    <a:ext cx="857592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334800" y="216000"/>
          <a:ext cx="84949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16000"/>
                    <a:ext cx="84949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3280" y="457200"/>
          <a:ext cx="866628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66628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8600" y="650880"/>
          <a:ext cx="808668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650880"/>
                    <a:ext cx="808668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77720"/>
          <a:ext cx="8342280" cy="71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77720"/>
                    <a:ext cx="8342280" cy="71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28480" y="365040"/>
          <a:ext cx="8137800" cy="75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65040"/>
                    <a:ext cx="8137800" cy="75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15800" y="263520"/>
          <a:ext cx="8169480" cy="70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3520"/>
                    <a:ext cx="816948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0280" y="128520"/>
          <a:ext cx="79246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8520"/>
                    <a:ext cx="79246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53880" y="353880"/>
          <a:ext cx="79344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53880"/>
                    <a:ext cx="7934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62000" y="233280"/>
          <a:ext cx="8229600" cy="74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233280"/>
                    <a:ext cx="8229600" cy="74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62120" y="477720"/>
          <a:ext cx="804708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804708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62120" y="477720"/>
          <a:ext cx="7823160" cy="62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782316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233280" y="457200"/>
          <a:ext cx="855504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5550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2-03-28T17:43:55Z</dcterms:modified>
  <cp:revision>74</cp:revision>
  <dc:subject/>
  <dc:title>Sin título de diapositiva</dc:title>
</cp:coreProperties>
</file>