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0E48-215F-4C25-88BE-055CBCA717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A63D-35A8-4184-92A8-1A3F898AB1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7D1-57B4-4257-A892-EABD484F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585-01AC-4E35-BAC8-79A5261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1CA-E887-41E5-BFCA-39326315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3BB-6427-400D-AC00-1655CCE0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2DB-D32B-4A98-A015-07FE1600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A9B-C80C-4900-9FA9-9AFB71BA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273-E157-4120-BF6B-1B27C00A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21A-289F-4D51-AC63-53BA067E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485-7781-4066-93AF-A8730E69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1F2-0C13-4413-971A-C469F5E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AA3-0035-4722-AC49-7CFFD1F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315-4B3A-48FF-8BA5-12F1FB04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CD3-FA85-4652-9CE8-80A211A7A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1884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1884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365040" y="549360"/>
          <a:ext cx="8575920" cy="67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549360"/>
                    <a:ext cx="857592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334800" y="216000"/>
          <a:ext cx="84949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216000"/>
                    <a:ext cx="84949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3280" y="457200"/>
          <a:ext cx="866628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66628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8600" y="650880"/>
          <a:ext cx="808668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650880"/>
                    <a:ext cx="808668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77720"/>
          <a:ext cx="8342280" cy="710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77720"/>
                    <a:ext cx="8342280" cy="71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28480" y="365040"/>
          <a:ext cx="8137800" cy="75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365040"/>
                    <a:ext cx="8137800" cy="75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15800" y="263520"/>
          <a:ext cx="8169480" cy="70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63520"/>
                    <a:ext cx="816948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0280" y="128520"/>
          <a:ext cx="79246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28520"/>
                    <a:ext cx="79246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53880" y="353880"/>
          <a:ext cx="79344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353880"/>
                    <a:ext cx="79344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62000" y="233280"/>
          <a:ext cx="8229600" cy="74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233280"/>
                    <a:ext cx="8229600" cy="74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62120" y="477720"/>
          <a:ext cx="804708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804708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62120" y="477720"/>
          <a:ext cx="7823160" cy="627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7720"/>
                    <a:ext cx="782316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233280" y="457200"/>
          <a:ext cx="855504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57200"/>
                    <a:ext cx="85550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12-03-28T17:43:55Z</dcterms:modified>
  <cp:revision>74</cp:revision>
  <dc:subject/>
  <dc:title>Sin título de diapositiva</dc:title>
</cp:coreProperties>
</file>