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BCA0-428D-45FE-9CAF-AF6274BB8C3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9663-647D-4D92-9830-EB2D3333E24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7C5-F853-48B4-B4EC-563C3338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7E51-6408-4DE8-8F80-5C65B58C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B26-131F-4E14-B862-B01ECD00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082-7903-4594-892D-CD8D9CFD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10C6-8858-484B-88A9-09A89EDC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BEA1-AD86-495A-94E9-012F2FBD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A9C-E068-4BB6-B043-C94D30C5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9931-0C7D-435C-9166-C11DC598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0B2-5328-4D18-97EB-EF23BFE5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3631-F560-45FA-8C92-85DC5C49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F3E-BEBF-47CA-8A7A-1987D1C9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63C-1F66-45B0-9998-5CC6D1AA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6251-0294-495A-8A4E-CCC0CA9FB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90440" y="600120"/>
          <a:ext cx="71884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600120"/>
                    <a:ext cx="71884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365040" y="549360"/>
          <a:ext cx="8575920" cy="67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549360"/>
                    <a:ext cx="8575920" cy="67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914400" y="619200"/>
          <a:ext cx="730584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19200"/>
                    <a:ext cx="730584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3"/>
          <p:cNvGraphicFramePr/>
          <p:nvPr/>
        </p:nvGraphicFramePr>
        <p:xfrm>
          <a:off x="334800" y="216000"/>
          <a:ext cx="849492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216000"/>
                    <a:ext cx="849492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233280" y="457200"/>
          <a:ext cx="8666280" cy="58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57200"/>
                    <a:ext cx="866628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98600" y="650880"/>
          <a:ext cx="8086680" cy="646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650880"/>
                    <a:ext cx="808668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8200" y="477720"/>
          <a:ext cx="8342280" cy="710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77720"/>
                    <a:ext cx="8342280" cy="71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5"/>
          <p:cNvGraphicFramePr/>
          <p:nvPr/>
        </p:nvGraphicFramePr>
        <p:xfrm>
          <a:off x="528480" y="365040"/>
          <a:ext cx="8137800" cy="750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365040"/>
                    <a:ext cx="8137800" cy="750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15800" y="263520"/>
          <a:ext cx="8169480" cy="70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263520"/>
                    <a:ext cx="8169480" cy="70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suma(x,y)#x + (x+1) + … +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permutaciones(x,y) #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combinaciones(x,y) #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fibonacci(i)#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inverso(x)#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530280" y="128520"/>
          <a:ext cx="79246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28520"/>
                    <a:ext cx="79246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53880" y="353880"/>
          <a:ext cx="7934400" cy="577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353880"/>
                    <a:ext cx="793440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042920" y="776160"/>
          <a:ext cx="7423200" cy="586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76160"/>
                    <a:ext cx="742320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162000" y="233280"/>
          <a:ext cx="8229600" cy="740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233280"/>
                    <a:ext cx="8229600" cy="740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62120" y="477720"/>
          <a:ext cx="8047080" cy="61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77720"/>
                    <a:ext cx="804708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762120" y="477720"/>
          <a:ext cx="7823160" cy="627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77720"/>
                    <a:ext cx="7823160" cy="62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233280" y="457200"/>
          <a:ext cx="855504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57200"/>
                    <a:ext cx="85550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6-03-22T18:37:38Z</cp:lastPrinted>
  <dcterms:modified xsi:type="dcterms:W3CDTF">2012-03-28T17:43:55Z</dcterms:modified>
  <cp:revision>74</cp:revision>
  <dc:subject/>
  <dc:title>Sin título de diapositiva</dc:title>
</cp:coreProperties>
</file>