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D054F6-5721-4905-9777-B03D5C3AC0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953BCC-CF20-4B54-87F8-2DB5E28C63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14D2D8C-7C2B-4F9D-BADC-6A284FDC5A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7F925D-BDA8-407C-8834-B6FE2A35B8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28A-D080-4E42-A39A-04409624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3DAD-39F2-4A54-9549-0D33BF2C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C26-98BA-41CE-B1AD-2EF2E246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4A3-75D3-4E15-AE1D-AC70640F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3C87-935D-4443-A3A4-BDC27EF9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4D6-EDA2-4AE4-8AF9-70F3D743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15B-1A2E-4772-9F35-679E0E83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DC9-A614-491D-A9A5-B70906E3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7E7-1C83-4DD5-9F19-5819177F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48A-0999-4B2E-9496-EC9BAB10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C47-40C9-439F-88F8-2530996B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B0B-1B76-40BD-B62F-A5E312EA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5996-1E17-450A-8A62-93C58F0D5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38360" y="554040"/>
          <a:ext cx="811044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554040"/>
                    <a:ext cx="811044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79280" y="806400"/>
          <a:ext cx="8785440" cy="5430960"/>
        </p:xfrm>
        <a:graphic>
          <a:graphicData uri="http://schemas.openxmlformats.org/drawingml/2006/table">
            <a:tbl>
              <a:tblPr/>
              <a:tblGrid>
                <a:gridCol w="820800"/>
                <a:gridCol w="3756240"/>
                <a:gridCol w="420840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!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70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4"/>
          <p:cNvGraphicFramePr/>
          <p:nvPr/>
        </p:nvGraphicFramePr>
        <p:xfrm>
          <a:off x="393840" y="255600"/>
          <a:ext cx="8199360" cy="73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255600"/>
                    <a:ext cx="8199360" cy="73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79440" y="295200"/>
          <a:ext cx="8524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24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&lt;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2-03-22T16:33:03Z</dcterms:modified>
  <cp:revision>68</cp:revision>
  <dc:subject/>
  <dc:title>Sin título de diapositiva</dc:title>
</cp:coreProperties>
</file>