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399D4A-872C-47E2-A38E-56CAC02A8B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E2F250-F20D-4D3D-A791-43FC56AC0E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A06D608-FB07-46FA-AF01-1CA2B3E21C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557BA3-D6D4-4D60-BB26-15E3232244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DB5-22A8-4DFC-B22A-BF1165DB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C8E-A779-49B3-B49D-25ECA73A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F75-E377-4977-9012-C1DBB2E1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CA1-0230-4012-B59B-2872713A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FAF-FD80-41DA-AF6F-C5865847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720-5F45-4D83-9032-77BFB3F3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EA5-F84E-486A-AA28-D6BEED48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88D-3F63-4082-BDC4-FA091901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A3C-A76C-4058-B943-76DA8239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C90-B0DD-496D-9002-5052B2EC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C55-3710-411E-9F0F-C044B9CF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8F2-3578-41BA-8BFB-A4B48635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B6D5-0EA7-4AA6-95FA-4E4CD736C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3840" y="255600"/>
          <a:ext cx="8199360" cy="73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99360" cy="73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2-03-22T16:33:03Z</dcterms:modified>
  <cp:revision>68</cp:revision>
  <dc:subject/>
  <dc:title>Sin título de diapositiva</dc:title>
</cp:coreProperties>
</file>