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F4B804-0228-4C23-9DC1-86E22FFD7B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1D04AD-5C1C-4DE9-8228-06E986376E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78DC28-DA9B-4293-A13D-92A499C74D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A56700-8587-4AB3-8008-E71253B3AF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74E-6F2C-4068-AFCF-D70163B3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89A-A2B8-423E-95EC-987DC259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E16-C9ED-4314-91F9-BE799037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4E4-06AD-42EB-B9E6-FA1B7A71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EF6-31A8-4762-9E10-6514A7E5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E70-0771-4986-BFD8-29E023BE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F6C-3C65-476C-AB6D-32154D49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5F2-9D39-4991-8AEA-9185C8D7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690-89D8-48EC-B80F-5CEC1B8F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135-0012-4FB1-AB9F-49C2D106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6B8-E47E-46D6-9CBF-8E9387E5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5CA-21C6-4D7B-B70A-0AF9DEEF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B71B-2775-487F-BF74-890C41BB8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3840" y="255600"/>
          <a:ext cx="8199360" cy="73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99360" cy="73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2-03-22T16:33:03Z</dcterms:modified>
  <cp:revision>68</cp:revision>
  <dc:subject/>
  <dc:title>Sin título de diapositiva</dc:title>
</cp:coreProperties>
</file>