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3: instrucción i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1E5FC-3410-4DFF-BF53-1669C9ACF136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2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3: instrucción i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3487A-7BB2-4485-BC9C-BA1E5C02C592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2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3: instrucción i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6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A86C3-4FA3-4043-BFE4-D4A94C9AC657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0A966-09E3-4235-85E0-3E88B6DF1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79DEE-C45A-4C49-8DC6-569832568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8EF48-ACDB-4729-90AF-263D5FC4F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AD064-DD1A-406D-A5EA-98265FC28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C8E88-9256-4B50-9011-60304D95D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CABEE-BDC1-45AC-A0AC-A57254F41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17593-621E-4E37-9859-A1F9E768C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C9409-30A1-4C45-B419-744DDFFE4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B2B95-BB01-493E-ABED-DC57ADD59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BAEE8-8D64-490B-AAEA-F4F13FEFA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4F353-F827-4054-ADEC-31A7BCBC4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A101F-88CE-4046-BCC9-7E343A239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C6685-CDFA-4B4D-B69E-CE6BAA0BA1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"/>
          <p:cNvSpPr/>
          <p:nvPr/>
        </p:nvSpPr>
        <p:spPr>
          <a:xfrm>
            <a:off x="179280" y="27000"/>
            <a:ext cx="8785440" cy="628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Problema: ordenar 3 números generados al az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mport rand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za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x,y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random.randint(x,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a=azar(1,100);b=azar(1,100);c=azar(1,100)#;separa ins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print "Numeros=",min(a,b,c),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medio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(a,b,c),max(a,b,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¿def medio(x,y,z):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Solución 1: restar menor y mayor de la suma de los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x+y+z-max(x,y,z)-min(x,y,z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Solución 2: menor de los ganadores de los 3 “partido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min(max(x,y),max(x,z),max(y,z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Solución 3: mayor de los perdedores de los 3 “partido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max(min(x,y),min(x,z),min(y,z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Times New Roman"/>
              </a:rPr>
              <a:t>Solución 4: ordenar los 2 primeros y comparar 3º con menor y mayor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menor=min(x,y);mayor=max(x,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min(max(menor,z),mayo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Object 4"/>
          <p:cNvGraphicFramePr/>
          <p:nvPr/>
        </p:nvGraphicFramePr>
        <p:xfrm>
          <a:off x="433440" y="277920"/>
          <a:ext cx="7786800" cy="6345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3440" y="277920"/>
                    <a:ext cx="7786800" cy="634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Line 5"/>
          <p:cNvSpPr/>
          <p:nvPr/>
        </p:nvSpPr>
        <p:spPr>
          <a:xfrm>
            <a:off x="6300720" y="1341360"/>
            <a:ext cx="0" cy="2232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Line 6"/>
          <p:cNvSpPr/>
          <p:nvPr/>
        </p:nvSpPr>
        <p:spPr>
          <a:xfrm flipH="1">
            <a:off x="3708000" y="3500280"/>
            <a:ext cx="2592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Object 2"/>
          <p:cNvGraphicFramePr/>
          <p:nvPr/>
        </p:nvGraphicFramePr>
        <p:xfrm>
          <a:off x="425520" y="341280"/>
          <a:ext cx="8136000" cy="6891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5520" y="341280"/>
                    <a:ext cx="8136000" cy="689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Object 2"/>
          <p:cNvGraphicFramePr/>
          <p:nvPr/>
        </p:nvGraphicFramePr>
        <p:xfrm>
          <a:off x="384120" y="128520"/>
          <a:ext cx="7904160" cy="6645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4120" y="128520"/>
                    <a:ext cx="7904160" cy="664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Object 4"/>
          <p:cNvGraphicFramePr/>
          <p:nvPr/>
        </p:nvGraphicFramePr>
        <p:xfrm>
          <a:off x="255600" y="471600"/>
          <a:ext cx="8416800" cy="5319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5600" y="471600"/>
                    <a:ext cx="8416800" cy="531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Object 4"/>
          <p:cNvGraphicFramePr/>
          <p:nvPr/>
        </p:nvGraphicFramePr>
        <p:xfrm>
          <a:off x="225360" y="236520"/>
          <a:ext cx="8761320" cy="6499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5360" y="236520"/>
                    <a:ext cx="8761320" cy="649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Object 4"/>
          <p:cNvGraphicFramePr/>
          <p:nvPr/>
        </p:nvGraphicFramePr>
        <p:xfrm>
          <a:off x="166680" y="471600"/>
          <a:ext cx="8829720" cy="6381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6680" y="471600"/>
                    <a:ext cx="8829720" cy="638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Object 4"/>
          <p:cNvGraphicFramePr/>
          <p:nvPr/>
        </p:nvGraphicFramePr>
        <p:xfrm>
          <a:off x="187200" y="196920"/>
          <a:ext cx="8858520" cy="6646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7200" y="196920"/>
                    <a:ext cx="8858520" cy="664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Object 2"/>
          <p:cNvGraphicFramePr/>
          <p:nvPr/>
        </p:nvGraphicFramePr>
        <p:xfrm>
          <a:off x="905040" y="701640"/>
          <a:ext cx="7518240" cy="6983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5040" y="701640"/>
                    <a:ext cx="7518240" cy="698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" name="Object 2"/>
          <p:cNvGraphicFramePr/>
          <p:nvPr/>
        </p:nvGraphicFramePr>
        <p:xfrm>
          <a:off x="609480" y="476280"/>
          <a:ext cx="8350200" cy="7818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476280"/>
                    <a:ext cx="8350200" cy="781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Object 4"/>
          <p:cNvGraphicFramePr/>
          <p:nvPr/>
        </p:nvGraphicFramePr>
        <p:xfrm>
          <a:off x="212760" y="471600"/>
          <a:ext cx="8793000" cy="6603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760" y="471600"/>
                    <a:ext cx="8793000" cy="660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Object 4"/>
          <p:cNvGraphicFramePr/>
          <p:nvPr/>
        </p:nvGraphicFramePr>
        <p:xfrm>
          <a:off x="689040" y="117360"/>
          <a:ext cx="7707240" cy="7080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9040" y="117360"/>
                    <a:ext cx="7707240" cy="708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5"/>
          <p:cNvSpPr/>
          <p:nvPr/>
        </p:nvSpPr>
        <p:spPr>
          <a:xfrm>
            <a:off x="250920" y="328680"/>
            <a:ext cx="8424720" cy="532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Solución 3 (más natur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yor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x,y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f x &gt; y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l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¿Significad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x es mayor que y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onc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ntregar el valor de x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 n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es decir si es x menor o igual que y, devolver el valor de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Object 4"/>
          <p:cNvGraphicFramePr/>
          <p:nvPr/>
        </p:nvGraphicFramePr>
        <p:xfrm>
          <a:off x="831960" y="498600"/>
          <a:ext cx="7692840" cy="6114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1960" y="498600"/>
                    <a:ext cx="7692840" cy="611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Object 4"/>
          <p:cNvGraphicFramePr/>
          <p:nvPr/>
        </p:nvGraphicFramePr>
        <p:xfrm>
          <a:off x="684360" y="720720"/>
          <a:ext cx="7961040" cy="6732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720720"/>
                    <a:ext cx="7961040" cy="673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Object 2"/>
          <p:cNvGraphicFramePr/>
          <p:nvPr/>
        </p:nvGraphicFramePr>
        <p:xfrm>
          <a:off x="914400" y="517680"/>
          <a:ext cx="7194600" cy="5614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517680"/>
                    <a:ext cx="7194600" cy="561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Object 2"/>
          <p:cNvGraphicFramePr/>
          <p:nvPr/>
        </p:nvGraphicFramePr>
        <p:xfrm>
          <a:off x="969840" y="619200"/>
          <a:ext cx="7915320" cy="5827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69840" y="619200"/>
                    <a:ext cx="7915320" cy="582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Object 2"/>
          <p:cNvGraphicFramePr/>
          <p:nvPr/>
        </p:nvGraphicFramePr>
        <p:xfrm>
          <a:off x="720720" y="528480"/>
          <a:ext cx="8067600" cy="5811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0720" y="528480"/>
                    <a:ext cx="8067600" cy="58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0T12:18:01Z</dcterms:created>
  <dc:creator>jalvarez</dc:creator>
  <dc:description/>
  <dc:language>en-US</dc:language>
  <cp:lastModifiedBy>jalvarez</cp:lastModifiedBy>
  <cp:lastPrinted>2006-03-17T17:08:51Z</cp:lastPrinted>
  <dcterms:modified xsi:type="dcterms:W3CDTF">2012-03-20T16:52:19Z</dcterms:modified>
  <cp:revision>76</cp:revision>
  <dc:subject/>
  <dc:title>Sin título de diapositiva</dc:title>
</cp:coreProperties>
</file>