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6A6A-9202-4DE5-B716-E9F494A3F72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1460-F479-4C64-B30B-AC0BA0B0585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C710-B810-4E48-91B8-54BDC538BAC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0D76-A235-4A8D-B8AA-6B3005E9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946-A444-4802-82DD-9774C335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D9A-4A70-4843-9F32-06B45846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FA5-D878-43EC-96B0-0B358C28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B4E-67E5-48E9-8B96-F98CAE96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6FD-6EF1-4CDE-88CF-28806AB8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E22-A3B3-4051-B8EA-4332D6AA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D95A-13FC-4970-B3D9-9AF7AAA2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68E-DCE1-4504-834D-75EBEEE1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294-0717-4BBC-A992-037FC9CF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4DB-D1F9-482B-90A5-82FA8A3F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0750-98A1-4A26-9ACA-E67E3F1B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C0D4-3FFF-4A18-9168-E730B1D61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5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384120" y="128520"/>
          <a:ext cx="7904160" cy="66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28520"/>
                    <a:ext cx="7904160" cy="66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255600" y="471600"/>
          <a:ext cx="8416800" cy="53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471600"/>
                    <a:ext cx="841680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225360" y="236520"/>
          <a:ext cx="876132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236520"/>
                    <a:ext cx="876132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166680" y="471600"/>
          <a:ext cx="8829720" cy="638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471600"/>
                    <a:ext cx="88297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187200" y="196920"/>
          <a:ext cx="8858520" cy="664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196920"/>
                    <a:ext cx="8858520" cy="66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689040" y="117360"/>
          <a:ext cx="7707240" cy="708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17360"/>
                    <a:ext cx="7707240" cy="708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720720" y="528480"/>
          <a:ext cx="806760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8480"/>
                    <a:ext cx="806760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2-03-20T16:52:19Z</dcterms:modified>
  <cp:revision>76</cp:revision>
  <dc:subject/>
  <dc:title>Sin título de diapositiva</dc:title>
</cp:coreProperties>
</file>