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48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lase 2: Funci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1280" y="-360"/>
            <a:ext cx="29448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29880" y="738360"/>
            <a:ext cx="4938840" cy="370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0760" y="4689360"/>
            <a:ext cx="5435640" cy="444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378720"/>
            <a:ext cx="29448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1280" y="9378720"/>
            <a:ext cx="29448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4896B-2E3D-4630-A855-21ACA4844CA6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2"/>
          <p:cNvSpPr/>
          <p:nvPr/>
        </p:nvSpPr>
        <p:spPr>
          <a:xfrm>
            <a:off x="0" y="0"/>
            <a:ext cx="2944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lase 2: Funci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6"/>
          <p:cNvSpPr/>
          <p:nvPr/>
        </p:nvSpPr>
        <p:spPr>
          <a:xfrm>
            <a:off x="0" y="9379080"/>
            <a:ext cx="2944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7"/>
          <p:cNvSpPr/>
          <p:nvPr/>
        </p:nvSpPr>
        <p:spPr>
          <a:xfrm>
            <a:off x="3851280" y="9379080"/>
            <a:ext cx="2944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92DF7-ED75-4B2E-AF62-CF2279E7B995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930240" y="738360"/>
            <a:ext cx="4938840" cy="370512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0760" y="4689360"/>
            <a:ext cx="543564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2"/>
          <p:cNvSpPr/>
          <p:nvPr/>
        </p:nvSpPr>
        <p:spPr>
          <a:xfrm>
            <a:off x="0" y="0"/>
            <a:ext cx="2944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lase 2: Funci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6"/>
          <p:cNvSpPr/>
          <p:nvPr/>
        </p:nvSpPr>
        <p:spPr>
          <a:xfrm>
            <a:off x="0" y="9379080"/>
            <a:ext cx="2944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7"/>
          <p:cNvSpPr/>
          <p:nvPr/>
        </p:nvSpPr>
        <p:spPr>
          <a:xfrm>
            <a:off x="3851280" y="9379080"/>
            <a:ext cx="2944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DE74C-1620-4457-9EDC-9E6A89733189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930240" y="738360"/>
            <a:ext cx="4938840" cy="370512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0760" y="4689360"/>
            <a:ext cx="543564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2"/>
          <p:cNvSpPr/>
          <p:nvPr/>
        </p:nvSpPr>
        <p:spPr>
          <a:xfrm>
            <a:off x="0" y="0"/>
            <a:ext cx="2944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lase 2: Funci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6"/>
          <p:cNvSpPr/>
          <p:nvPr/>
        </p:nvSpPr>
        <p:spPr>
          <a:xfrm>
            <a:off x="0" y="9379080"/>
            <a:ext cx="2944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7"/>
          <p:cNvSpPr/>
          <p:nvPr/>
        </p:nvSpPr>
        <p:spPr>
          <a:xfrm>
            <a:off x="3851280" y="9379080"/>
            <a:ext cx="2944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05164-BABF-457D-91E0-F37506FD78AB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930240" y="738360"/>
            <a:ext cx="4938840" cy="370512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0760" y="4689360"/>
            <a:ext cx="543564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AB14D-6BAC-4C7E-9EEB-DC1141DB3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7E328-266B-4E33-A018-FFC61E1A5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545F6-5452-4DA9-BE54-BDE84EE56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82ED2-7A21-46FA-989F-604B1BFAD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ACB5D-C9E5-4EDD-AE6B-9B1CF0439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B10FA-B23B-4833-93BB-EC2D3CE79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4DECA-F975-4D15-9DE1-8B211EBEA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CF7DC-9B73-429B-A7DB-9B7775E47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3FE06-B5C8-4DFF-9FA0-71AE0884A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1109F-8A17-4B4E-9EDA-1ADCF17F9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5F7F0-5653-444F-9BFE-E0FB9AFB1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0E88A-C160-4C39-8165-80F443B6F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B9A9F-79E4-4117-B00A-637760090A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5"/>
          <p:cNvSpPr/>
          <p:nvPr/>
        </p:nvSpPr>
        <p:spPr>
          <a:xfrm>
            <a:off x="179280" y="333360"/>
            <a:ext cx="8964720" cy="51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ciones de ejercicios 1 y 2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print “Calcular área y perímetro de círculo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=input(“radio?“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 “área =“, 3.14*r**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 “perímetro =”, 2*3.14*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 ”ingresar nº alumnos de colegios: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=input(“públicos?”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=input(“subvencionados?”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=input(“particulares?”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actor=100.0/(a+b+c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 “públicos =“, a*factor, ”%“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 “subvencionados =“, b*factor, ”%“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 “particulares =“, c*factor, ”%“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Object 4"/>
          <p:cNvGraphicFramePr/>
          <p:nvPr/>
        </p:nvGraphicFramePr>
        <p:xfrm>
          <a:off x="318960" y="406440"/>
          <a:ext cx="9056880" cy="4746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8960" y="406440"/>
                    <a:ext cx="9056880" cy="474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Object 4"/>
          <p:cNvGraphicFramePr/>
          <p:nvPr/>
        </p:nvGraphicFramePr>
        <p:xfrm>
          <a:off x="623880" y="550800"/>
          <a:ext cx="8505720" cy="5603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3880" y="550800"/>
                    <a:ext cx="8505720" cy="560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Object 4"/>
          <p:cNvGraphicFramePr/>
          <p:nvPr/>
        </p:nvGraphicFramePr>
        <p:xfrm>
          <a:off x="420840" y="507960"/>
          <a:ext cx="8418240" cy="5892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0840" y="507960"/>
                    <a:ext cx="8418240" cy="589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Ejercici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50560" y="691920"/>
            <a:ext cx="889308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scribir una función que reciba el radio y entregue el perímetro de un círcu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scribir una función que reciba el radio y entregue el área de un círcu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scribir un programa que obtenga el lado de un cuadrado y use las funciones anteriores para calcular el área y el perímetro del siguiente anill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ado del cuadrado?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4294406880" tIns="36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" name="Group 4"/>
          <p:cNvGrpSpPr/>
          <p:nvPr/>
        </p:nvGrpSpPr>
        <p:grpSpPr>
          <a:xfrm>
            <a:off x="1187280" y="3213000"/>
            <a:ext cx="5372280" cy="2400480"/>
            <a:chOff x="1187280" y="3213000"/>
            <a:chExt cx="5372280" cy="2400480"/>
          </a:xfrm>
        </p:grpSpPr>
        <p:sp>
          <p:nvSpPr>
            <p:cNvPr id="75" name="AutoShape 8"/>
            <p:cNvSpPr/>
            <p:nvPr/>
          </p:nvSpPr>
          <p:spPr>
            <a:xfrm>
              <a:off x="1187280" y="3213000"/>
              <a:ext cx="5372280" cy="240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Oval 7"/>
            <p:cNvSpPr/>
            <p:nvPr/>
          </p:nvSpPr>
          <p:spPr>
            <a:xfrm>
              <a:off x="2901960" y="3441600"/>
              <a:ext cx="1942920" cy="1828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Rectangle 6"/>
            <p:cNvSpPr/>
            <p:nvPr/>
          </p:nvSpPr>
          <p:spPr>
            <a:xfrm>
              <a:off x="3244320" y="3670200"/>
              <a:ext cx="1257840" cy="1371960"/>
            </a:xfrm>
            <a:prstGeom prst="rect">
              <a:avLst/>
            </a:prstGeom>
            <a:solidFill>
              <a:srgbClr val="ffffff"/>
            </a:solidFill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Oval 5"/>
            <p:cNvSpPr/>
            <p:nvPr/>
          </p:nvSpPr>
          <p:spPr>
            <a:xfrm>
              <a:off x="3244320" y="3670200"/>
              <a:ext cx="1257840" cy="1371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" name="Rectangle 10"/>
          <p:cNvSpPr/>
          <p:nvPr/>
        </p:nvSpPr>
        <p:spPr>
          <a:xfrm>
            <a:off x="685800" y="24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Object 4"/>
          <p:cNvGraphicFramePr/>
          <p:nvPr/>
        </p:nvGraphicFramePr>
        <p:xfrm>
          <a:off x="318960" y="406440"/>
          <a:ext cx="9014040" cy="5065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8960" y="406440"/>
                    <a:ext cx="9014040" cy="506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5"/>
          <p:cNvSpPr/>
          <p:nvPr/>
        </p:nvSpPr>
        <p:spPr>
          <a:xfrm>
            <a:off x="250920" y="188280"/>
            <a:ext cx="8475480" cy="588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#programa: calcula area y perimetro de anil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#obtener lado del cuadr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=input(“lado cuadrado?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#calcular valores de los rad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=a/2.0 #radio del círculo men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=math.sqrt(2)*a/2 #radio del círculo may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#calcular y mostrar result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 “área=“, area(R)-area(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 “perímetro=”, perimetro(R)+perimetro(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r del programa es distinta del parámetro r de las funciones (que “mueren” al terminar la función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r (con minúscula) es distinta de R (con mayúscul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5"/>
          <p:cNvSpPr/>
          <p:nvPr/>
        </p:nvSpPr>
        <p:spPr>
          <a:xfrm>
            <a:off x="684360" y="488520"/>
            <a:ext cx="8073720" cy="57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jercicios propues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Escribir un programa que invierta un número de 3 dígit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 acuerdo al diálogo indicado en el siguiente ejempl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úmero de 3 dígitos?1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úmero invertido=3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cribir un programa que simule un cajero automátic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 acuerdo al siguiente ejempl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¿Cuánto dinero necesita? 58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ire los siguientes billet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2 de $20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 de $10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 de $5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 de $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 de $1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5"/>
          <p:cNvSpPr/>
          <p:nvPr/>
        </p:nvSpPr>
        <p:spPr>
          <a:xfrm>
            <a:off x="684360" y="-122400"/>
            <a:ext cx="8143560" cy="69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cribir un programa que satisfaga el diálogo indicad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el siguiente ejempl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echa en la forma AAAAMMDD ? 200612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echa=31/12/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cribir un programa que sume dos fracciones siguiend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diálogo del sgte ejempl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uma de fracciones: a/b + c/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?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?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?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?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uma=10/8=1.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resultado debe expresarse como fracción y como número re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necesita simplificar el result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uebe su programa sumando varias frac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¿Qué sucede si alguno de los denominadores es cer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5"/>
          <p:cNvSpPr/>
          <p:nvPr/>
        </p:nvSpPr>
        <p:spPr>
          <a:xfrm>
            <a:off x="324000" y="502560"/>
            <a:ext cx="8820000" cy="49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escriba una función que reciba 3 númer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entregue el que tenga el valor del med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medio(x,y,z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 Use la función en un programa que genere 3 númer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 azar entre 1 y 100 y los escriba ordenados de menor a may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ordene 4 números generados al az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scriba una función que entregue el mayor entre 2 númer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 usar la función m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 usar max ni m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mayor(x,y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Object 4"/>
          <p:cNvGraphicFramePr/>
          <p:nvPr/>
        </p:nvGraphicFramePr>
        <p:xfrm>
          <a:off x="465120" y="479520"/>
          <a:ext cx="8286840" cy="6691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5120" y="479520"/>
                    <a:ext cx="8286840" cy="669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Object 4"/>
          <p:cNvGraphicFramePr/>
          <p:nvPr/>
        </p:nvGraphicFramePr>
        <p:xfrm>
          <a:off x="711360" y="739800"/>
          <a:ext cx="7924680" cy="5283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1360" y="739800"/>
                    <a:ext cx="7924680" cy="528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Object 2"/>
          <p:cNvGraphicFramePr/>
          <p:nvPr/>
        </p:nvGraphicFramePr>
        <p:xfrm>
          <a:off x="539640" y="620640"/>
          <a:ext cx="8404200" cy="5602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620640"/>
                    <a:ext cx="8404200" cy="560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Object 2"/>
          <p:cNvGraphicFramePr/>
          <p:nvPr/>
        </p:nvGraphicFramePr>
        <p:xfrm>
          <a:off x="623880" y="550800"/>
          <a:ext cx="8229600" cy="5545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3880" y="550800"/>
                    <a:ext cx="8229600" cy="554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Object 2"/>
          <p:cNvGraphicFramePr/>
          <p:nvPr/>
        </p:nvGraphicFramePr>
        <p:xfrm>
          <a:off x="682560" y="479520"/>
          <a:ext cx="7967880" cy="6457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2560" y="479520"/>
                    <a:ext cx="7967880" cy="645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Object 4"/>
          <p:cNvGraphicFramePr/>
          <p:nvPr/>
        </p:nvGraphicFramePr>
        <p:xfrm>
          <a:off x="668160" y="479520"/>
          <a:ext cx="8331480" cy="6429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8160" y="479520"/>
                    <a:ext cx="8331480" cy="642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Object 4"/>
          <p:cNvGraphicFramePr/>
          <p:nvPr/>
        </p:nvGraphicFramePr>
        <p:xfrm>
          <a:off x="581040" y="479520"/>
          <a:ext cx="8447040" cy="6762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1040" y="479520"/>
                    <a:ext cx="8447040" cy="676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Object 4"/>
          <p:cNvGraphicFramePr/>
          <p:nvPr/>
        </p:nvGraphicFramePr>
        <p:xfrm>
          <a:off x="668160" y="479520"/>
          <a:ext cx="8258400" cy="6022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8160" y="479520"/>
                    <a:ext cx="8258400" cy="60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3:05:30Z</dcterms:created>
  <dc:creator>jalvarez</dc:creator>
  <dc:description/>
  <dc:language>en-US</dc:language>
  <cp:lastModifiedBy>jalvarez</cp:lastModifiedBy>
  <cp:lastPrinted>2006-03-14T15:11:26Z</cp:lastPrinted>
  <dcterms:modified xsi:type="dcterms:W3CDTF">2012-03-15T17:33:13Z</dcterms:modified>
  <cp:revision>82</cp:revision>
  <dc:subject/>
  <dc:title>Sin título de diapositiva</dc:title>
</cp:coreProperties>
</file>