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884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CB3-1DB4-4A3E-BC3D-BAFDDDC352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F75-1EAA-46E2-B40A-029FF9D564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DF5-37A1-4B30-B808-A29F352A76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54FB-2E56-4E87-A81F-9BAC9CBDF4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56F-98D6-4CB8-95BC-8B9395A6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A35-AE6F-4D84-9B22-DA7CED8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C1D-B85D-465B-B11F-B13BF446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770-BA91-451F-BC85-D970F6D3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B44-4175-457E-ABA7-D973460F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D78-BF9D-405F-83BD-2A005E7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5A9-27B4-47D5-96A9-3CD6B60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0DB-3DB3-405E-AEE5-8DB918E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00F-C83F-4292-A493-89586F4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77B-21AB-47A0-B644-DB4D859A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899-4A4B-4DE3-853B-9E92728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8F5-6131-4886-822C-15E9151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18F-395E-4125-A023-879458A33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 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 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 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18828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2-03-15T17:33:13Z</dcterms:modified>
  <cp:revision>82</cp:revision>
  <dc:subject/>
  <dc:title>Sin título de diapositiva</dc:title>
</cp:coreProperties>
</file>