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8360"/>
            <a:ext cx="493884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7ED0-AE10-47FA-891C-431E504A1D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33A-2C61-43A1-A3DA-3574F1C127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43F8-F9CD-4131-BFFE-3CC0FD3F75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F6F4-376E-4006-BE73-912FA14549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8F9-825F-442B-9078-BABA985C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611-0B79-47A2-9BC2-4E14E38E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2A1-E856-4EF6-8DAF-5F2A6DCC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494-CF69-4257-AABA-08730D96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FE5-CED2-4185-9D33-C1ECA2B3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FD4-C5A3-48CC-AD2E-64729D5F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152-C3D8-4A88-A396-22B4115A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41B-36C4-4E26-926F-A4104CD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EFE-6C4A-479E-8BBE-FA50BD0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4F1-C2D5-4FE1-8019-AAF61A0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8E1-9D55-4303-8CB7-A311394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D4E-9493-4C8D-80B0-8228B5F4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DAFD-638C-4C7A-BF2C-A3FADF1EB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 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 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 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 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 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18828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84360" y="488520"/>
            <a:ext cx="8073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scribir un programa que invierta un número de 3 díg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diálogo indicado 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de 3 dígitos?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invertido=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imule un cajero automá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¿Cuánto dinero necesita? 5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ire los siguientes bille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de $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84360" y="-122400"/>
            <a:ext cx="8143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atisfaga el diálogo indic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 en la forma AAAAMMDD ? 20061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=31/1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ume dos fracciones sigui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álogo del sg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de fracciones: a/b + c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?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?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?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10/8=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ultado debe expresarse como fracción y como númer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cesita simplificar 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e su programa sumando varia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ucede si alguno de los denominadores es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24000" y="502560"/>
            <a:ext cx="8820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scriba una función que reciba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tregue el que tenga el valor del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edio(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Use la función en un programa que genere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zar entre 1 y 100 y los escriba ordenados de menor 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e 4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criba una función que entregue el mayor entre 2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la función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max ni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5120" y="479520"/>
          <a:ext cx="828684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28684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2-03-15T17:33:13Z</dcterms:modified>
  <cp:revision>82</cp:revision>
  <dc:subject/>
  <dc:title>Sin título de diapositiva</dc:title>
</cp:coreProperties>
</file>