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7400" y="731520"/>
            <a:ext cx="497520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B9FB-BD21-4BD5-97FB-337D374F07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7F4-CC2A-4194-859D-046AEC2E94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A94D-7C07-45C3-8E2F-8128337B0F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A71-D1CC-4243-BC44-BE087D5161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51ED-12C2-4C88-BAA6-EA732C2E0A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5F05-BDAA-45BF-B95E-44E115BCA1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604B-3E42-4E5D-8533-D339DAF371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BCA6-2A5F-49B5-82BA-0373C1D98B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C743-F569-461B-83D2-F9AF21BA2D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E045-3A66-437B-B38F-D868DD74FA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2BD4-0E63-4AA9-B1F8-451F3BE16C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CCA3-7D23-42BA-974A-61EDD32C08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6B30-27E3-4E8C-A5F3-799E9E4C41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13B-B138-42A1-A5C7-7E327CAB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0EA-E2CC-4E6B-80EA-D4B50871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4E1-BCC2-4B34-89E7-D8379263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714-76E3-48BF-B2AB-9B165977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BEF-30DB-4983-AC9D-5312DF62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DEF-248F-4B2C-9D9A-8973EB6C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BF5-1B7F-47E6-9A61-A13AEE5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D1F-3EA5-46F7-8D2C-8B4E1333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7FF-5568-4816-952D-F74020C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4A7-870D-4CE3-A800-B738DC6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465-A9C3-41A0-8C35-C98AEDF9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031-BAB1-46FC-823F-1E1053F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1AEB-C562-4CA2-936B-8D67F2620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2660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2660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2-03-14T14:41:33Z</dcterms:modified>
  <cp:revision>108</cp:revision>
  <dc:subject/>
  <dc:title>Sin título de diapositiva</dc:title>
</cp:coreProperties>
</file>