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7400" y="731520"/>
            <a:ext cx="49752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258-3269-4B5D-829C-4D5A9C0D83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7624-6BDC-4483-A2E1-8CBA2DE956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F4FD-6D5F-4B69-B35C-BD8FF65BF0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174-91B7-47CA-A562-CF88C753E5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A630-3186-486A-83CE-523BB86257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C35-8A5E-4CDD-8317-C7E59147D8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280-6F21-4547-85C2-0BE6A0EF07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924-2298-424A-82A2-D7E5CDC1E5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985D-0B2E-4851-99C3-26EF289544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9269-5D0E-46F9-90A6-6E11B34807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58A-285F-4A40-8648-966F9C898C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EAA7-B4AA-4D64-ADD6-646A59892D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8EEC-04C6-4BAA-BAD2-78EF34F9A9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FAA-D101-4CF8-9F44-DA52022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39B-1525-4973-A23D-CBF519BB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44D-D2B2-42A9-A716-B0494C96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A8B-6C1C-46CF-85AC-965D02D3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503-C868-4418-9ACA-0EDA8CE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348-82D2-40C8-ABE3-4AFED4D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F7B-435B-4DF9-927C-0732E6DD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0BE-C50A-4C55-A517-49BC9E33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16C-7E86-41DC-8A7E-CEDF50B8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FBE-6BFE-4661-97BC-CB2A394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FD1-E65E-4A9E-AC19-9097652A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9F2-DC29-414E-A577-998D1ED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E7A-5433-4240-A46C-4CAF23455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2660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2660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2-03-14T14:41:33Z</dcterms:modified>
  <cp:revision>108</cp:revision>
  <dc:subject/>
  <dc:title>Sin título de diapositiva</dc:title>
</cp:coreProperties>
</file>