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7400" y="731520"/>
            <a:ext cx="497520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AC29-5745-429A-8FAA-A7B7870AC8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A4A6-CE42-4785-A549-F79B5E7CE1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596C-1C6F-4627-AAC8-EE0D762DCB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0F29-F645-4582-881C-7190B7AAA3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B2C0-A827-4CCB-B202-5A339564C7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9467-63BE-48C5-976F-25B38A6295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3EC0-E79C-4290-9301-B53E306553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187B-DF86-40AF-A188-317CAD56E4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6120-F4A0-4D21-B895-93BE2F4A97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4A59-6CD1-4BFF-ADA6-51F9F57623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FADE-7004-4FCE-BBCB-5B7A305C68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DB70-E0AC-484C-99DF-3353730AD9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5423-3DF7-4D73-BDFF-0771DCB240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3FD-2037-4F7B-AC85-7B870E31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01A-5D48-47C5-B5DE-42B69947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077-9AFC-4EC1-A7CA-72809AA3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D62-24BF-4050-A50A-47E37892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C1B-AE57-4D5B-A098-C256267D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FB1-061B-4341-B515-0F7550A3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485A-F2E6-4D4C-B23D-241FD7EE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3EC-6669-4859-9A30-2749CE7C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529-4975-4808-9170-250D4216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94A-83AE-4DEF-A294-A50EB91A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2AC-53F3-4129-B82C-DDC2D85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7A9-3F29-4316-A0B8-39377F2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CC15-4675-455C-8006-548B7ACBB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69800"/>
          <a:ext cx="8526600" cy="759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526600" cy="75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526680"/>
            <a:ext cx="86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489880" cy="65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489880" cy="65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04800" y="54288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4288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2-03-14T14:41:33Z</dcterms:modified>
  <cp:revision>108</cp:revision>
  <dc:subject/>
  <dc:title>Sin título de diapositiva</dc:title>
</cp:coreProperties>
</file>