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7400" y="731520"/>
            <a:ext cx="497520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227D-B2AE-4293-8569-38F3233D739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4B32-63B2-4D86-BBD6-4113F0DFBD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CC4F-BE1B-47AD-B07E-D21AA26471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1F6B-3B77-4ABD-8D55-64095525F9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A127-B2E4-43FF-8A7E-76BA7D2E28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B4C2-3EEE-4337-9C46-2AEA0B170C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96CC-373B-4265-945B-D5C6587A57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47EF-E8C0-4917-8A1F-79AD210D0F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852B-1EFB-434B-AC2A-D1B252D9AEE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88D7-E545-4893-A4BC-2B3C1EBAB2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4C65-3E4F-45EF-867F-A52031CF91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19F0-3A9E-42A7-96B3-E448AC53D0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16D1-2764-488D-84E5-3742E72C03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D88-0A79-45C0-AFC1-93B15107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3D6-B78F-4D0B-819B-AAAA8AE8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D3A-1756-4BE5-953D-74B0DFCC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8FB-0054-480D-A3F3-BD24688E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C52-37F4-42E2-99C5-ABD1285E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BC6-FF94-4349-827D-7F8A9F9A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D6B-9C8A-4E7F-8DD0-A53FFC24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1A5-4768-4CC1-8438-1A90D4AE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538-FB6B-4577-A87B-257CBF82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168-7FB4-468A-894D-516B02F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211-90C4-4017-843D-BF157F0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D89-71E6-4421-9DA6-1F92CDDE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C763-3DE0-42A8-BC5A-3245E4E4E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69800"/>
          <a:ext cx="8526600" cy="759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526600" cy="75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526680"/>
            <a:ext cx="86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489880" cy="65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489880" cy="65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04800" y="54288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4288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2-03-14T14:41:33Z</dcterms:modified>
  <cp:revision>108</cp:revision>
  <dc:subject/>
  <dc:title>Sin título de diapositiva</dc:title>
</cp:coreProperties>
</file>