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618-01E7-47FC-979C-7944D8EF92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9652-8658-47B3-BE5B-A348A445D2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31D-73A1-4E98-9C48-5E665633A1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06EC-9F62-4102-B0B2-9B613A0FC2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5A2-4EF8-4844-A8A7-F97E47C4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605-9163-4501-8948-8672EECD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DF8-47D4-4CC0-9CCE-BC68E8AE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5E8-56F7-4F84-AC75-1D2F942D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B7B-1A99-4D33-BE17-3A38F9BD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C83-C2B0-4A3E-B012-71562700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138-88F1-4FF4-A49B-7AF0002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4BF-D870-4E73-9378-A01D569E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8EA-E567-4C03-AD26-83E3B330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4E6-DBD4-45B3-BA6D-D0092C2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A7E-99FF-44D0-AF9D-F4DC247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877-9ED2-4D45-89E0-5829CE7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BB3-5735-4264-8E0A-E6990EED1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73080"/>
                <a:gridCol w="16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2-03-09T16:44:25Z</dcterms:modified>
  <cp:revision>41</cp:revision>
  <dc:subject/>
  <dc:title>Un curso intensivo de Introducción a la Programación Orientada a Objetos en Java  para estudiantes de secundaria </dc:title>
</cp:coreProperties>
</file>