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6131-F292-41D8-A6C6-34E04455BD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6C71-22B2-4CF5-B1DA-C8323A97BB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4A38-092F-4F70-B0B9-0058332D5C4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0E0B-6C95-4E82-9FE2-C3B8AE0AFE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9AD-36AA-49B6-8949-7CF0B985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4CA-D8DA-48D0-B6DC-17BBDDAC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37F-CCA7-40E0-A234-DFD53B72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97E-A602-4A81-B43B-756552BE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E0D-9C9E-4DD2-AFA0-30477EDF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034-CC49-4D02-8E1D-EC728F95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405-5125-40DC-807B-B6CFC5AB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B49-7D03-4A91-8243-15EC1A72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9DB-9698-4DCA-9076-FFC55150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EC9-9755-4618-8397-A0A7FB1D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D17-001C-40CC-9D09-D78BF704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F87-8875-429B-A475-0DCC0C1C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C774-D5CA-4050-8648-AF4036177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AutoShape 27"/>
          <p:cNvCxnSpPr>
            <a:stCxn id="62" idx="6"/>
          </p:cNvCxnSpPr>
          <p:nvPr/>
        </p:nvCxnSpPr>
        <p:spPr>
          <a:xfrm flipV="1">
            <a:off x="5791320" y="3809520"/>
            <a:ext cx="152640" cy="610560"/>
          </a:xfrm>
          <a:prstGeom prst="curvedConnector3">
            <a:avLst>
              <a:gd name="adj1" fmla="val 276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AutoShape 28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800"/>
            <a:ext cx="1067040" cy="628920"/>
          </a:xfrm>
          <a:prstGeom prst="curvedConnector3">
            <a:avLst>
              <a:gd name="adj1" fmla="val 24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n lenguajes de programación Python y Matl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Estructuras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Computación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(s) extra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873080"/>
                <a:gridCol w="165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iguien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ibliograf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a clase (quedan disponibles en U-cur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bros” complementarios (disponibles en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ink Python”, Dow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for Informatics”, Sev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roduction to Programming using Python”, Sch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para todos”, Gonzalez Du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Tutorial” (+avanzado); Guido van Rossum (creador de 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2-03-09T16:44:25Z</dcterms:modified>
  <cp:revision>41</cp:revision>
  <dc:subject/>
  <dc:title>Un curso intensivo de Introducción a la Programación Orientada a Objetos en Java  para estudiantes de secundaria </dc:title>
</cp:coreProperties>
</file>