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8CD1-3A21-4E8A-9BF8-71FF9F262D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A831-DC5E-466A-869A-73E90E89C4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6A5E-8524-40A8-ACD7-2217E78F31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8D67-0F20-481E-86C3-7EC6854067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013-8D63-454C-8C28-0EF38D5B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86C-B708-48D6-A6F4-30602E8E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03D-93DA-4564-93B1-D7FE9F88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09D-8657-46D4-BE66-781130A8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500-98B3-4768-804B-087C2C48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397-431F-48A8-9418-BC996CEA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734-175F-4A5F-B8AF-8B5A029C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82F-CEAA-4425-B5C3-C7E6B48E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711-2155-4084-8B29-A741A606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9BD-1207-425F-8A8D-B1937046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8CD-43DF-4022-94DF-EE49E4DB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92F-99DD-456B-B0C6-BCBCD67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4323-0C56-47F2-B6FC-4C622BFF1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AutoShape 27"/>
          <p:cNvCxnSpPr>
            <a:stCxn id="62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8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Estructuras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873080"/>
                <a:gridCol w="16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2-03-09T16:44:25Z</dcterms:modified>
  <cp:revision>41</cp:revision>
  <dc:subject/>
  <dc:title>Un curso intensivo de Introducción a la Programación Orientada a Objetos en Java  para estudiantes de secundaria </dc:title>
</cp:coreProperties>
</file>