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945-C0A0-4939-97B3-B4B34EB5AB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578-CC15-4614-94F7-E3F9F611DC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5BEA-D94B-41B0-987F-C595B960C4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541-E1B3-4CD9-BCAE-5D84B54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3FE-C151-4656-9065-B3B91B8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868-DD8E-42C0-BB3D-E07E17FC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E7E-2282-493C-A3BE-DF5AB60A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DC4-07DF-4497-A648-8E804D2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714-A274-4D83-A93F-9E232819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292-7906-47CA-BCF9-E17E62A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A1F-83BA-43D2-9063-40B8EC6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57F-2881-41EF-8600-D695B97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2D6-72AA-4BD6-AF78-D4E4A54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AC8-4F98-4D00-B710-DD0D2CB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3FA-51A0-4F68-8815-317FD17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BEB-EC78-4E82-8683-71187A3F6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8480"/>
          <a:ext cx="80676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8480"/>
                    <a:ext cx="80676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2-03-20T16:52:19Z</dcterms:modified>
  <cp:revision>76</cp:revision>
  <dc:subject/>
  <dc:title>Sin título de diapositiva</dc:title>
</cp:coreProperties>
</file>