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EE76-F8F5-47BA-A989-0DB0612AE8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F7DE-CA2E-4A13-8BC8-1FD7E9896BA5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F118-F9E5-4A22-A917-7BEAF0A9D5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F48-3A59-45AD-9EC1-0FE49678E5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0FE-94ED-4B00-8E56-3D3A3DA0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702-0AB4-4CBB-A05D-BD2A594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DD5-323E-4003-8196-80CF7565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B2D-2F8A-4DD0-8DDE-B65BEF66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027-5BC2-4CBD-8881-16182DE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ABE-B749-4D8C-B8A1-CE61734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DDE-3707-41A9-BEA7-302411B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288-56C8-46D3-86B0-E7656536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447-215E-4B50-86FA-25D49D4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640-30ED-4D54-89FF-C6393CF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267-B051-40A0-A51C-8F77CF4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D5F-8099-460F-93FE-1C02D7E3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D100-E46B-4F43-B542-29935D222A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de Bio-reactores</a:t>
            </a:r>
            <a:br>
              <a:rPr sz="4400"/>
            </a:br>
            <a:r>
              <a:rPr b="0" lang="es-ES" sz="4000" spc="-1" strike="noStrike">
                <a:solidFill>
                  <a:srgbClr val="ff0000"/>
                </a:solidFill>
                <a:latin typeface="Times New Roman"/>
              </a:rPr>
              <a:t>Transferencia de Energía</a:t>
            </a:r>
            <a:br>
              <a:rPr sz="4000"/>
            </a:b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alor de fermentación y balance de energía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.Elena Lienqueo</a:t>
            </a:r>
            <a:br>
              <a:rPr sz="2400"/>
            </a:b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lienque@ing.uchile.c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reaktori"/>
          <p:cNvPicPr/>
          <p:nvPr/>
        </p:nvPicPr>
        <p:blipFill>
          <a:blip r:embed="rId2"/>
          <a:stretch/>
        </p:blipFill>
        <p:spPr>
          <a:xfrm>
            <a:off x="152280" y="0"/>
            <a:ext cx="1776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 Marcador de contenido" descr=""/>
          <p:cNvPicPr/>
          <p:nvPr/>
        </p:nvPicPr>
        <p:blipFill>
          <a:blip r:embed="rId1"/>
          <a:stretch/>
        </p:blipFill>
        <p:spPr>
          <a:xfrm>
            <a:off x="433440" y="1500120"/>
            <a:ext cx="8405640" cy="4997520"/>
          </a:xfrm>
          <a:prstGeom prst="rect">
            <a:avLst/>
          </a:prstGeom>
          <a:ln w="0">
            <a:noFill/>
          </a:ln>
        </p:spPr>
      </p:pic>
      <p:grpSp>
        <p:nvGrpSpPr>
          <p:cNvPr id="90" name="1 Título"/>
          <p:cNvGrpSpPr/>
          <p:nvPr/>
        </p:nvGrpSpPr>
        <p:grpSpPr>
          <a:xfrm>
            <a:off x="-182520" y="341280"/>
            <a:ext cx="8339040" cy="1566720"/>
            <a:chOff x="-182520" y="341280"/>
            <a:chExt cx="8339040" cy="1566720"/>
          </a:xfrm>
        </p:grpSpPr>
        <p:pic>
          <p:nvPicPr>
            <p:cNvPr id="91" name="1 Título" descr=""/>
            <p:cNvPicPr/>
            <p:nvPr/>
          </p:nvPicPr>
          <p:blipFill>
            <a:blip r:embed="rId2"/>
            <a:stretch/>
          </p:blipFill>
          <p:spPr>
            <a:xfrm>
              <a:off x="-182520" y="341280"/>
              <a:ext cx="833904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85840" y="593640"/>
              <a:ext cx="78152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5400" spc="-1" strike="noStrike">
                  <a:solidFill>
                    <a:srgbClr val="ffffff"/>
                  </a:solidFill>
                  <a:latin typeface="Times New Roman"/>
                </a:rPr>
                <a:t>Intercambiadores de ca</a:t>
              </a:r>
              <a:r>
                <a:rPr b="0" lang="es-ES" sz="5400" spc="-1" strike="noStrike">
                  <a:solidFill>
                    <a:srgbClr val="ffffff"/>
                  </a:solidFill>
                  <a:latin typeface="Times New Roman"/>
                </a:rPr>
                <a:t>lo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901A-B66D-462E-A09B-F1234B4045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642960" y="228600"/>
            <a:ext cx="7858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etabolismo celular es una reacción global exotérmic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se desea trabajar a una temperatura constante se debe REMOVER el calor  de la fer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dicionalmente los fermentadores deben ser esterilizados y para ello se utilizan los : Intercambiadores de c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 CuadroTexto"/>
          <p:cNvSpPr/>
          <p:nvPr/>
        </p:nvSpPr>
        <p:spPr>
          <a:xfrm>
            <a:off x="428760" y="21420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principales configuraciones de intercambiadores de calor para bio-rea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86840" cy="5467320"/>
          </a:xfrm>
          <a:prstGeom prst="rect">
            <a:avLst/>
          </a:prstGeom>
          <a:ln w="0">
            <a:noFill/>
          </a:ln>
        </p:spPr>
      </p:pic>
      <p:sp>
        <p:nvSpPr>
          <p:cNvPr id="97" name="4 Rectángulo"/>
          <p:cNvSpPr/>
          <p:nvPr/>
        </p:nvSpPr>
        <p:spPr>
          <a:xfrm>
            <a:off x="357120" y="607392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a) Camisa; (b) serpentín externo; (c) serpentín  helicoidal interno; (d) serpentín  tipo deflact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(e) Intercambiador ex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26"/>
          <p:cNvSpPr/>
          <p:nvPr/>
        </p:nvSpPr>
        <p:spPr>
          <a:xfrm>
            <a:off x="285840" y="214200"/>
            <a:ext cx="561492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amisa y serpentín inte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Presentan menor área de transfer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recomiendan principalmente para pequeña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rpentines inter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recomiendan par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Operan a mayor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oda su área esta expuesta al caldo de cult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a estructura del serpentín puede interferir con la fluidodinámica del biore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pueden formar películas de 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929200" y="1143000"/>
            <a:ext cx="1654200" cy="14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7643880" y="1143000"/>
            <a:ext cx="1322280" cy="1352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6351480" y="4500720"/>
            <a:ext cx="1203480" cy="122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7643880" y="4357800"/>
            <a:ext cx="1144440" cy="1361880"/>
          </a:xfrm>
          <a:prstGeom prst="rect">
            <a:avLst/>
          </a:prstGeom>
          <a:ln w="0">
            <a:noFill/>
          </a:ln>
        </p:spPr>
      </p:pic>
      <p:sp>
        <p:nvSpPr>
          <p:cNvPr id="103" name="6 Rectángulo"/>
          <p:cNvSpPr/>
          <p:nvPr/>
        </p:nvSpPr>
        <p:spPr>
          <a:xfrm>
            <a:off x="214200" y="14292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mparación entre tipo de  configuraciones intercamb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457200" y="228600"/>
            <a:ext cx="5186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tercambiad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on independientes de bioreactor, presentar mucho mejor intercambio de c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deben considerar las condiciones de esterilidad, oxigenación (sistema aeróbicos) y esfuerzos de c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643720" y="1143000"/>
            <a:ext cx="3070080" cy="175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42920" y="4286160"/>
            <a:ext cx="2571840" cy="20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2786040" y="4286160"/>
            <a:ext cx="2643120" cy="2208240"/>
          </a:xfrm>
          <a:prstGeom prst="rect">
            <a:avLst/>
          </a:prstGeom>
          <a:ln w="0">
            <a:noFill/>
          </a:ln>
        </p:spPr>
      </p:pic>
      <p:sp>
        <p:nvSpPr>
          <p:cNvPr id="108" name="6 Rectángulo"/>
          <p:cNvSpPr/>
          <p:nvPr/>
        </p:nvSpPr>
        <p:spPr>
          <a:xfrm>
            <a:off x="1000080" y="36432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ipo de intercambiad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7 Rectángulo"/>
          <p:cNvSpPr/>
          <p:nvPr/>
        </p:nvSpPr>
        <p:spPr>
          <a:xfrm>
            <a:off x="214200" y="14292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mparación entre tipo de  configuraciones intercamb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285840" y="6429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ubos concént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9 CuadroTexto"/>
          <p:cNvSpPr/>
          <p:nvPr/>
        </p:nvSpPr>
        <p:spPr>
          <a:xfrm>
            <a:off x="2714760" y="6429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ubos y carcasa paso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4"/>
          <a:stretch/>
        </p:blipFill>
        <p:spPr>
          <a:xfrm>
            <a:off x="5772240" y="4273560"/>
            <a:ext cx="281772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11 CuadroTexto"/>
          <p:cNvSpPr/>
          <p:nvPr/>
        </p:nvSpPr>
        <p:spPr>
          <a:xfrm>
            <a:off x="5857920" y="635796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ubos y carcasa doble paso por los tub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26"/>
          <p:cNvSpPr/>
          <p:nvPr/>
        </p:nvSpPr>
        <p:spPr>
          <a:xfrm>
            <a:off x="457200" y="22860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arámetros de diseño de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os parámetro de diseño de los Intercambiadores de calo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Área de transferencia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Coeficiente de transferencia de calor 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786200" y="3000240"/>
            <a:ext cx="2648160" cy="263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071720" y="2857680"/>
            <a:ext cx="2020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57200" y="228600"/>
            <a:ext cx="822960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ransmisión de calor entre f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diseño de los intercambiadores de calor se basan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 = U *A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A: Área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T: Diferencia de temperaturas media logarítmica o aritm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U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 Coeficiente global de transferencia de calor (W/ (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 K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Donde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Coeficiente de transmisión de  calor en el fluido ca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c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Coeficiente de transmisión de  calor en el fluido f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tc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Factor de ensuciamiento por el lado del fluido f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th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Factor de ensuciamiento por el lado del fluido ca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k :Conductividad térmica; B: ancho de la 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"/>
              <p:cNvSpPr txBox="1"/>
              <p:nvPr/>
            </p:nvSpPr>
            <p:spPr>
              <a:xfrm>
                <a:off x="714240" y="3214800"/>
                <a:ext cx="3656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000840" y="3786120"/>
            <a:ext cx="2439720" cy="26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6373800" y="1214280"/>
            <a:ext cx="2770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26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or de conductividad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6645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26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eficientes de transmisión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2104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26"/>
          <p:cNvSpPr/>
          <p:nvPr/>
        </p:nvSpPr>
        <p:spPr>
          <a:xfrm>
            <a:off x="428760" y="214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ctores de ensu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4962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estionario 1</a:t>
            </a:r>
            <a:br>
              <a:rPr sz="36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e grupos y responda las siguientes pregunta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Tiempo 10 minut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Indique en la producción de que tipo de productos se utilizan los bio-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¿Cuáles pueden ser las formas de operar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¿Qué elementos se deben considerar en el diseño de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¿Qué diferencias hay entre un reactor químico y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5. En un cultivo BATCH, ¿cuanta glucosa pueden soportar los m.o? 2, 20, 200g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6. En un cultivo BATCH ¿A cuanto puede llegar la concentración de biomasa? 10, 50, 100 g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7. ¿Puede existir un fermentador de 50.000 m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, cuales serían sus dimen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57200" y="228600"/>
            <a:ext cx="8229600" cy="31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ferencia de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la diferencia de temperaturas varía a lo largo del intercambiador, en esos casos se aplica la “diferencia de temperaturas media logarítmica,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"/>
              <p:cNvSpPr txBox="1"/>
              <p:nvPr/>
            </p:nvSpPr>
            <p:spPr>
              <a:xfrm>
                <a:off x="1117440" y="3992400"/>
                <a:ext cx="8026560" cy="28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log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on las diferencias de temperatura entre los fluido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liente y frio a ambos lados del equipo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70387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228600"/>
            <a:ext cx="822960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ferencia de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uando un fluido permanece a temperatura constante en el intercambiador, como es el caso de un fermentador  se utiliza  la “diferencia de temperaturas media aritmética,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"/>
              <p:cNvSpPr txBox="1"/>
              <p:nvPr/>
            </p:nvSpPr>
            <p:spPr>
              <a:xfrm>
                <a:off x="500040" y="3214800"/>
                <a:ext cx="747720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es la temperatura del fluido en el fermentador y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las temperaturas de entrada y salida el otro fluido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500720" y="1643040"/>
            <a:ext cx="3504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026"/>
          <p:cNvSpPr/>
          <p:nvPr/>
        </p:nvSpPr>
        <p:spPr>
          <a:xfrm>
            <a:off x="500040" y="5716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643120" cy="186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500040" y="2000160"/>
                <a:ext cx="7207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ía acumulada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ía que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−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ía que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2428920" y="3357720"/>
                <a:ext cx="324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357120" y="4010040"/>
                <a:ext cx="524520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,</m:t>
                        </m:r>
                        <m:sSub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: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s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de entrada y salida del sistem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ntalpía de entrada y salida del siste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: Calor liberado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Trabajo adicionado al siste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026"/>
          <p:cNvSpPr/>
          <p:nvPr/>
        </p:nvSpPr>
        <p:spPr>
          <a:xfrm>
            <a:off x="500040" y="5716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 en el intercamb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4857840" y="3357720"/>
                <a:ext cx="2133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571680" y="1428840"/>
            <a:ext cx="550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l sistema opera en forma estacionario y el trabajo adicionado es despreciable y si los flujos másicos de entrada y salida son iguales,  se puede aplicar el balance para cada fluido, a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l fluido caliente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l fluido frío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4857840" y="4286160"/>
                <a:ext cx="2085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572160" y="571680"/>
            <a:ext cx="25718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500040" y="5716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 en el intercamb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597600" y="1214280"/>
            <a:ext cx="78724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hay pérdida de calor en el intercambiador 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hay cambios de fase en los fluidos se puede trabaj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alores específicos (Cp) y los cambios de tempera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571760" y="2857680"/>
                <a:ext cx="37684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168560" y="4786200"/>
                <a:ext cx="47178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026"/>
          <p:cNvSpPr/>
          <p:nvPr/>
        </p:nvSpPr>
        <p:spPr>
          <a:xfrm>
            <a:off x="500040" y="5716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Ejemplo de intercambiador d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9 CuadroTexto"/>
          <p:cNvSpPr/>
          <p:nvPr/>
        </p:nvSpPr>
        <p:spPr>
          <a:xfrm>
            <a:off x="571680" y="12142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nfría un medio de nutriente caliente y esterilizado en un intercambiador de tubos concéntricos antes de utilizarse en la fermentación. El medio de nutrientes abandona el esterilizador a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121º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entra al intercambiador con un caudal de 1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h. La temperatura que se desea alcanzar a la salida es d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30º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l calor del medio se utiliza para aumentarla temperatura de 2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h de agua inicialmente a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15º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l sistema opera en estado estacionario. Suponer que el  medio de nutrientes tiene propiedades iguales al agua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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kg/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; Cp = 4,19 kJ/ kg 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- Flujo de calor a transfe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-Calcular la temperatura final del agua de refrig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-46080" y="903240"/>
            <a:ext cx="9010800" cy="518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979640" y="6093000"/>
            <a:ext cx="4714920" cy="561960"/>
          </a:xfrm>
          <a:prstGeom prst="rect">
            <a:avLst/>
          </a:prstGeom>
          <a:ln w="0">
            <a:noFill/>
          </a:ln>
        </p:spPr>
      </p:pic>
      <p:sp>
        <p:nvSpPr>
          <p:cNvPr id="154" name="1 Elipse"/>
          <p:cNvSpPr/>
          <p:nvPr/>
        </p:nvSpPr>
        <p:spPr>
          <a:xfrm>
            <a:off x="5148360" y="6093000"/>
            <a:ext cx="431640" cy="765000"/>
          </a:xfrm>
          <a:prstGeom prst="ellipse">
            <a:avLst/>
          </a:prstGeom>
          <a:noFill/>
          <a:ln w="41400">
            <a:solidFill>
              <a:srgbClr val="ff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26"/>
          <p:cNvSpPr/>
          <p:nvPr/>
        </p:nvSpPr>
        <p:spPr>
          <a:xfrm>
            <a:off x="500040" y="571680"/>
            <a:ext cx="79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 en el fermentador (EJERCI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9 CuadroTexto"/>
          <p:cNvSpPr/>
          <p:nvPr/>
        </p:nvSpPr>
        <p:spPr>
          <a:xfrm>
            <a:off x="176040" y="1285920"/>
            <a:ext cx="868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l fermentador donde ocurren varias reacciones bioquímica, hay cambios de fase y se adiciona trabajo mecánico (para la agi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alor generado se puede expres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951200" y="3429000"/>
                <a:ext cx="3009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n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216000" y="4143240"/>
                <a:ext cx="736740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ntalpía de las reacciones biológicas 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acción exotérmica</m:t>
                            </m:r>
                          </m:e>
                        </m:ba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acción endotérmica 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: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udal másico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del líquido que se evapora</m:t>
                        </m:r>
                      </m:e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alor latente de vaporización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rabajo mecánico realizado en el siste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6"/>
          <p:cNvSpPr/>
          <p:nvPr/>
        </p:nvSpPr>
        <p:spPr>
          <a:xfrm>
            <a:off x="500040" y="571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la longitud de un serpentín de refrig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9 CuadroTexto"/>
          <p:cNvSpPr/>
          <p:nvPr/>
        </p:nvSpPr>
        <p:spPr>
          <a:xfrm>
            <a:off x="571680" y="121428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n biorreactor opera a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27º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producir antibióticos. Después de considerar la demanda de oxígeno del mo y la disipación de calor del agitador se calcula que el flujo de calor que se debe remover es de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550 kW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Se dispone de agua de refrigeración a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10º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 la temperatura de salida, calculada mediante un balance de energía es de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25ºC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coeficiente de transmisión de calor del cultivo y del agua de refrigeración son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215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1400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W/(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ºC)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propone colocar un serpentín helicoidal dentr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ermentador, de diámetro externo de 8cm, el espe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 mm y la conductividad térmica del acero es de 60 W/(m º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espera n factor de ensuciamiento medio en el interior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8500 W/(m ºC). , mientras que la superficie del serpent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l lado del fermentador se mantiene relativamente limp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Qué longitud de serpentín se necesi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26280" y="3716280"/>
            <a:ext cx="173844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1 CuadroTexto"/>
          <p:cNvSpPr/>
          <p:nvPr/>
        </p:nvSpPr>
        <p:spPr>
          <a:xfrm>
            <a:off x="954000" y="765000"/>
            <a:ext cx="727236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s a segu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 = U *A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 (d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Despejar A = Q/( U 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 = 2 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* R L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2 Objeto"/>
              <p:cNvSpPr txBox="1"/>
              <p:nvPr/>
            </p:nvSpPr>
            <p:spPr>
              <a:xfrm>
                <a:off x="1476360" y="2708280"/>
                <a:ext cx="3656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3 Objeto"/>
              <p:cNvSpPr txBox="1"/>
              <p:nvPr/>
            </p:nvSpPr>
            <p:spPr>
              <a:xfrm>
                <a:off x="1619280" y="1909800"/>
                <a:ext cx="307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nálisis y Diseño de Reactores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fermentadores operando en forma 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fermentadores operando en forma Continua (Quimost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odificaciones del Quimi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elación entre batch y 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fermentadores operando en forma Fed-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Aireación  y  agi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cal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 de computadores en control de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ategias de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tercambio de Energía en Fer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querimientos energ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ster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4 Marcador de contenido" descr=""/>
          <p:cNvPicPr/>
          <p:nvPr/>
        </p:nvPicPr>
        <p:blipFill>
          <a:blip r:embed="rId1"/>
          <a:stretch/>
        </p:blipFill>
        <p:spPr>
          <a:xfrm>
            <a:off x="433440" y="1500120"/>
            <a:ext cx="8405640" cy="4997520"/>
          </a:xfrm>
          <a:prstGeom prst="rect">
            <a:avLst/>
          </a:prstGeom>
          <a:ln w="0">
            <a:noFill/>
          </a:ln>
        </p:spPr>
      </p:pic>
      <p:grpSp>
        <p:nvGrpSpPr>
          <p:cNvPr id="168" name="1 Título"/>
          <p:cNvGrpSpPr/>
          <p:nvPr/>
        </p:nvGrpSpPr>
        <p:grpSpPr>
          <a:xfrm>
            <a:off x="219240" y="480960"/>
            <a:ext cx="2047680" cy="738360"/>
            <a:chOff x="219240" y="480960"/>
            <a:chExt cx="2047680" cy="738360"/>
          </a:xfrm>
        </p:grpSpPr>
        <p:pic>
          <p:nvPicPr>
            <p:cNvPr id="169" name="1 Título" descr=""/>
            <p:cNvPicPr/>
            <p:nvPr/>
          </p:nvPicPr>
          <p:blipFill>
            <a:blip r:embed="rId2"/>
            <a:stretch/>
          </p:blipFill>
          <p:spPr>
            <a:xfrm>
              <a:off x="219240" y="480960"/>
              <a:ext cx="20476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CL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Resumie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4E91-B6A4-4FEB-8680-1955F0A3DB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2"/>
          <p:cNvGrpSpPr/>
          <p:nvPr/>
        </p:nvGrpSpPr>
        <p:grpSpPr>
          <a:xfrm>
            <a:off x="228600" y="0"/>
            <a:ext cx="8686800" cy="6819840"/>
            <a:chOff x="228600" y="0"/>
            <a:chExt cx="8686800" cy="6819840"/>
          </a:xfrm>
        </p:grpSpPr>
        <p:pic>
          <p:nvPicPr>
            <p:cNvPr id="56" name="Picture 2" descr="bioreactor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457200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Pila_Bioreactor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biological2"/>
            <p:cNvPicPr/>
            <p:nvPr/>
          </p:nvPicPr>
          <p:blipFill>
            <a:blip r:embed="rId3"/>
            <a:stretch/>
          </p:blipFill>
          <p:spPr>
            <a:xfrm>
              <a:off x="228600" y="3429000"/>
              <a:ext cx="4038480" cy="339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3"/>
          <p:cNvGrpSpPr/>
          <p:nvPr/>
        </p:nvGrpSpPr>
        <p:grpSpPr>
          <a:xfrm>
            <a:off x="3352680" y="1752480"/>
            <a:ext cx="5457960" cy="5105520"/>
            <a:chOff x="3352680" y="1752480"/>
            <a:chExt cx="5457960" cy="5105520"/>
          </a:xfrm>
        </p:grpSpPr>
        <p:grpSp>
          <p:nvGrpSpPr>
            <p:cNvPr id="60" name="Group 11"/>
            <p:cNvGrpSpPr/>
            <p:nvPr/>
          </p:nvGrpSpPr>
          <p:grpSpPr>
            <a:xfrm>
              <a:off x="3352680" y="2971800"/>
              <a:ext cx="5457960" cy="3886200"/>
              <a:chOff x="3352680" y="2971800"/>
              <a:chExt cx="5457960" cy="3886200"/>
            </a:xfrm>
          </p:grpSpPr>
          <p:pic>
            <p:nvPicPr>
              <p:cNvPr id="61" name="Picture 7" descr="reaktori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2971800"/>
                <a:ext cx="378144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AutoShape 8"/>
              <p:cNvSpPr/>
              <p:nvPr/>
            </p:nvSpPr>
            <p:spPr>
              <a:xfrm>
                <a:off x="3352680" y="5029200"/>
                <a:ext cx="1524240" cy="533520"/>
              </a:xfrm>
              <a:prstGeom prst="rightArrow">
                <a:avLst>
                  <a:gd name="adj1" fmla="val 50000"/>
                  <a:gd name="adj2" fmla="val 714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AutoShape 10"/>
            <p:cNvSpPr/>
            <p:nvPr/>
          </p:nvSpPr>
          <p:spPr>
            <a:xfrm>
              <a:off x="6858000" y="1752480"/>
              <a:ext cx="304920" cy="1295640"/>
            </a:xfrm>
            <a:prstGeom prst="downArrow">
              <a:avLst>
                <a:gd name="adj1" fmla="val 50000"/>
                <a:gd name="adj2" fmla="val 10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685800" y="30492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133720" y="6172200"/>
            <a:ext cx="1828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334120" y="304920"/>
            <a:ext cx="38098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a lixiv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952880" y="6400800"/>
            <a:ext cx="38102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2"/>
          <p:cNvGrpSpPr/>
          <p:nvPr/>
        </p:nvGrpSpPr>
        <p:grpSpPr>
          <a:xfrm>
            <a:off x="1143000" y="609480"/>
            <a:ext cx="7515360" cy="5638680"/>
            <a:chOff x="1143000" y="609480"/>
            <a:chExt cx="7515360" cy="5638680"/>
          </a:xfrm>
        </p:grpSpPr>
        <p:grpSp>
          <p:nvGrpSpPr>
            <p:cNvPr id="69" name="Group 11"/>
            <p:cNvGrpSpPr/>
            <p:nvPr/>
          </p:nvGrpSpPr>
          <p:grpSpPr>
            <a:xfrm>
              <a:off x="3200400" y="1142640"/>
              <a:ext cx="5457960" cy="5105520"/>
              <a:chOff x="3200400" y="1142640"/>
              <a:chExt cx="5457960" cy="5105520"/>
            </a:xfrm>
          </p:grpSpPr>
          <p:grpSp>
            <p:nvGrpSpPr>
              <p:cNvPr id="70" name="Group 6"/>
              <p:cNvGrpSpPr/>
              <p:nvPr/>
            </p:nvGrpSpPr>
            <p:grpSpPr>
              <a:xfrm>
                <a:off x="3200400" y="2361960"/>
                <a:ext cx="5457960" cy="3886200"/>
                <a:chOff x="3200400" y="2361960"/>
                <a:chExt cx="5457960" cy="3886200"/>
              </a:xfrm>
            </p:grpSpPr>
            <p:pic>
              <p:nvPicPr>
                <p:cNvPr id="71" name="Picture 7" descr="reaktori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76920" y="2361960"/>
                  <a:ext cx="3781440" cy="38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AutoShape 8"/>
                <p:cNvSpPr/>
                <p:nvPr/>
              </p:nvSpPr>
              <p:spPr>
                <a:xfrm>
                  <a:off x="3200400" y="4419360"/>
                  <a:ext cx="1524240" cy="533520"/>
                </a:xfrm>
                <a:prstGeom prst="rightArrow">
                  <a:avLst>
                    <a:gd name="adj1" fmla="val 50000"/>
                    <a:gd name="adj2" fmla="val 71424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AutoShape 9"/>
              <p:cNvSpPr/>
              <p:nvPr/>
            </p:nvSpPr>
            <p:spPr>
              <a:xfrm>
                <a:off x="6705720" y="1142640"/>
                <a:ext cx="304920" cy="1295640"/>
              </a:xfrm>
              <a:prstGeom prst="downArrow">
                <a:avLst>
                  <a:gd name="adj1" fmla="val 50000"/>
                  <a:gd name="adj2" fmla="val 10622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Text Box 10"/>
            <p:cNvSpPr/>
            <p:nvPr/>
          </p:nvSpPr>
          <p:spPr>
            <a:xfrm>
              <a:off x="1143000" y="609480"/>
              <a:ext cx="41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squ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AutoShape 13"/>
          <p:cNvSpPr/>
          <p:nvPr/>
        </p:nvSpPr>
        <p:spPr>
          <a:xfrm>
            <a:off x="1219320" y="1676520"/>
            <a:ext cx="1828800" cy="3504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114300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45720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1371600" y="5791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609480" y="3276720"/>
            <a:ext cx="38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762120" y="63244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H =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219320" y="342900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(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4)*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Marcador de contenido" descr=""/>
          <p:cNvPicPr/>
          <p:nvPr/>
        </p:nvPicPr>
        <p:blipFill>
          <a:blip r:embed="rId1"/>
          <a:stretch/>
        </p:blipFill>
        <p:spPr>
          <a:xfrm>
            <a:off x="433440" y="1487520"/>
            <a:ext cx="8405640" cy="5022720"/>
          </a:xfrm>
          <a:prstGeom prst="rect">
            <a:avLst/>
          </a:prstGeom>
          <a:ln w="0">
            <a:noFill/>
          </a:ln>
        </p:spPr>
      </p:pic>
      <p:grpSp>
        <p:nvGrpSpPr>
          <p:cNvPr id="83" name="1 Título"/>
          <p:cNvGrpSpPr/>
          <p:nvPr/>
        </p:nvGrpSpPr>
        <p:grpSpPr>
          <a:xfrm>
            <a:off x="219240" y="542880"/>
            <a:ext cx="2047680" cy="932040"/>
            <a:chOff x="219240" y="542880"/>
            <a:chExt cx="2047680" cy="932040"/>
          </a:xfrm>
        </p:grpSpPr>
        <p:pic>
          <p:nvPicPr>
            <p:cNvPr id="84" name="1 Título" descr=""/>
            <p:cNvPicPr/>
            <p:nvPr/>
          </p:nvPicPr>
          <p:blipFill>
            <a:blip r:embed="rId2"/>
            <a:stretch/>
          </p:blipFill>
          <p:spPr>
            <a:xfrm>
              <a:off x="219240" y="542880"/>
              <a:ext cx="20476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CL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26"/>
          <p:cNvSpPr/>
          <p:nvPr/>
        </p:nvSpPr>
        <p:spPr>
          <a:xfrm>
            <a:off x="457200" y="228600"/>
            <a:ext cx="822960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alor  de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etabolismo celular es una reacción global exotérmic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se desea trabajar a una temperatura constante se debe REMOVER el calor  de la fer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¿ Cómo calcular el Calor de fer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calor de fermentación, 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, se puede calcular en base  a balances de energía en los cuales se conside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a oxid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ormación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lgunas formas simples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228600"/>
            <a:ext cx="822960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n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 considera que la fracción de sustrato que se convierte a células es muy pequeñ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R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reacción de la secuencia metabólica principal. Este calor se calcula por los métodos termodinámicos clásicos, basados en calores de combustión y 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 indispensable considerar la formación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Una forma simplificada es la propuesta por Cooney et al. (196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0.12 * N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2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milimoles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Demand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200" y="228600"/>
            <a:ext cx="822960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alance de energía en todo el fermentador, que desprecia la acumulación. Se supone que los calores de las corrientes de entrada y salida y son desprec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Ag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Pérdida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transferido por el sistema de enfriamiento. Este térmico será significativo en células que crezcan a altas t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demá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8-1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&gt;&gt; Q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0.8-2.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Home</cp:lastModifiedBy>
  <dcterms:modified xsi:type="dcterms:W3CDTF">2012-04-18T21:22:55Z</dcterms:modified>
  <cp:revision>125</cp:revision>
  <dc:subject/>
  <dc:title>Agitacion y Aireación de Fermentadores</dc:title>
</cp:coreProperties>
</file>