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8F8E-37E0-4567-B5F9-D4997121378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CE36-8A51-468C-BFAB-7B004F597B50}" type="datetime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ermentació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F920-D0D7-472F-BDAA-7DA2996282A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6FC2-E842-45A1-B8C7-A73D5C7C8DE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3CA-B237-4262-90C4-8B8142EF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A71B-E4C2-47AA-958B-3E2A5117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2E71-8EEC-4DC8-9FCA-F1A3E7C4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0D66-9EE1-4288-A8AF-D55AE668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C8A7-AA8A-4835-AAA1-F4970E54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6485-2C5B-4924-BD13-068BEDF1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7635-FB81-4A5E-9BE5-E9A7E6C5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760-5A4F-46E4-9F09-E3300906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295-8106-469E-A125-9A6CBC4B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1360-A3EA-4ABB-BF74-FB37C86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176F-C168-4E76-8EE6-ACFACE20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2546-DB53-473E-8370-D7F1828C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91CE-7A0D-4DB3-93D6-61FA020C43F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eño de Bio-reactores</a:t>
            </a:r>
            <a:br>
              <a:rPr sz="4400"/>
            </a:br>
            <a:r>
              <a:rPr b="0" lang="es-ES" sz="4000" spc="-1" strike="noStrike">
                <a:solidFill>
                  <a:srgbClr val="ff0000"/>
                </a:solidFill>
                <a:latin typeface="Times New Roman"/>
              </a:rPr>
              <a:t>Transferencia de Energía</a:t>
            </a:r>
            <a:br>
              <a:rPr sz="4000"/>
            </a:br>
            <a:br>
              <a:rPr sz="3200"/>
            </a:b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alor de fermentación y balance de energía</a:t>
            </a:r>
            <a:br>
              <a:rPr sz="3200"/>
            </a:br>
            <a:br>
              <a:rPr sz="32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.Elena Lienqueo</a:t>
            </a:r>
            <a:br>
              <a:rPr sz="2400"/>
            </a:b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lienque@ing.uchile.c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reaktori"/>
          <p:cNvPicPr/>
          <p:nvPr/>
        </p:nvPicPr>
        <p:blipFill>
          <a:blip r:embed="rId2"/>
          <a:stretch/>
        </p:blipFill>
        <p:spPr>
          <a:xfrm>
            <a:off x="152280" y="0"/>
            <a:ext cx="1776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4 Marcador de contenido" descr=""/>
          <p:cNvPicPr/>
          <p:nvPr/>
        </p:nvPicPr>
        <p:blipFill>
          <a:blip r:embed="rId1"/>
          <a:stretch/>
        </p:blipFill>
        <p:spPr>
          <a:xfrm>
            <a:off x="433440" y="1500120"/>
            <a:ext cx="8405640" cy="4997520"/>
          </a:xfrm>
          <a:prstGeom prst="rect">
            <a:avLst/>
          </a:prstGeom>
          <a:ln w="0">
            <a:noFill/>
          </a:ln>
        </p:spPr>
      </p:pic>
      <p:grpSp>
        <p:nvGrpSpPr>
          <p:cNvPr id="90" name="1 Título"/>
          <p:cNvGrpSpPr/>
          <p:nvPr/>
        </p:nvGrpSpPr>
        <p:grpSpPr>
          <a:xfrm>
            <a:off x="-182520" y="341280"/>
            <a:ext cx="8339040" cy="1566720"/>
            <a:chOff x="-182520" y="341280"/>
            <a:chExt cx="8339040" cy="1566720"/>
          </a:xfrm>
        </p:grpSpPr>
        <p:pic>
          <p:nvPicPr>
            <p:cNvPr id="91" name="1 Título" descr=""/>
            <p:cNvPicPr/>
            <p:nvPr/>
          </p:nvPicPr>
          <p:blipFill>
            <a:blip r:embed="rId2"/>
            <a:stretch/>
          </p:blipFill>
          <p:spPr>
            <a:xfrm>
              <a:off x="-182520" y="341280"/>
              <a:ext cx="833904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85840" y="593640"/>
              <a:ext cx="78152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5400" spc="-1" strike="noStrike">
                  <a:solidFill>
                    <a:srgbClr val="ffffff"/>
                  </a:solidFill>
                  <a:latin typeface="Times New Roman"/>
                </a:rPr>
                <a:t>Intercambiadores de ca</a:t>
              </a:r>
              <a:r>
                <a:rPr b="0" lang="es-ES" sz="5400" spc="-1" strike="noStrike">
                  <a:solidFill>
                    <a:srgbClr val="ffffff"/>
                  </a:solidFill>
                  <a:latin typeface="Times New Roman"/>
                </a:rPr>
                <a:t>lor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6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95F-605A-4E00-A3BA-2889AA0BD4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26"/>
          <p:cNvSpPr/>
          <p:nvPr/>
        </p:nvSpPr>
        <p:spPr>
          <a:xfrm>
            <a:off x="642960" y="228600"/>
            <a:ext cx="785808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etabolismo celular es una reacción global exotérmic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se desea trabajar a una temperatura constante se debe REMOVER el calor  de la fer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dicionalmente los fermentadores deben ser esterilizados y para ello se utilizan los : Intercambiadores de cal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2 CuadroTexto"/>
          <p:cNvSpPr/>
          <p:nvPr/>
        </p:nvSpPr>
        <p:spPr>
          <a:xfrm>
            <a:off x="428760" y="214200"/>
            <a:ext cx="84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s principales configuraciones de intercambiadores de calor para bio-reac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357120" y="642960"/>
            <a:ext cx="8286840" cy="5467320"/>
          </a:xfrm>
          <a:prstGeom prst="rect">
            <a:avLst/>
          </a:prstGeom>
          <a:ln w="0">
            <a:noFill/>
          </a:ln>
        </p:spPr>
      </p:pic>
      <p:sp>
        <p:nvSpPr>
          <p:cNvPr id="97" name="4 Rectángulo"/>
          <p:cNvSpPr/>
          <p:nvPr/>
        </p:nvSpPr>
        <p:spPr>
          <a:xfrm>
            <a:off x="357120" y="6073920"/>
            <a:ext cx="821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a) Camisa; (b) serpentín externo; (c) serpentín  helicoidal interno; (d) serpentín  tipo deflactor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(e) Intercambiador exter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026"/>
          <p:cNvSpPr/>
          <p:nvPr/>
        </p:nvSpPr>
        <p:spPr>
          <a:xfrm>
            <a:off x="285840" y="214200"/>
            <a:ext cx="561492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Camisa y serpentín inter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Presentan menor área de transfere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 recomiendan principalmente para pequeña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rpentines inter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 recomiendan para gran esc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Operan a mayor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oda su área esta expuesta al caldo de cultiv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a estructura del serpentín puede interferir con la fluidodinámica del biorea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 pueden formar películas de 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5929200" y="1143000"/>
            <a:ext cx="1654200" cy="14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7643880" y="1143000"/>
            <a:ext cx="1322280" cy="1352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6351480" y="4500720"/>
            <a:ext cx="1203480" cy="122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4"/>
          <a:stretch/>
        </p:blipFill>
        <p:spPr>
          <a:xfrm>
            <a:off x="7643880" y="4357800"/>
            <a:ext cx="1144440" cy="1361880"/>
          </a:xfrm>
          <a:prstGeom prst="rect">
            <a:avLst/>
          </a:prstGeom>
          <a:ln w="0">
            <a:noFill/>
          </a:ln>
        </p:spPr>
      </p:pic>
      <p:sp>
        <p:nvSpPr>
          <p:cNvPr id="103" name="6 Rectángulo"/>
          <p:cNvSpPr/>
          <p:nvPr/>
        </p:nvSpPr>
        <p:spPr>
          <a:xfrm>
            <a:off x="214200" y="142920"/>
            <a:ext cx="85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mparación entre tipo de  configuraciones intercamb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026"/>
          <p:cNvSpPr/>
          <p:nvPr/>
        </p:nvSpPr>
        <p:spPr>
          <a:xfrm>
            <a:off x="457200" y="228600"/>
            <a:ext cx="5186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tercambiadore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on independientes de bioreactor, presentar mucho mejor intercambio de ca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5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e deben considerar las condiciones de esterilidad, oxigenación (sistema aeróbicos) y esfuerzos de c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643720" y="1143000"/>
            <a:ext cx="3070080" cy="175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142920" y="4286160"/>
            <a:ext cx="2571840" cy="20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2786040" y="4286160"/>
            <a:ext cx="2643120" cy="2208240"/>
          </a:xfrm>
          <a:prstGeom prst="rect">
            <a:avLst/>
          </a:prstGeom>
          <a:ln w="0">
            <a:noFill/>
          </a:ln>
        </p:spPr>
      </p:pic>
      <p:sp>
        <p:nvSpPr>
          <p:cNvPr id="108" name="6 Rectángulo"/>
          <p:cNvSpPr/>
          <p:nvPr/>
        </p:nvSpPr>
        <p:spPr>
          <a:xfrm>
            <a:off x="1000080" y="364320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ipo de intercambiadore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7 Rectángulo"/>
          <p:cNvSpPr/>
          <p:nvPr/>
        </p:nvSpPr>
        <p:spPr>
          <a:xfrm>
            <a:off x="214200" y="142920"/>
            <a:ext cx="857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mparación entre tipo de  configuraciones intercamb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8 CuadroTexto"/>
          <p:cNvSpPr/>
          <p:nvPr/>
        </p:nvSpPr>
        <p:spPr>
          <a:xfrm>
            <a:off x="285840" y="642924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ubos concéntr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9 CuadroTexto"/>
          <p:cNvSpPr/>
          <p:nvPr/>
        </p:nvSpPr>
        <p:spPr>
          <a:xfrm>
            <a:off x="2714760" y="64292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ubos y carcasa paso ú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4"/>
          <a:stretch/>
        </p:blipFill>
        <p:spPr>
          <a:xfrm>
            <a:off x="5772240" y="4273560"/>
            <a:ext cx="281772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11 CuadroTexto"/>
          <p:cNvSpPr/>
          <p:nvPr/>
        </p:nvSpPr>
        <p:spPr>
          <a:xfrm>
            <a:off x="5857920" y="6357960"/>
            <a:ext cx="29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ubos y carcasa doble paso por los tub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026"/>
          <p:cNvSpPr/>
          <p:nvPr/>
        </p:nvSpPr>
        <p:spPr>
          <a:xfrm>
            <a:off x="457200" y="228600"/>
            <a:ext cx="8229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arámetros de diseño de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os parámetro de diseño de los Intercambiadores de calor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Área de transferencia 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Coeficiente de transferencia de calor (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4786200" y="3000240"/>
            <a:ext cx="2648160" cy="263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1071720" y="2857680"/>
            <a:ext cx="20206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457200" y="228600"/>
            <a:ext cx="8229600" cy="75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ransmisión de calor entre fl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diseño de los intercambiadores de calor se basan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 = U *A*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A: Área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</a:rPr>
              <a:t>T: Diferencia de temperaturas media logarítmica o aritmé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U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 Coeficiente global de transferencia de calor (W/ (m</a:t>
            </a:r>
            <a:r>
              <a:rPr b="0" lang="es-ES" sz="1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 K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Donde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 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Coeficiente de transmisión de  calor en el fluido ca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c 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Coeficiente de transmisión de  calor en el fluido fr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tc 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Factor de ensuciamiento por el lado del fluido frí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th :</a:t>
            </a: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Factor de ensuciamiento por el lado del fluido ca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cc"/>
                </a:solidFill>
                <a:latin typeface="Times New Roman"/>
              </a:rPr>
              <a:t>k :Conductividad térmica; B: ancho de la p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"/>
              <p:cNvSpPr txBox="1"/>
              <p:nvPr/>
            </p:nvSpPr>
            <p:spPr>
              <a:xfrm>
                <a:off x="714240" y="3214800"/>
                <a:ext cx="3656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6000840" y="3786120"/>
            <a:ext cx="2439720" cy="2643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6373800" y="1214280"/>
            <a:ext cx="2770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026"/>
          <p:cNvSpPr/>
          <p:nvPr/>
        </p:nvSpPr>
        <p:spPr>
          <a:xfrm>
            <a:off x="45720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Valor de conductividad tér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857160" y="1000080"/>
            <a:ext cx="6645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026"/>
          <p:cNvSpPr/>
          <p:nvPr/>
        </p:nvSpPr>
        <p:spPr>
          <a:xfrm>
            <a:off x="45720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eficientes de transmisión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857160" y="714240"/>
            <a:ext cx="721044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026"/>
          <p:cNvSpPr/>
          <p:nvPr/>
        </p:nvSpPr>
        <p:spPr>
          <a:xfrm>
            <a:off x="428760" y="214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actores de ensuci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928880" y="1285920"/>
            <a:ext cx="49626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estionario 1</a:t>
            </a:r>
            <a:br>
              <a:rPr sz="36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orme grupos y responda las siguientes preguntas: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Tiempo 10 minuto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Indique en la producción de que tipo de productos se utilizan los bio-reac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¿Cuáles pueden ser las formas de operar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¿Qué elementos se deben considerar en el diseño de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¿Qué diferencias hay entre un reactor químico y un bio-reac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5. En un cultivo BATCH, ¿cuanta glucosa pueden soportar los m.o? 2, 20, 200g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6. En un cultivo BATCH ¿A cuanto puede llegar la concentración de biomasa? 10, 50, 100 g/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7. ¿Puede existir un fermentador de 50.000 m</a:t>
            </a:r>
            <a:r>
              <a:rPr b="1" lang="es-E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, cuales serían sus dimensi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57200" y="228600"/>
            <a:ext cx="8229600" cy="31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ferencia de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Si la diferencia de temperaturas varía a lo largo del intercambiador, en esos casos se aplica la “diferencia de temperaturas media logarítmica,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"/>
              <p:cNvSpPr txBox="1"/>
              <p:nvPr/>
            </p:nvSpPr>
            <p:spPr>
              <a:xfrm>
                <a:off x="1117440" y="3992400"/>
                <a:ext cx="8026560" cy="28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log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on las diferencias de temperatura entre los fluido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aliente y frio a ambos lados del equipo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928800" y="1500120"/>
            <a:ext cx="703872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57200" y="228600"/>
            <a:ext cx="822960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ferencia de tempera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Cuando un fluido permanece a temperatura constante en el intercambiador, como es el caso de un fermentador  se utiliza  la “diferencia de temperaturas media aritmética,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es-ES" sz="20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"/>
              <p:cNvSpPr txBox="1"/>
              <p:nvPr/>
            </p:nvSpPr>
            <p:spPr>
              <a:xfrm>
                <a:off x="500040" y="3214800"/>
                <a:ext cx="7477200" cy="23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es la temperatura del fluido en el fermentador y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las temperaturas de entrada y salida el otro fluido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4500720" y="1643040"/>
            <a:ext cx="35049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026"/>
          <p:cNvSpPr/>
          <p:nvPr/>
        </p:nvSpPr>
        <p:spPr>
          <a:xfrm>
            <a:off x="500040" y="5716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lance de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6286680" y="214200"/>
            <a:ext cx="2643120" cy="1863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500040" y="2000160"/>
                <a:ext cx="72072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ía acumulada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ía que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  <m:r>
                      <m:t xml:space="preserve">−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nergía que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2428920" y="3357720"/>
                <a:ext cx="324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357120" y="4010040"/>
                <a:ext cx="524520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,</m:t>
                        </m:r>
                        <m:sSub>
                          <m:e>
                            <m:limUpp>
                              <m:e>
                                <m:r>
                                  <m:t xml:space="preserve">M</m:t>
                                </m:r>
                              </m:e>
                              <m:lim/>
                            </m:limUpp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: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sa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de entrada y salida del sistem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ntalpía de entrada y salida del siste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: Calor liberado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 Trabajo adicionado al siste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026"/>
          <p:cNvSpPr/>
          <p:nvPr/>
        </p:nvSpPr>
        <p:spPr>
          <a:xfrm>
            <a:off x="500040" y="5716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lance de energía en el intercambi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4857840" y="3357720"/>
                <a:ext cx="213336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lim/>
                    </m:limUp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7 CuadroTexto"/>
          <p:cNvSpPr/>
          <p:nvPr/>
        </p:nvSpPr>
        <p:spPr>
          <a:xfrm>
            <a:off x="571680" y="1428840"/>
            <a:ext cx="550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l sistema opera en forma estacionario y el trabajo adicionado es despreciable y si los flujos másicos de entrada y salida son iguales,  se puede aplicar el balance para cada fluido, así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l fluido caliente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el fluido frío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5"/>
              <p:cNvSpPr txBox="1"/>
              <p:nvPr/>
            </p:nvSpPr>
            <p:spPr>
              <a:xfrm>
                <a:off x="4857840" y="4286160"/>
                <a:ext cx="2085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lim/>
                    </m:limUp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6572160" y="571680"/>
            <a:ext cx="25718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26"/>
          <p:cNvSpPr/>
          <p:nvPr/>
        </p:nvSpPr>
        <p:spPr>
          <a:xfrm>
            <a:off x="500040" y="5716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lance de energía en el intercambi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9 CuadroTexto"/>
          <p:cNvSpPr/>
          <p:nvPr/>
        </p:nvSpPr>
        <p:spPr>
          <a:xfrm>
            <a:off x="597600" y="1214280"/>
            <a:ext cx="78724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no hay pérdida de calor en el intercambiador se cumpl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uego se cumpl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no hay cambios de fase en los fluidos se puede trabajar c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alores específicos (Cp) y los cambios de tempera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1571760" y="2857680"/>
                <a:ext cx="376848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lim/>
                    </m:limUp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lim/>
                    </m:limUpp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1168560" y="4786200"/>
                <a:ext cx="47178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026"/>
          <p:cNvSpPr/>
          <p:nvPr/>
        </p:nvSpPr>
        <p:spPr>
          <a:xfrm>
            <a:off x="500040" y="5716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Ejemplo de intercambiador de c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9 CuadroTexto"/>
          <p:cNvSpPr/>
          <p:nvPr/>
        </p:nvSpPr>
        <p:spPr>
          <a:xfrm>
            <a:off x="571680" y="1214280"/>
            <a:ext cx="8072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enfría un medio de nutriente caliente y esterilizado en un intercambiador de tubos concéntricos antes de utilizarse en la fermentación. El medio de nutrientes abandona el esterilizador a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121º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entra al intercambiador con un caudal de 10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h. La temperatura que se desea alcanzar a la salida es de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30º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l calor del medio se utiliza para aumentarla temperatura de 25 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/h de agua inicialmente a 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15ºC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El sistema opera en estado estacionario. Suponer que el  medio de nutrientes tiene propiedades iguales al agua (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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kg/m</a:t>
            </a:r>
            <a:r>
              <a:rPr b="0" lang="es-E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; Cp = 4,19 kJ/ kg º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- Flujo de calor a transfer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-Calcular la temperatura final del agua de refrig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-46080" y="903240"/>
            <a:ext cx="9010800" cy="518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979640" y="6093000"/>
            <a:ext cx="4714920" cy="561960"/>
          </a:xfrm>
          <a:prstGeom prst="rect">
            <a:avLst/>
          </a:prstGeom>
          <a:ln w="0">
            <a:noFill/>
          </a:ln>
        </p:spPr>
      </p:pic>
      <p:sp>
        <p:nvSpPr>
          <p:cNvPr id="154" name="1 Elipse"/>
          <p:cNvSpPr/>
          <p:nvPr/>
        </p:nvSpPr>
        <p:spPr>
          <a:xfrm>
            <a:off x="5148360" y="6093000"/>
            <a:ext cx="431640" cy="765000"/>
          </a:xfrm>
          <a:prstGeom prst="ellipse">
            <a:avLst/>
          </a:prstGeom>
          <a:noFill/>
          <a:ln w="41400">
            <a:solidFill>
              <a:srgbClr val="ff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026"/>
          <p:cNvSpPr/>
          <p:nvPr/>
        </p:nvSpPr>
        <p:spPr>
          <a:xfrm>
            <a:off x="500040" y="571680"/>
            <a:ext cx="795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alance de energía en el fermentador (EJERCIC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9 CuadroTexto"/>
          <p:cNvSpPr/>
          <p:nvPr/>
        </p:nvSpPr>
        <p:spPr>
          <a:xfrm>
            <a:off x="176040" y="1285920"/>
            <a:ext cx="8682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caso del fermentador donde ocurren varias reacciones bioquímica, hay cambios de fase y se adiciona trabajo mecánico (para la agitac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calor generado se puede expres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1951200" y="3429000"/>
                <a:ext cx="3009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xn</m:t>
                        </m:r>
                      </m:sub>
                    </m:sSub>
                    <m:r>
                      <m:t xml:space="preserve">−</m:t>
                    </m:r>
                    <m:limUpp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  <m:lim/>
                    </m:limUpp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216000" y="4143240"/>
                <a:ext cx="7367400" cy="255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</m:e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Entalpía de las reacciones biológicas </m:t>
                        </m:r>
                      </m:e>
                      <m:e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acción exotérmica</m:t>
                            </m:r>
                          </m:e>
                        </m:ba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n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reacción endotérmica 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xn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: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udal másico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del líquido que se evapora</m:t>
                        </m:r>
                      </m:e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alor latente de vaporización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Trabajo mecánico realizado en el siste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026"/>
          <p:cNvSpPr/>
          <p:nvPr/>
        </p:nvSpPr>
        <p:spPr>
          <a:xfrm>
            <a:off x="500040" y="571680"/>
            <a:ext cx="79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iseño de la longitud de un serpentín de refrig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26"/>
          <p:cNvSpPr/>
          <p:nvPr/>
        </p:nvSpPr>
        <p:spPr>
          <a:xfrm>
            <a:off x="571680" y="1500120"/>
            <a:ext cx="5472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9 CuadroTexto"/>
          <p:cNvSpPr/>
          <p:nvPr/>
        </p:nvSpPr>
        <p:spPr>
          <a:xfrm>
            <a:off x="571680" y="121428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Un biorreactor opera a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27º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ara producir antibióticos. Después de considerar la demanda de oxígeno del mo y la disipación de calor del agitador se calcula que el flujo de calor que se debe remover es de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550 kW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 Se dispone de agua de refrigeración a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 10ºC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 la temperatura de salida, calculada mediante un balance de energía es de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25ºC.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l coeficiente de transmisión de calor del cultivo y del agua de refrigeración son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215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14000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W/(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ºC) respectiv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propone colocar un serpentín helicoidal dentro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ermentador, de diámetro externo de 8cm, el espe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 mm y la conductividad térmica del acero es de 60 W/(m ºC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 espera n factor de ensuciamiento medio en el interior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8500 W/(m ºC). , mientras que la superficie del serpentí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l lado del fermentador se mantiene relativamente limp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Qué longitud de serpentín se necesit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226280" y="3716280"/>
            <a:ext cx="173844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1 CuadroTexto"/>
          <p:cNvSpPr/>
          <p:nvPr/>
        </p:nvSpPr>
        <p:spPr>
          <a:xfrm>
            <a:off x="954000" y="765000"/>
            <a:ext cx="7272360" cy="54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s a segu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 = U *A*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 (d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. Despejar A = Q/( U *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 = 2 * </a:t>
            </a:r>
            <a:r>
              <a:rPr b="0" lang="es-ES" sz="24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* R L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 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2 Objeto"/>
              <p:cNvSpPr txBox="1"/>
              <p:nvPr/>
            </p:nvSpPr>
            <p:spPr>
              <a:xfrm>
                <a:off x="1476360" y="2708280"/>
                <a:ext cx="3656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3 Objeto"/>
              <p:cNvSpPr txBox="1"/>
              <p:nvPr/>
            </p:nvSpPr>
            <p:spPr>
              <a:xfrm>
                <a:off x="1619280" y="1909800"/>
                <a:ext cx="3078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nálisis y Diseño de Reactores Bi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seño de fermentadores operando en forma 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seño de fermentadores operando en forma Continua (Quimosta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odificaciones del Quimios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Relación entre batch y contí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seño de fermentadores operando en forma Fed-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seño de Aireación  y  agi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scal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 de computadores en control de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ategias de contr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tercambio de Energía en Fermen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querimientos energé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Ester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4 Marcador de contenido" descr=""/>
          <p:cNvPicPr/>
          <p:nvPr/>
        </p:nvPicPr>
        <p:blipFill>
          <a:blip r:embed="rId1"/>
          <a:stretch/>
        </p:blipFill>
        <p:spPr>
          <a:xfrm>
            <a:off x="433440" y="1500120"/>
            <a:ext cx="8405640" cy="4997520"/>
          </a:xfrm>
          <a:prstGeom prst="rect">
            <a:avLst/>
          </a:prstGeom>
          <a:ln w="0">
            <a:noFill/>
          </a:ln>
        </p:spPr>
      </p:pic>
      <p:grpSp>
        <p:nvGrpSpPr>
          <p:cNvPr id="168" name="1 Título"/>
          <p:cNvGrpSpPr/>
          <p:nvPr/>
        </p:nvGrpSpPr>
        <p:grpSpPr>
          <a:xfrm>
            <a:off x="219240" y="480960"/>
            <a:ext cx="2047680" cy="738360"/>
            <a:chOff x="219240" y="480960"/>
            <a:chExt cx="2047680" cy="738360"/>
          </a:xfrm>
        </p:grpSpPr>
        <p:pic>
          <p:nvPicPr>
            <p:cNvPr id="169" name="1 Título" descr=""/>
            <p:cNvPicPr/>
            <p:nvPr/>
          </p:nvPicPr>
          <p:blipFill>
            <a:blip r:embed="rId2"/>
            <a:stretch/>
          </p:blipFill>
          <p:spPr>
            <a:xfrm>
              <a:off x="219240" y="480960"/>
              <a:ext cx="2047680" cy="7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CL" sz="3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Resumien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6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3106-A370-4A69-AA72-EAC4AB7DAA0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2"/>
          <p:cNvGrpSpPr/>
          <p:nvPr/>
        </p:nvGrpSpPr>
        <p:grpSpPr>
          <a:xfrm>
            <a:off x="228600" y="0"/>
            <a:ext cx="8686800" cy="6819840"/>
            <a:chOff x="228600" y="0"/>
            <a:chExt cx="8686800" cy="6819840"/>
          </a:xfrm>
        </p:grpSpPr>
        <p:pic>
          <p:nvPicPr>
            <p:cNvPr id="56" name="Picture 2" descr="bioreactor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4572000" cy="29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" descr="Pila_Bioreactor"/>
            <p:cNvPicPr/>
            <p:nvPr/>
          </p:nvPicPr>
          <p:blipFill>
            <a:blip r:embed="rId2"/>
            <a:stretch/>
          </p:blipFill>
          <p:spPr>
            <a:xfrm>
              <a:off x="4800600" y="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5" descr="biological2"/>
            <p:cNvPicPr/>
            <p:nvPr/>
          </p:nvPicPr>
          <p:blipFill>
            <a:blip r:embed="rId3"/>
            <a:stretch/>
          </p:blipFill>
          <p:spPr>
            <a:xfrm>
              <a:off x="228600" y="3429000"/>
              <a:ext cx="4038480" cy="339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Group 13"/>
          <p:cNvGrpSpPr/>
          <p:nvPr/>
        </p:nvGrpSpPr>
        <p:grpSpPr>
          <a:xfrm>
            <a:off x="3352680" y="1752480"/>
            <a:ext cx="5457960" cy="5105520"/>
            <a:chOff x="3352680" y="1752480"/>
            <a:chExt cx="5457960" cy="5105520"/>
          </a:xfrm>
        </p:grpSpPr>
        <p:grpSp>
          <p:nvGrpSpPr>
            <p:cNvPr id="60" name="Group 11"/>
            <p:cNvGrpSpPr/>
            <p:nvPr/>
          </p:nvGrpSpPr>
          <p:grpSpPr>
            <a:xfrm>
              <a:off x="3352680" y="2971800"/>
              <a:ext cx="5457960" cy="3886200"/>
              <a:chOff x="3352680" y="2971800"/>
              <a:chExt cx="5457960" cy="3886200"/>
            </a:xfrm>
          </p:grpSpPr>
          <p:pic>
            <p:nvPicPr>
              <p:cNvPr id="61" name="Picture 7" descr="reaktori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2971800"/>
                <a:ext cx="3781440" cy="38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AutoShape 8"/>
              <p:cNvSpPr/>
              <p:nvPr/>
            </p:nvSpPr>
            <p:spPr>
              <a:xfrm>
                <a:off x="3352680" y="5029200"/>
                <a:ext cx="1524240" cy="533520"/>
              </a:xfrm>
              <a:prstGeom prst="rightArrow">
                <a:avLst>
                  <a:gd name="adj1" fmla="val 50000"/>
                  <a:gd name="adj2" fmla="val 714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AutoShape 10"/>
            <p:cNvSpPr/>
            <p:nvPr/>
          </p:nvSpPr>
          <p:spPr>
            <a:xfrm>
              <a:off x="6858000" y="1752480"/>
              <a:ext cx="304920" cy="1295640"/>
            </a:xfrm>
            <a:prstGeom prst="downArrow">
              <a:avLst>
                <a:gd name="adj1" fmla="val 50000"/>
                <a:gd name="adj2" fmla="val 10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Text Box 14"/>
          <p:cNvSpPr/>
          <p:nvPr/>
        </p:nvSpPr>
        <p:spPr>
          <a:xfrm>
            <a:off x="685800" y="30492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2133720" y="6172200"/>
            <a:ext cx="1828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334120" y="304920"/>
            <a:ext cx="38098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ila lixiv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952880" y="6400800"/>
            <a:ext cx="38102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2"/>
          <p:cNvGrpSpPr/>
          <p:nvPr/>
        </p:nvGrpSpPr>
        <p:grpSpPr>
          <a:xfrm>
            <a:off x="1143000" y="609480"/>
            <a:ext cx="7515360" cy="5638680"/>
            <a:chOff x="1143000" y="609480"/>
            <a:chExt cx="7515360" cy="5638680"/>
          </a:xfrm>
        </p:grpSpPr>
        <p:grpSp>
          <p:nvGrpSpPr>
            <p:cNvPr id="69" name="Group 11"/>
            <p:cNvGrpSpPr/>
            <p:nvPr/>
          </p:nvGrpSpPr>
          <p:grpSpPr>
            <a:xfrm>
              <a:off x="3200400" y="1142640"/>
              <a:ext cx="5457960" cy="5105520"/>
              <a:chOff x="3200400" y="1142640"/>
              <a:chExt cx="5457960" cy="5105520"/>
            </a:xfrm>
          </p:grpSpPr>
          <p:grpSp>
            <p:nvGrpSpPr>
              <p:cNvPr id="70" name="Group 6"/>
              <p:cNvGrpSpPr/>
              <p:nvPr/>
            </p:nvGrpSpPr>
            <p:grpSpPr>
              <a:xfrm>
                <a:off x="3200400" y="2361960"/>
                <a:ext cx="5457960" cy="3886200"/>
                <a:chOff x="3200400" y="2361960"/>
                <a:chExt cx="5457960" cy="3886200"/>
              </a:xfrm>
            </p:grpSpPr>
            <p:pic>
              <p:nvPicPr>
                <p:cNvPr id="71" name="Picture 7" descr="reaktori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876920" y="2361960"/>
                  <a:ext cx="3781440" cy="38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AutoShape 8"/>
                <p:cNvSpPr/>
                <p:nvPr/>
              </p:nvSpPr>
              <p:spPr>
                <a:xfrm>
                  <a:off x="3200400" y="4419360"/>
                  <a:ext cx="1524240" cy="533520"/>
                </a:xfrm>
                <a:prstGeom prst="rightArrow">
                  <a:avLst>
                    <a:gd name="adj1" fmla="val 50000"/>
                    <a:gd name="adj2" fmla="val 71424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" name="AutoShape 9"/>
              <p:cNvSpPr/>
              <p:nvPr/>
            </p:nvSpPr>
            <p:spPr>
              <a:xfrm>
                <a:off x="6705720" y="1142640"/>
                <a:ext cx="304920" cy="1295640"/>
              </a:xfrm>
              <a:prstGeom prst="downArrow">
                <a:avLst>
                  <a:gd name="adj1" fmla="val 50000"/>
                  <a:gd name="adj2" fmla="val 10622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Text Box 10"/>
            <p:cNvSpPr/>
            <p:nvPr/>
          </p:nvSpPr>
          <p:spPr>
            <a:xfrm>
              <a:off x="1143000" y="609480"/>
              <a:ext cx="4114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Esqu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AutoShape 13"/>
          <p:cNvSpPr/>
          <p:nvPr/>
        </p:nvSpPr>
        <p:spPr>
          <a:xfrm>
            <a:off x="1219320" y="1676520"/>
            <a:ext cx="1828800" cy="350496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1143000" y="55627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457200" y="205740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1371600" y="5791320"/>
            <a:ext cx="167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609480" y="3276720"/>
            <a:ext cx="38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762120" y="6324480"/>
            <a:ext cx="518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H =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1219320" y="3429000"/>
            <a:ext cx="1981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 =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*(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/4)*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4 Marcador de contenido" descr=""/>
          <p:cNvPicPr/>
          <p:nvPr/>
        </p:nvPicPr>
        <p:blipFill>
          <a:blip r:embed="rId1"/>
          <a:stretch/>
        </p:blipFill>
        <p:spPr>
          <a:xfrm>
            <a:off x="433440" y="1487520"/>
            <a:ext cx="8405640" cy="5022720"/>
          </a:xfrm>
          <a:prstGeom prst="rect">
            <a:avLst/>
          </a:prstGeom>
          <a:ln w="0">
            <a:noFill/>
          </a:ln>
        </p:spPr>
      </p:pic>
      <p:grpSp>
        <p:nvGrpSpPr>
          <p:cNvPr id="83" name="1 Título"/>
          <p:cNvGrpSpPr/>
          <p:nvPr/>
        </p:nvGrpSpPr>
        <p:grpSpPr>
          <a:xfrm>
            <a:off x="219240" y="542880"/>
            <a:ext cx="2047680" cy="932040"/>
            <a:chOff x="219240" y="542880"/>
            <a:chExt cx="2047680" cy="932040"/>
          </a:xfrm>
        </p:grpSpPr>
        <p:pic>
          <p:nvPicPr>
            <p:cNvPr id="84" name="1 Título" descr=""/>
            <p:cNvPicPr/>
            <p:nvPr/>
          </p:nvPicPr>
          <p:blipFill>
            <a:blip r:embed="rId2"/>
            <a:stretch/>
          </p:blipFill>
          <p:spPr>
            <a:xfrm>
              <a:off x="219240" y="542880"/>
              <a:ext cx="20476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285840" y="571680"/>
              <a:ext cx="19288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5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CL" sz="3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Agend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026"/>
          <p:cNvSpPr/>
          <p:nvPr/>
        </p:nvSpPr>
        <p:spPr>
          <a:xfrm>
            <a:off x="457200" y="228600"/>
            <a:ext cx="8229600" cy="58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alor  de fer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etabolismo celular es una reacción global exotérmic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i se desea trabajar a una temperatura constante se debe REMOVER el calor  de la fer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¿ Cómo calcular el Calor de ferment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calor de fermentación, 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, se puede calcular en base  a balances de energía en los cuales se consider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La oxidación de sust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ormación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lgunas formas simples de estimación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228600"/>
            <a:ext cx="8229600" cy="62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ermentaciones anaero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Se considera que la fracción de sustrato que se convierte a células es muy pequeña </a:t>
            </a:r>
            <a:r>
              <a:rPr b="0" lang="es-E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R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de reacción de la secuencia metabólica principal. Este calor se calcula por los métodos termodinámicos clásicos, basados en calores de combustión y 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Fermentaciones aero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s indispensable considerar la formación de bioma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Una forma simplificada es la propuesta por Cooney et al. (196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0.12 * N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O2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milimoles/ l h]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2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Demanda de oxí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7200" y="228600"/>
            <a:ext cx="8229600" cy="51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alance de energía en todo el fermentador, que desprecia la acumulación. Se supone que los calores de las corrientes de entrada y salida y son despreciab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56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=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P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+ Q</a:t>
            </a:r>
            <a:r>
              <a:rPr b="1" lang="es-E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de Agi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Pérdida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: Calor transferido por el sistema de enfriamiento. Este térmico será significativo en células que crezcan a altas ta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Ademá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F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8-15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) &gt;&gt; Q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A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(0.8-2.5 </a:t>
            </a:r>
            <a:r>
              <a:rPr b="1" lang="es-ES" sz="1400" spc="-1" strike="noStrike">
                <a:solidFill>
                  <a:srgbClr val="ff0000"/>
                </a:solidFill>
                <a:latin typeface="Arial"/>
                <a:ea typeface="Arial"/>
              </a:rPr>
              <a:t>[Kcal/ l h]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4:12:42Z</dcterms:created>
  <dc:creator>Maria Elena Lienqueo C.</dc:creator>
  <dc:description/>
  <dc:language>en-US</dc:language>
  <cp:lastModifiedBy>Home</cp:lastModifiedBy>
  <dcterms:modified xsi:type="dcterms:W3CDTF">2012-04-18T21:22:55Z</dcterms:modified>
  <cp:revision>125</cp:revision>
  <dc:subject/>
  <dc:title>Agitacion y Aireación de Fermentadores</dc:title>
</cp:coreProperties>
</file>