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DBF-0549-4B2D-8F4B-6DC0CE57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0DA-42FD-4B3F-A41A-C8B224C5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249C-344E-482A-AE43-17BA699B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C11-F9E3-475F-84D7-FCC4D204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D02-AB27-4F06-BB97-E3602D3F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8122-3FF9-44F2-BE30-910A382F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5546-5D4F-473D-B86E-C575F4D9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15F8-264E-451D-80E0-6F6103E7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8126-AB74-45E0-96C9-C5159EBB0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A181-028A-4CFA-85AE-0257DAC4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F51-D784-4CA7-BB95-BC0E2909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5C29-98B7-4766-8800-0BDBFE02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A420-5FA6-4A6A-80BD-AEB03C3C7D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RÁ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11280" y="6904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674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 FRÁGIL: CLIV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e Materiales Com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29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8815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62120" y="2073240"/>
            <a:ext cx="4017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0040" y="287280"/>
            <a:ext cx="5803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82520"/>
            <a:ext cx="60487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14400" y="1020600"/>
            <a:ext cx="5513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CROMECANISMOS DE FRACTURA RÁP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1368360"/>
            <a:ext cx="809316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643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DÚCTIL: DESG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27:21Z</dcterms:created>
  <dc:creator>Rodrigo Pascual</dc:creator>
  <dc:description/>
  <dc:language>en-US</dc:language>
  <cp:lastModifiedBy>Rodrigo Palma</cp:lastModifiedBy>
  <dcterms:modified xsi:type="dcterms:W3CDTF">2011-11-28T18:16:10Z</dcterms:modified>
  <cp:revision>4</cp:revision>
  <dc:subject/>
  <dc:title>Diapositiva 1</dc:title>
</cp:coreProperties>
</file>