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1FC1-EE12-4C92-BDCE-1A82B9F95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644-FF8F-4B86-B8C0-08ED60BC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C323-2341-4303-A486-550F6ED5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7E74-9A60-40D0-9E21-8734AEC9C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6643-04AB-4105-8287-2B1824065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8A8-C946-474B-A03B-6927ACF65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04A9C-1CE5-473B-B09D-A926049D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DC6-0FAC-49E0-B667-07E804FDC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2E4E-9D19-41C3-B105-5D333FF77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2A02-BE4D-4608-A4BB-1F465932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CDAB-197D-4491-AD32-905CE280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F083-7314-4064-B695-23083D79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87F2-CA38-463A-AA92-3875015DB7DF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2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RACTURA RÁPI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611280" y="690480"/>
            <a:ext cx="1944720" cy="18748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1763640" y="2421000"/>
            <a:ext cx="67471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97044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ECANISMO FRÁGIL: CLIV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692360" y="1916280"/>
            <a:ext cx="6121440" cy="37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Fractura de Materiales Compuest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229440" cy="37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6134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4" descr=""/>
          <p:cNvPicPr/>
          <p:nvPr/>
        </p:nvPicPr>
        <p:blipFill>
          <a:blip r:embed="rId1"/>
          <a:stretch/>
        </p:blipFill>
        <p:spPr>
          <a:xfrm>
            <a:off x="2843280" y="2852640"/>
            <a:ext cx="3881520" cy="23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2562120" y="2073240"/>
            <a:ext cx="4017960" cy="27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1670040" y="287280"/>
            <a:ext cx="5803920" cy="629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1547640" y="182520"/>
            <a:ext cx="6048720" cy="649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814400" y="1020600"/>
            <a:ext cx="551340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2997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ICROMECANISMOS DE FRACTURA RÁPID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611280" y="1368360"/>
            <a:ext cx="8093160" cy="4983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580000" y="476280"/>
            <a:ext cx="2643120" cy="9367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900000" y="2602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S DÚCTIL: DESGAR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02T18:27:21Z</dcterms:created>
  <dc:creator>Rodrigo Pascual</dc:creator>
  <dc:description/>
  <dc:language>en-US</dc:language>
  <cp:lastModifiedBy>Rodrigo Palma</cp:lastModifiedBy>
  <dcterms:modified xsi:type="dcterms:W3CDTF">2011-11-28T18:16:10Z</dcterms:modified>
  <cp:revision>4</cp:revision>
  <dc:subject/>
  <dc:title>Diapositiva 1</dc:title>
</cp:coreProperties>
</file>