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F199-5FDB-4CE5-9D7D-34261366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237-6FD8-4074-BF23-86C2F825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B0A-2520-44CA-B3E9-A8C2C638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AFE-6F9F-46A5-A442-D13DCF21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13D-9A9A-4E1A-86F5-8E0514E4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B41-4E56-48E6-B957-1CDBF45A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AEE-F291-4ACF-9EA4-DF71BE85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E0A-C9AB-4887-A188-A26C6B45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8B0-D4A8-4B28-82E4-944F13E3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9FA2-66E2-4370-B40F-9E2B294F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9B9-864C-42CA-B6EC-85ECF010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EEB-7A4F-4F0D-8451-8C6249FF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11DF-AD16-450D-9A0A-F4CD52DA59E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RÁ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11280" y="6904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6747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70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CANISMO FRÁGIL: CLIV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12144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ractura de Materiales Compue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2294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6134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388152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562120" y="2073240"/>
            <a:ext cx="40179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670040" y="287280"/>
            <a:ext cx="580392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547640" y="182520"/>
            <a:ext cx="604872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814400" y="1020600"/>
            <a:ext cx="55134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ICROMECANISMOS DE FRACTURA RÁP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11280" y="1368360"/>
            <a:ext cx="8093160" cy="498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580000" y="476280"/>
            <a:ext cx="2643120" cy="936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900000" y="26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S DÚCTIL: DESGA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8:27:21Z</dcterms:created>
  <dc:creator>Rodrigo Pascual</dc:creator>
  <dc:description/>
  <dc:language>en-US</dc:language>
  <cp:lastModifiedBy>Rodrigo Palma</cp:lastModifiedBy>
  <dcterms:modified xsi:type="dcterms:W3CDTF">2011-11-28T18:16:10Z</dcterms:modified>
  <cp:revision>4</cp:revision>
  <dc:subject/>
  <dc:title>Diapositiva 1</dc:title>
</cp:coreProperties>
</file>