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37E-AA02-44DE-9687-4C12DF36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B1C-FCEE-46F3-8009-3E4E8B22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855-06A5-4C1A-8B6E-9D97A3F7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DCF-61D8-4860-BC92-17637274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D13-22CF-4DBA-AD47-5FF8924B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CBD-539A-4847-B449-9F650D29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701-E945-4B17-8454-D8B90E53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EE5-76AC-43EC-9C1A-4F5D939A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192-FFB9-4D37-B319-522C4E05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922-AA54-4841-AC63-084EE00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D6A-AC01-443B-BE7F-63BC0D8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E6F-2D39-4A89-A1F5-8407EDC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66C-90FD-40A4-AD96-44BD915657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RÁ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11280" y="6904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674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 FRÁGIL: CLIV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214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e Materiales Compu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229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13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8815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62120" y="2073240"/>
            <a:ext cx="4017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70040" y="287280"/>
            <a:ext cx="5803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82520"/>
            <a:ext cx="604872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14400" y="1020600"/>
            <a:ext cx="5513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ICROMECANISMOS DE FRACTURA RÁP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11280" y="1368360"/>
            <a:ext cx="8093160" cy="498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2643120" cy="93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00000" y="26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DÚCTIL: DESG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8:27:21Z</dcterms:created>
  <dc:creator>Rodrigo Pascual</dc:creator>
  <dc:description/>
  <dc:language>en-US</dc:language>
  <cp:lastModifiedBy>Rodrigo Palma</cp:lastModifiedBy>
  <dcterms:modified xsi:type="dcterms:W3CDTF">2011-11-28T18:16:10Z</dcterms:modified>
  <cp:revision>4</cp:revision>
  <dc:subject/>
  <dc:title>Diapositiva 1</dc:title>
</cp:coreProperties>
</file>