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7F0-A4F7-4CC6-AE4E-45A04A8E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794-5A72-4559-B291-4F48AE08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5EF-356F-431B-919A-AE611465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D3A-A92F-49D4-A74F-7AF23611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872-FCDE-41A3-A0B2-8F55D32D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1D4-CD1C-4D01-A433-4DD0F332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7C3-D684-4076-9BC6-F88CB351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D62-B9CF-4DA9-9757-65D762EF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20A-2307-4990-9877-044453E1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982-0F67-4DEB-9D9E-EB7B975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867-7834-4746-A5B8-0C866BB2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023-01FC-47C1-B51E-CD0E3831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D43F-A49D-4C83-B843-753FF370C6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RÁ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11280" y="6904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674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CANISMO FRÁGIL: CLIV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2144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ctura de Materiales Compue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2294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6134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88152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562120" y="2073240"/>
            <a:ext cx="4017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670040" y="287280"/>
            <a:ext cx="580392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82520"/>
            <a:ext cx="604872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814400" y="1020600"/>
            <a:ext cx="55134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ICROMECANISMOS DE FRACTURA RÁP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11280" y="1368360"/>
            <a:ext cx="8093160" cy="498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580000" y="476280"/>
            <a:ext cx="2643120" cy="936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00000" y="26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S DÚCTIL: DESG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8:27:21Z</dcterms:created>
  <dc:creator>Rodrigo Pascual</dc:creator>
  <dc:description/>
  <dc:language>en-US</dc:language>
  <cp:lastModifiedBy>Rodrigo Palma</cp:lastModifiedBy>
  <dcterms:modified xsi:type="dcterms:W3CDTF">2011-11-28T18:16:10Z</dcterms:modified>
  <cp:revision>4</cp:revision>
  <dc:subject/>
  <dc:title>Diapositiva 1</dc:title>
</cp:coreProperties>
</file>