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2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22.jpeg" ContentType="image/jpeg"/>
  <Override PartName="/ppt/media/image15.wmf" ContentType="image/x-wmf"/>
  <Override PartName="/ppt/media/image41.jpeg" ContentType="image/jpeg"/>
  <Override PartName="/ppt/media/image1.jpeg" ContentType="image/jpeg"/>
  <Override PartName="/ppt/media/image4.wmf" ContentType="image/x-wmf"/>
  <Override PartName="/ppt/media/image3.wmf" ContentType="image/x-wmf"/>
  <Override PartName="/ppt/media/image52.jpeg" ContentType="image/jpeg"/>
  <Override PartName="/ppt/media/image27.jpeg" ContentType="image/jpeg"/>
  <Override PartName="/ppt/media/image13.wmf" ContentType="image/x-wmf"/>
  <Override PartName="/ppt/media/image50.jpeg" ContentType="image/jpeg"/>
  <Override PartName="/ppt/media/image32.png" ContentType="image/png"/>
  <Override PartName="/ppt/media/image35.png" ContentType="image/png"/>
  <Override PartName="/ppt/media/image43.jpeg" ContentType="image/jpeg"/>
  <Override PartName="/ppt/media/image36.png" ContentType="image/png"/>
  <Override PartName="/ppt/media/image40.jpeg" ContentType="image/jpeg"/>
  <Override PartName="/ppt/media/image44.jpeg" ContentType="image/jpeg"/>
  <Override PartName="/ppt/media/image38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33.png" ContentType="image/png"/>
  <Override PartName="/ppt/media/image46.jpeg" ContentType="image/jpeg"/>
  <Override PartName="/ppt/media/image49.jpeg" ContentType="image/jpeg"/>
  <Override PartName="/ppt/media/image7.wmf" ContentType="image/x-wmf"/>
  <Override PartName="/ppt/media/image31.png" ContentType="image/png"/>
  <Override PartName="/ppt/media/image30.png" ContentType="image/png"/>
  <Override PartName="/ppt/media/image9.wmf" ContentType="image/x-wmf"/>
  <Override PartName="/ppt/media/image12.wmf" ContentType="image/x-wmf"/>
  <Override PartName="/ppt/media/image8.png" ContentType="image/png"/>
  <Override PartName="/ppt/media/image39.jpeg" ContentType="image/jpeg"/>
  <Override PartName="/ppt/media/image16.wmf" ContentType="image/x-wmf"/>
  <Override PartName="/ppt/media/image45.jpeg" ContentType="image/jpeg"/>
  <Override PartName="/ppt/media/image11.wmf" ContentType="image/x-wmf"/>
  <Override PartName="/ppt/media/image47.jpeg" ContentType="image/jpeg"/>
  <Override PartName="/ppt/media/image6.wmf" ContentType="image/x-wmf"/>
  <Override PartName="/ppt/media/image10.wmf" ContentType="image/x-wmf"/>
  <Override PartName="/ppt/media/image42.jpeg" ContentType="image/jpeg"/>
  <Override PartName="/ppt/media/image25.png" ContentType="image/png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08BA-7BD0-42C8-906D-4DA4D1E5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D36-9400-493F-9F05-5452FB25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D37CE-7D2B-4169-8562-E3203EB2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F738B-7A19-40CB-AD7A-DFB5D808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8BDAE-B5D8-4E32-9953-01BE9E70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695E7-4150-4690-A1DB-7EDC27DE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B2027-2F43-4040-BA3B-308EE9DE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EE94F-5F01-40CB-B840-F5E6A972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DE12C-DEC1-4FFF-91F9-801FF4DB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DC2BA-1745-49A3-9855-EDB424E6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E922F-B69B-4AC5-BB80-A71460D7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1F13A-9427-4614-A2A3-11003894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AA69-0627-49B8-9B41-2DD57B68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30014-D1B0-4476-9993-8C6C9FE2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FFC63-A04F-4475-8A01-BB2AC531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AACD7-25BC-41CB-8359-A0474AD2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C2DC3-88F9-42E1-9544-64F44DB4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988FE-297E-4377-AEBC-39354D21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1BFA5-2AEB-4A9D-88FB-AABC6975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C57BC-9137-477B-870B-4F85E102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07DB9-B1B5-4969-8853-E477213D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029D9-4768-4CDC-BC78-2E4515D9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F16D2-1962-4C0B-A40A-EED525AB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8D88-58D1-4AB5-A74B-B7DD2A5A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7C5E0-992C-4498-80A4-3ABE7FC8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D9EEB-B050-4E2C-B120-C28127E7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C1084-E6D6-47F8-9A56-7E152254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097C9-0780-43C8-8690-0E1BEB84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9FD6D-2779-4ED9-A517-F3F69254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63931-B392-4DD3-989D-792511D2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DF40C-3EE6-40E4-9591-4BCD68AD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AC71D-6B51-4113-B3D8-026850DD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C35E2-E8C0-4576-9214-8583E1FB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D974B-ADEC-4778-B268-492D444A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A2E3-3365-4CD8-8DBD-A8CD970B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89053-4964-41F3-A300-32A65BBE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86D69-E0C3-4333-B07A-738A5DFF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A9997-8A29-4940-A898-25979A4E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D7492-8A0F-4EA8-8798-902B952B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9422F-67A6-49D3-8C85-39EA7372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70167-E7C0-4BB4-A9C6-7CB3D3B5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EA8B7-CB2F-45C5-B4A6-16159A7C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5660B-3296-4BA8-868C-20534BDC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D564F-BCF9-46CB-B03E-F815C488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CE345-AA0C-4D2A-95A6-380DEBA9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6D3E-CDF6-46FC-9231-2896963A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E3D4F-5738-4E42-A51B-A3DD9F21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B1920-B43A-4E91-B689-A9276841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2E7FA-051A-4440-AE6F-ED88676C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7B4F7-E3D0-4DCD-855E-61BA5157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456CE-CF53-439F-952E-FE23D440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C4C87-EABD-416C-BBE8-00D542FA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BF87F-3AB9-4BF4-A64E-A672A8B1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D2167-2ACD-4B71-9377-09491D56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F1925-984B-48DC-A17A-65A798E0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427D0-0E42-404B-A09E-919665CA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1224-5A93-4885-88BB-9B43158F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4DE36-1E89-4EC6-AA3E-D2EA9E5E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8840A8-D51F-4F93-8172-08E9396A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F17B49-90A3-4878-8738-14E269C8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35D72D-828E-4FAD-AA01-C0619CA9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27E83E-D9F9-493A-9FF6-B1B96156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C4309-A42B-4278-8B36-19F70A2A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CC4C3-EFD5-4538-8624-BA03A1D8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0F75-8DFA-414D-8098-365B2D10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F43F-2B50-41B9-8472-640CB4AF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3238-139C-43AB-88F6-08E3479E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8F10-8E2A-4D24-B7A2-0FA69544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EB7C-5537-4C62-B4BD-43704546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4027-2621-49DE-9A39-87350395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6909-43B8-4FD2-9B90-BFE2AD84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0DEB-5FB3-4727-B592-ED843D5C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C882-DB9B-413F-A317-C82A5281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76C1-9587-423E-AACF-72781D67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867F1-03BF-479A-80B3-8714A05C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B1620-7A08-45BB-9332-74AF8F8E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7ABF6-5B05-4962-A67F-A2D43CC4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23D7A-6EC3-4F1B-9F87-DDDB4128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5ED08-0031-4B8C-98E3-59510D46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AF36-B288-4769-BFEA-B6741725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E6528-594E-4EB1-9C88-D3BEA6E1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684BD-800E-428C-A52A-025A139C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C9324-DB4C-492A-A6AB-33C91368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04DF8-E34B-4BCE-B4B4-418695EF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BA0F8-34CD-4C79-8473-AF789126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33043-8085-4B8E-950D-7D58EFC4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E638A-24A0-41BC-A685-576A4257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DE24D-A2B1-48C6-A653-6F0C4D8C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C8800-0D52-45A8-AD36-BE109B9F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E8A64-451C-4357-BA31-DC2BBCDC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942F-42FD-47D8-95D6-11AC9324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C3FD3-7DE7-4C82-BA2D-5080CB09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05C2E-1B13-4748-96DD-31F601F6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1149D-9732-4287-A7E9-0B55C86B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7E1B2-BA5B-4FB7-A894-14AA5991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ABF19-C1E7-4514-AD3A-28C8B49C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CB67D-C3D7-4AA3-A717-B174D9F6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4AA98-EB76-4F6F-9C15-9E611CEC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4B153-6165-40E1-B94E-03AED7F4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6443D-44FE-419E-97E4-3DEE3BB6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C78B4-7066-4673-9143-41EC37BB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D509-D684-4D3F-9302-9B39FA6C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8262C-18DE-48DF-8691-4483A9C6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D6D74-0543-4B36-8084-880550BC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E74AF-A71F-4BC7-B248-F8EBB12E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70650-47AF-493F-9CE9-DC8ECFB5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B0E08-BF17-4990-BD45-F65400D8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79D9F-DD87-4277-ADF6-445C339F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63EF2-FAC5-448B-9B78-E53DBCC5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F7BF5-28C6-407D-B500-CBF06CE2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9BC6D-D687-45E7-8424-BACDDC07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5148F-4713-4449-A58D-FAA38075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114E-112F-490E-A117-7BF434D7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CE318-6CD0-493A-A2F7-4175FE99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81A6F-5C40-4C25-8E0B-18BCCDEC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71A05-0EBD-4AC0-9FEA-B5F7B0FA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F63FA-8F83-4EFF-8C7D-020BC52A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CE015-0625-44CC-A100-29B76268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10230-8761-4A09-8997-C4BFD79D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DE640-89FE-46E4-BCB2-1B946DF2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5D285-0300-412D-8D76-7BC13E62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65488-1C61-4E81-81D2-456D8683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7BB9D-53D7-4832-ABA8-2067B453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711-9883-4A23-AFC7-233A0958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AB2DD-A634-4B12-ADAA-B476BD27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ED80C-8609-46B5-ABB7-BDBBB524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CA740-81B0-4627-9523-FC2100A7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B5811-D680-4D43-A4F1-97C98710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B8A1F-1FBB-4064-8252-8C5FF956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5CCFF-C04C-4404-A479-085EE5CB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1EB75-E00A-4092-86CE-1E752742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5B718-9B63-4941-AB0E-AF144FDC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4E5BD-EAA5-40AB-BD77-D933E007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ECCBD-9D3A-4154-9758-4FA0DE3E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2E5-A609-470A-A7B8-A9C98FB8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5CBAD-3535-4C15-8466-1C21E2AB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2E42D-19A3-4D2F-AFB1-7A82BF88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9EE27-41CF-4A29-8C07-398BB029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32023-8062-4AC1-BB54-5BC04802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7C414-ACB4-4304-9DCC-C0D43CA2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01B97-2985-4BC5-B5FF-5AE8F3D2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11FA1-27E7-45AB-92F5-A9D16753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4FA52-FC4A-41CE-8855-DE3969DC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D9B2B-7417-4895-BB43-1BA0BDA3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EDC5E-8B27-403A-805C-13F160B6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653F-0D77-46F3-869D-DC46A51F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D8DE6-2E6A-4D35-BBE9-52D7BD7F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97BEC-5134-46DB-9A68-C935F00C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D732F-9A82-4FE1-B48A-C914D1DA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BBDC5-295F-449A-8827-3E1EF140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00351-D280-4E36-9B07-FD242613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7CE0A-A9D9-41B3-9F67-952C6611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F7F80-2460-48FD-BDBA-771B50AF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D1D8F-FD69-4F41-94CB-8F1791A9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436F3-8A9F-4B27-BDC7-529D2C7B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3268B-0F9F-4EC3-B730-91C77528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1D0C-A919-4192-B1A6-66B00DEF2D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B0A3-C33E-46AE-AB28-B4770DA01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B355-B2BD-4C52-A8CF-AB753C4B2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0084-710F-4ED8-A894-8C74516EF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5B88-6BC4-46A9-A500-9CE4C483D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B9E4-7E6D-4F66-8CAC-C74AE8F5A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778B-05CF-494D-853B-3C99860BE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3659-539E-4C25-9EAF-41344303A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EDC0-9DE4-41AF-8BA8-D9B8F28E8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FCFF-0BCD-4C75-BEAD-D2A79B7BD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DCA9-3A01-44C7-A005-B2DD58BBB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4766-6A7B-4004-94C9-10C0467DE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0124-7957-46F0-8EC3-0DD608783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ulo de Young de materiales compu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3" descr=""/>
          <p:cNvPicPr/>
          <p:nvPr/>
        </p:nvPicPr>
        <p:blipFill>
          <a:blip r:embed="rId1"/>
          <a:stretch/>
        </p:blipFill>
        <p:spPr>
          <a:xfrm>
            <a:off x="2367000" y="404640"/>
            <a:ext cx="5821200" cy="61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539640" y="595440"/>
            <a:ext cx="813132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1278000" y="1573200"/>
            <a:ext cx="6794280" cy="40957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"/>
          <p:cNvPicPr/>
          <p:nvPr/>
        </p:nvPicPr>
        <p:blipFill>
          <a:blip r:embed="rId2"/>
          <a:stretch/>
        </p:blipFill>
        <p:spPr>
          <a:xfrm>
            <a:off x="1332000" y="765000"/>
            <a:ext cx="6686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1085760" y="765000"/>
            <a:ext cx="751680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3"/>
          <p:cNvSpPr/>
          <p:nvPr/>
        </p:nvSpPr>
        <p:spPr>
          <a:xfrm>
            <a:off x="2484360" y="40464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UR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305400" cy="25797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" descr=""/>
          <p:cNvPicPr/>
          <p:nvPr/>
        </p:nvPicPr>
        <p:blipFill>
          <a:blip r:embed="rId2"/>
          <a:stretch/>
        </p:blipFill>
        <p:spPr>
          <a:xfrm>
            <a:off x="3851280" y="5589720"/>
            <a:ext cx="12272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Fig"/>
          <p:cNvPicPr/>
          <p:nvPr/>
        </p:nvPicPr>
        <p:blipFill>
          <a:blip r:embed="rId1"/>
          <a:stretch/>
        </p:blipFill>
        <p:spPr>
          <a:xfrm>
            <a:off x="324000" y="1125360"/>
            <a:ext cx="8532720" cy="34642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3"/>
          <p:cNvSpPr/>
          <p:nvPr/>
        </p:nvSpPr>
        <p:spPr>
          <a:xfrm>
            <a:off x="2771640" y="476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ción del cu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4" descr="Fig"/>
          <p:cNvPicPr/>
          <p:nvPr/>
        </p:nvPicPr>
        <p:blipFill>
          <a:blip r:embed="rId2"/>
          <a:stretch/>
        </p:blipFill>
        <p:spPr>
          <a:xfrm>
            <a:off x="1476360" y="4724280"/>
            <a:ext cx="6838920" cy="145116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5"/>
          <p:cNvSpPr/>
          <p:nvPr/>
        </p:nvSpPr>
        <p:spPr>
          <a:xfrm>
            <a:off x="3492360" y="6381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ct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6240600" cy="4680000"/>
          </a:xfrm>
          <a:prstGeom prst="rect">
            <a:avLst/>
          </a:prstGeom>
          <a:ln w="0">
            <a:noFill/>
          </a:ln>
        </p:spPr>
      </p:pic>
      <p:sp>
        <p:nvSpPr>
          <p:cNvPr id="593" name="1 CuadroTexto"/>
          <p:cNvSpPr/>
          <p:nvPr/>
        </p:nvSpPr>
        <p:spPr>
          <a:xfrm>
            <a:off x="108000" y="230040"/>
            <a:ext cx="302400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apas de la fractura dúct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ucleación de hue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alescencia de hue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te en la superfi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a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68360" y="291960"/>
            <a:ext cx="2241360" cy="17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perficies de la fract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4" descr="Scan10555"/>
          <p:cNvPicPr/>
          <p:nvPr/>
        </p:nvPicPr>
        <p:blipFill>
          <a:blip r:embed="rId1"/>
          <a:stretch/>
        </p:blipFill>
        <p:spPr>
          <a:xfrm>
            <a:off x="3132000" y="291960"/>
            <a:ext cx="5827680" cy="619308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jemplo: fractura de una cañ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886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ractura Dúctil transgranular: coalescencia de microhue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Scan10556"/>
          <p:cNvPicPr/>
          <p:nvPr/>
        </p:nvPicPr>
        <p:blipFill>
          <a:blip r:embed="rId1"/>
          <a:stretch/>
        </p:blipFill>
        <p:spPr>
          <a:xfrm>
            <a:off x="2771640" y="2133720"/>
            <a:ext cx="3400560" cy="32875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 de materiales compuestos lamin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35496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1" name="Picture 3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1895760" cy="3146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3"/>
          <a:stretch/>
        </p:blipFill>
        <p:spPr>
          <a:xfrm>
            <a:off x="5116680" y="2060640"/>
            <a:ext cx="2390760" cy="371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"/>
          <p:cNvPicPr/>
          <p:nvPr/>
        </p:nvPicPr>
        <p:blipFill>
          <a:blip r:embed="rId4"/>
          <a:stretch/>
        </p:blipFill>
        <p:spPr>
          <a:xfrm>
            <a:off x="4925880" y="2808360"/>
            <a:ext cx="2772000" cy="3715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"/>
          <p:cNvPicPr/>
          <p:nvPr/>
        </p:nvPicPr>
        <p:blipFill>
          <a:blip r:embed="rId5"/>
          <a:stretch/>
        </p:blipFill>
        <p:spPr>
          <a:xfrm>
            <a:off x="5435640" y="2432160"/>
            <a:ext cx="1400040" cy="3999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"/>
          <p:cNvPicPr/>
          <p:nvPr/>
        </p:nvPicPr>
        <p:blipFill>
          <a:blip r:embed="rId6"/>
          <a:stretch/>
        </p:blipFill>
        <p:spPr>
          <a:xfrm>
            <a:off x="4859280" y="4653000"/>
            <a:ext cx="315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actura frágil transgranular: cliv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4" descr="Scan10557"/>
          <p:cNvPicPr/>
          <p:nvPr/>
        </p:nvPicPr>
        <p:blipFill>
          <a:blip r:embed="rId1"/>
          <a:stretch/>
        </p:blipFill>
        <p:spPr>
          <a:xfrm>
            <a:off x="2484360" y="2276640"/>
            <a:ext cx="4213440" cy="3365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actura Intergran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Scan10558"/>
          <p:cNvPicPr/>
          <p:nvPr/>
        </p:nvPicPr>
        <p:blipFill>
          <a:blip r:embed="rId1"/>
          <a:stretch/>
        </p:blipFill>
        <p:spPr>
          <a:xfrm>
            <a:off x="622440" y="1773360"/>
            <a:ext cx="7812000" cy="42116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rva real o verdad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C:\Users\Rodrigo Palma\Pictures\2011-10-27 n\n 001.jpg"/>
          <p:cNvPicPr/>
          <p:nvPr/>
        </p:nvPicPr>
        <p:blipFill>
          <a:blip r:embed="rId1"/>
          <a:stretch/>
        </p:blipFill>
        <p:spPr>
          <a:xfrm>
            <a:off x="5580000" y="3813120"/>
            <a:ext cx="2648160" cy="19652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pic>
        <p:nvPicPr>
          <p:cNvPr id="606" name="Picture 3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097440" cy="927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5" descr="C:\Users\Rodrigo Palma\Pictures\2011-10-27 real\real 001.jpg"/>
          <p:cNvPicPr/>
          <p:nvPr/>
        </p:nvPicPr>
        <p:blipFill>
          <a:blip r:embed="rId3"/>
          <a:stretch/>
        </p:blipFill>
        <p:spPr>
          <a:xfrm>
            <a:off x="1403280" y="3573360"/>
            <a:ext cx="2670120" cy="24465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pic>
        <p:nvPicPr>
          <p:cNvPr id="608" name="Picture 6" descr=""/>
          <p:cNvPicPr/>
          <p:nvPr/>
        </p:nvPicPr>
        <p:blipFill>
          <a:blip r:embed="rId4"/>
          <a:stretch/>
        </p:blipFill>
        <p:spPr>
          <a:xfrm>
            <a:off x="3780000" y="1844640"/>
            <a:ext cx="4833720" cy="11588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"/>
          <p:cNvPicPr/>
          <p:nvPr/>
        </p:nvPicPr>
        <p:blipFill>
          <a:blip r:embed="rId5"/>
          <a:stretch/>
        </p:blipFill>
        <p:spPr>
          <a:xfrm>
            <a:off x="130320" y="2328840"/>
            <a:ext cx="2547720" cy="8906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8" descr="C:\Users\Rodrigo Palma\Pictures\2011-10-27 K N\K N 001.jpg"/>
          <p:cNvPicPr/>
          <p:nvPr/>
        </p:nvPicPr>
        <p:blipFill>
          <a:blip r:embed="rId6"/>
          <a:stretch/>
        </p:blipFill>
        <p:spPr>
          <a:xfrm>
            <a:off x="1911240" y="3579840"/>
            <a:ext cx="981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5"/>
          <p:cNvSpPr/>
          <p:nvPr/>
        </p:nvSpPr>
        <p:spPr>
          <a:xfrm>
            <a:off x="767088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667E-F3C5-49D8-8331-7D9B5103B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nsayo de Impacto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613" name="Group 25"/>
          <p:cNvGrpSpPr/>
          <p:nvPr/>
        </p:nvGrpSpPr>
        <p:grpSpPr>
          <a:xfrm>
            <a:off x="2297160" y="2313000"/>
            <a:ext cx="5421960" cy="4233960"/>
            <a:chOff x="2297160" y="2313000"/>
            <a:chExt cx="5421960" cy="4233960"/>
          </a:xfrm>
        </p:grpSpPr>
        <p:pic>
          <p:nvPicPr>
            <p:cNvPr id="614" name="Picture 6" descr="Fig 8_12"/>
            <p:cNvPicPr/>
            <p:nvPr/>
          </p:nvPicPr>
          <p:blipFill>
            <a:blip r:embed="rId1"/>
            <a:stretch/>
          </p:blipFill>
          <p:spPr>
            <a:xfrm>
              <a:off x="2297160" y="2313000"/>
              <a:ext cx="4886280" cy="42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Rectangle 7"/>
            <p:cNvSpPr/>
            <p:nvPr/>
          </p:nvSpPr>
          <p:spPr>
            <a:xfrm>
              <a:off x="2368080" y="5802480"/>
              <a:ext cx="86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final he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8"/>
            <p:cNvGrpSpPr/>
            <p:nvPr/>
          </p:nvGrpSpPr>
          <p:grpSpPr>
            <a:xfrm>
              <a:off x="3244680" y="4135320"/>
              <a:ext cx="3558600" cy="2193480"/>
              <a:chOff x="3244680" y="4135320"/>
              <a:chExt cx="3558600" cy="2193480"/>
            </a:xfrm>
          </p:grpSpPr>
          <p:sp>
            <p:nvSpPr>
              <p:cNvPr id="617" name="Line 9"/>
              <p:cNvSpPr/>
              <p:nvPr/>
            </p:nvSpPr>
            <p:spPr>
              <a:xfrm>
                <a:off x="3322440" y="6327000"/>
                <a:ext cx="3402720" cy="1800"/>
              </a:xfrm>
              <a:prstGeom prst="line">
                <a:avLst/>
              </a:prstGeom>
              <a:ln w="2052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" name="Group 10"/>
              <p:cNvGrpSpPr/>
              <p:nvPr/>
            </p:nvGrpSpPr>
            <p:grpSpPr>
              <a:xfrm>
                <a:off x="6614640" y="4135320"/>
                <a:ext cx="188640" cy="2185920"/>
                <a:chOff x="6614640" y="4135320"/>
                <a:chExt cx="188640" cy="2185920"/>
              </a:xfrm>
            </p:grpSpPr>
            <p:sp>
              <p:nvSpPr>
                <p:cNvPr id="619" name="Freeform 11"/>
                <p:cNvSpPr/>
                <p:nvPr/>
              </p:nvSpPr>
              <p:spPr>
                <a:xfrm>
                  <a:off x="6614640" y="4135320"/>
                  <a:ext cx="188640" cy="20664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76" h="82">
                      <a:moveTo>
                        <a:pt x="38" y="0"/>
                      </a:moveTo>
                      <a:lnTo>
                        <a:pt x="76" y="82"/>
                      </a:lnTo>
                      <a:lnTo>
                        <a:pt x="38" y="56"/>
                      </a:lnTo>
                      <a:lnTo>
                        <a:pt x="0" y="82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"/>
                <p:cNvSpPr/>
                <p:nvPr/>
              </p:nvSpPr>
              <p:spPr>
                <a:xfrm flipV="1">
                  <a:off x="6708600" y="4276080"/>
                  <a:ext cx="2520" cy="2045160"/>
                </a:xfrm>
                <a:prstGeom prst="line">
                  <a:avLst/>
                </a:prstGeom>
                <a:ln w="2052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13"/>
              <p:cNvGrpSpPr/>
              <p:nvPr/>
            </p:nvGrpSpPr>
            <p:grpSpPr>
              <a:xfrm>
                <a:off x="3244680" y="5281200"/>
                <a:ext cx="174600" cy="1044720"/>
                <a:chOff x="3244680" y="5281200"/>
                <a:chExt cx="174600" cy="1044720"/>
              </a:xfrm>
            </p:grpSpPr>
            <p:sp>
              <p:nvSpPr>
                <p:cNvPr id="622" name="Freeform 14"/>
                <p:cNvSpPr/>
                <p:nvPr/>
              </p:nvSpPr>
              <p:spPr>
                <a:xfrm>
                  <a:off x="3244680" y="5281200"/>
                  <a:ext cx="174600" cy="19080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190800"/>
                    <a:gd name="textAreaBottom" fmla="*/ 191160 h 190800"/>
                  </a:gdLst>
                  <a:ahLst/>
                  <a:rect l="textAreaLeft" t="textAreaTop" r="textAreaRight" b="textAreaBottom"/>
                  <a:pathLst>
                    <a:path w="76" h="82">
                      <a:moveTo>
                        <a:pt x="38" y="0"/>
                      </a:moveTo>
                      <a:lnTo>
                        <a:pt x="76" y="82"/>
                      </a:lnTo>
                      <a:lnTo>
                        <a:pt x="38" y="57"/>
                      </a:lnTo>
                      <a:lnTo>
                        <a:pt x="0" y="82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5"/>
                <p:cNvSpPr/>
                <p:nvPr/>
              </p:nvSpPr>
              <p:spPr>
                <a:xfrm flipV="1">
                  <a:off x="3331800" y="5413320"/>
                  <a:ext cx="1800" cy="912600"/>
                </a:xfrm>
                <a:prstGeom prst="line">
                  <a:avLst/>
                </a:prstGeom>
                <a:ln w="2052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4" name="Rectangle 16"/>
            <p:cNvSpPr/>
            <p:nvPr/>
          </p:nvSpPr>
          <p:spPr>
            <a:xfrm>
              <a:off x="6775200" y="580248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initial he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Rectangle 17"/>
          <p:cNvSpPr/>
          <p:nvPr/>
        </p:nvSpPr>
        <p:spPr>
          <a:xfrm>
            <a:off x="522360" y="1155600"/>
            <a:ext cx="4697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ga de Impac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 es el caso mas severo de car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 el material se comporta más frág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8"/>
          <p:cNvSpPr/>
          <p:nvPr/>
        </p:nvSpPr>
        <p:spPr>
          <a:xfrm>
            <a:off x="293760" y="2798640"/>
            <a:ext cx="2438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Fig. 8.12(b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llister 7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Fig. 8.12(b) is adapted from H.W. Hayden, W.G. Moffatt, and J. Wulff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Structure and Properties of Materi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ol. III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chanical Behavi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John Wiley and Sons, Inc. (1965) p. 13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19"/>
          <p:cNvGrpSpPr/>
          <p:nvPr/>
        </p:nvGrpSpPr>
        <p:grpSpPr>
          <a:xfrm>
            <a:off x="6486480" y="1154160"/>
            <a:ext cx="1917720" cy="1805040"/>
            <a:chOff x="6486480" y="1154160"/>
            <a:chExt cx="1917720" cy="1805040"/>
          </a:xfrm>
        </p:grpSpPr>
        <p:pic>
          <p:nvPicPr>
            <p:cNvPr id="628" name="Picture 20" descr=""/>
            <p:cNvPicPr/>
            <p:nvPr/>
          </p:nvPicPr>
          <p:blipFill>
            <a:blip r:embed="rId2"/>
            <a:stretch/>
          </p:blipFill>
          <p:spPr>
            <a:xfrm>
              <a:off x="6486480" y="1484280"/>
              <a:ext cx="191772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Rectangle 21"/>
            <p:cNvSpPr/>
            <p:nvPr/>
          </p:nvSpPr>
          <p:spPr>
            <a:xfrm>
              <a:off x="6525000" y="1154160"/>
              <a:ext cx="88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(Charp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Group 22"/>
            <p:cNvGrpSpPr/>
            <p:nvPr/>
          </p:nvGrpSpPr>
          <p:grpSpPr>
            <a:xfrm>
              <a:off x="7031160" y="1395360"/>
              <a:ext cx="164880" cy="444600"/>
              <a:chOff x="7031160" y="1395360"/>
              <a:chExt cx="164880" cy="444600"/>
            </a:xfrm>
          </p:grpSpPr>
          <p:sp>
            <p:nvSpPr>
              <p:cNvPr id="631" name="Freeform 23"/>
              <p:cNvSpPr/>
              <p:nvPr/>
            </p:nvSpPr>
            <p:spPr>
              <a:xfrm>
                <a:off x="7056360" y="1662120"/>
                <a:ext cx="139680" cy="17784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88" h="112">
                    <a:moveTo>
                      <a:pt x="80" y="112"/>
                    </a:moveTo>
                    <a:lnTo>
                      <a:pt x="0" y="32"/>
                    </a:lnTo>
                    <a:lnTo>
                      <a:pt x="56" y="48"/>
                    </a:lnTo>
                    <a:lnTo>
                      <a:pt x="88" y="0"/>
                    </a:lnTo>
                    <a:lnTo>
                      <a:pt x="80" y="112"/>
                    </a:lnTo>
                    <a:close/>
                  </a:path>
                </a:pathLst>
              </a:custGeom>
              <a:solidFill>
                <a:srgbClr val="006600"/>
              </a:solidFill>
              <a:ln w="1260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24"/>
              <p:cNvSpPr/>
              <p:nvPr/>
            </p:nvSpPr>
            <p:spPr>
              <a:xfrm>
                <a:off x="7031160" y="1395360"/>
                <a:ext cx="114120" cy="343080"/>
              </a:xfrm>
              <a:prstGeom prst="line">
                <a:avLst/>
              </a:prstGeom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90000"/>
                </a:solidFill>
                <a:latin typeface="Arial"/>
              </a:rPr>
              <a:t>Curva de impacto  de un acero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4" name="3 Marcador de número de diapositiva"/>
          <p:cNvSpPr/>
          <p:nvPr/>
        </p:nvSpPr>
        <p:spPr>
          <a:xfrm>
            <a:off x="767088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5363-AAFB-4E47-8B35-C09F83168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" descr=""/>
          <p:cNvPicPr/>
          <p:nvPr/>
        </p:nvPicPr>
        <p:blipFill>
          <a:blip r:embed="rId1"/>
          <a:stretch/>
        </p:blipFill>
        <p:spPr>
          <a:xfrm>
            <a:off x="1355760" y="1203480"/>
            <a:ext cx="6454800" cy="4892400"/>
          </a:xfrm>
          <a:prstGeom prst="rect">
            <a:avLst/>
          </a:prstGeom>
          <a:ln w="0">
            <a:noFill/>
          </a:ln>
        </p:spPr>
      </p:pic>
      <p:sp>
        <p:nvSpPr>
          <p:cNvPr id="636" name="5 Rectángulo"/>
          <p:cNvSpPr/>
          <p:nvPr/>
        </p:nvSpPr>
        <p:spPr>
          <a:xfrm>
            <a:off x="4140360" y="4292640"/>
            <a:ext cx="3095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7 Rectángulo"/>
          <p:cNvSpPr/>
          <p:nvPr/>
        </p:nvSpPr>
        <p:spPr>
          <a:xfrm>
            <a:off x="2428920" y="2276640"/>
            <a:ext cx="2016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Ec"/>
          <p:cNvPicPr/>
          <p:nvPr/>
        </p:nvPicPr>
        <p:blipFill>
          <a:blip r:embed="rId1"/>
          <a:stretch/>
        </p:blipFill>
        <p:spPr>
          <a:xfrm>
            <a:off x="250920" y="1341360"/>
            <a:ext cx="8426520" cy="8571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Ec"/>
          <p:cNvPicPr/>
          <p:nvPr/>
        </p:nvPicPr>
        <p:blipFill>
          <a:blip r:embed="rId2"/>
          <a:stretch/>
        </p:blipFill>
        <p:spPr>
          <a:xfrm>
            <a:off x="971640" y="3141720"/>
            <a:ext cx="7626240" cy="8827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" descr="Ec"/>
          <p:cNvPicPr/>
          <p:nvPr/>
        </p:nvPicPr>
        <p:blipFill>
          <a:blip r:embed="rId3"/>
          <a:srcRect l="0" t="0" r="55262" b="0"/>
          <a:stretch/>
        </p:blipFill>
        <p:spPr>
          <a:xfrm>
            <a:off x="1476360" y="4365720"/>
            <a:ext cx="3095640" cy="92700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5"/>
          <p:cNvSpPr/>
          <p:nvPr/>
        </p:nvSpPr>
        <p:spPr>
          <a:xfrm>
            <a:off x="2916360" y="26028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formación verda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Ec"/>
          <p:cNvPicPr/>
          <p:nvPr/>
        </p:nvPicPr>
        <p:blipFill>
          <a:blip r:embed="rId1"/>
          <a:stretch/>
        </p:blipFill>
        <p:spPr>
          <a:xfrm>
            <a:off x="1476360" y="907920"/>
            <a:ext cx="6912000" cy="7257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" descr="Ec"/>
          <p:cNvPicPr/>
          <p:nvPr/>
        </p:nvPicPr>
        <p:blipFill>
          <a:blip r:embed="rId2"/>
          <a:srcRect l="0" t="0" r="64773" b="0"/>
          <a:stretch/>
        </p:blipFill>
        <p:spPr>
          <a:xfrm>
            <a:off x="826920" y="2781360"/>
            <a:ext cx="2664000" cy="10652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Ec"/>
          <p:cNvPicPr/>
          <p:nvPr/>
        </p:nvPicPr>
        <p:blipFill>
          <a:blip r:embed="rId3"/>
          <a:stretch/>
        </p:blipFill>
        <p:spPr>
          <a:xfrm>
            <a:off x="900000" y="4365720"/>
            <a:ext cx="748836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Ec"/>
          <p:cNvPicPr/>
          <p:nvPr/>
        </p:nvPicPr>
        <p:blipFill>
          <a:blip r:embed="rId1"/>
          <a:stretch/>
        </p:blipFill>
        <p:spPr>
          <a:xfrm>
            <a:off x="1042920" y="907920"/>
            <a:ext cx="7345440" cy="798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3" descr="Ec"/>
          <p:cNvPicPr/>
          <p:nvPr/>
        </p:nvPicPr>
        <p:blipFill>
          <a:blip r:embed="rId2"/>
          <a:stretch/>
        </p:blipFill>
        <p:spPr>
          <a:xfrm>
            <a:off x="826920" y="2708280"/>
            <a:ext cx="73454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Ec"/>
          <p:cNvPicPr/>
          <p:nvPr/>
        </p:nvPicPr>
        <p:blipFill>
          <a:blip r:embed="rId1"/>
          <a:stretch/>
        </p:blipFill>
        <p:spPr>
          <a:xfrm>
            <a:off x="1187280" y="2565360"/>
            <a:ext cx="67280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ímites superior e inferior del módulo de Young de materiales compues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441648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Ec"/>
          <p:cNvPicPr/>
          <p:nvPr/>
        </p:nvPicPr>
        <p:blipFill>
          <a:blip r:embed="rId1"/>
          <a:stretch/>
        </p:blipFill>
        <p:spPr>
          <a:xfrm>
            <a:off x="1763640" y="836640"/>
            <a:ext cx="5784840" cy="11304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3" descr="Ec"/>
          <p:cNvPicPr/>
          <p:nvPr/>
        </p:nvPicPr>
        <p:blipFill>
          <a:blip r:embed="rId2"/>
          <a:stretch/>
        </p:blipFill>
        <p:spPr>
          <a:xfrm>
            <a:off x="579600" y="5013360"/>
            <a:ext cx="8564400" cy="109044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Ec"/>
          <p:cNvPicPr/>
          <p:nvPr/>
        </p:nvPicPr>
        <p:blipFill>
          <a:blip r:embed="rId3"/>
          <a:stretch/>
        </p:blipFill>
        <p:spPr>
          <a:xfrm>
            <a:off x="1116000" y="2708280"/>
            <a:ext cx="69850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Ec"/>
          <p:cNvPicPr/>
          <p:nvPr/>
        </p:nvPicPr>
        <p:blipFill>
          <a:blip r:embed="rId1"/>
          <a:srcRect l="0" t="0" r="45182" b="0"/>
          <a:stretch/>
        </p:blipFill>
        <p:spPr>
          <a:xfrm>
            <a:off x="0" y="765000"/>
            <a:ext cx="4835520" cy="11638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3" descr="Ec"/>
          <p:cNvPicPr/>
          <p:nvPr/>
        </p:nvPicPr>
        <p:blipFill>
          <a:blip r:embed="rId2"/>
          <a:stretch/>
        </p:blipFill>
        <p:spPr>
          <a:xfrm>
            <a:off x="879480" y="2421000"/>
            <a:ext cx="7345440" cy="9777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Ec"/>
          <p:cNvPicPr/>
          <p:nvPr/>
        </p:nvPicPr>
        <p:blipFill>
          <a:blip r:embed="rId3"/>
          <a:srcRect l="0" t="0" r="65665" b="0"/>
          <a:stretch/>
        </p:blipFill>
        <p:spPr>
          <a:xfrm>
            <a:off x="971640" y="4292640"/>
            <a:ext cx="25477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NSAYOS MECAN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5" descr=""/>
          <p:cNvPicPr/>
          <p:nvPr/>
        </p:nvPicPr>
        <p:blipFill>
          <a:blip r:embed="rId1"/>
          <a:stretch/>
        </p:blipFill>
        <p:spPr>
          <a:xfrm>
            <a:off x="1063800" y="2390760"/>
            <a:ext cx="6669000" cy="3341880"/>
          </a:xfrm>
          <a:prstGeom prst="rect">
            <a:avLst/>
          </a:prstGeom>
          <a:ln w="0">
            <a:noFill/>
          </a:ln>
        </p:spPr>
      </p:pic>
      <p:sp>
        <p:nvSpPr>
          <p:cNvPr id="571" name="1 CuadroTexto"/>
          <p:cNvSpPr/>
          <p:nvPr/>
        </p:nvSpPr>
        <p:spPr>
          <a:xfrm>
            <a:off x="2843280" y="981000"/>
            <a:ext cx="338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ortamiento elástico lin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5" descr=""/>
          <p:cNvPicPr/>
          <p:nvPr/>
        </p:nvPicPr>
        <p:blipFill>
          <a:blip r:embed="rId1"/>
          <a:stretch/>
        </p:blipFill>
        <p:spPr>
          <a:xfrm>
            <a:off x="1182600" y="2409840"/>
            <a:ext cx="7048440" cy="3467160"/>
          </a:xfrm>
          <a:prstGeom prst="rect">
            <a:avLst/>
          </a:prstGeom>
          <a:ln w="0">
            <a:noFill/>
          </a:ln>
        </p:spPr>
      </p:pic>
      <p:sp>
        <p:nvSpPr>
          <p:cNvPr id="573" name="1 CuadroTexto"/>
          <p:cNvSpPr/>
          <p:nvPr/>
        </p:nvSpPr>
        <p:spPr>
          <a:xfrm>
            <a:off x="2268360" y="765000"/>
            <a:ext cx="4607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ortamiento elástico no-lineal (go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796000" cy="3370320"/>
          </a:xfrm>
          <a:prstGeom prst="rect">
            <a:avLst/>
          </a:prstGeom>
          <a:ln w="0">
            <a:noFill/>
          </a:ln>
        </p:spPr>
      </p:pic>
      <p:sp>
        <p:nvSpPr>
          <p:cNvPr id="575" name="1 CuadroTexto"/>
          <p:cNvSpPr/>
          <p:nvPr/>
        </p:nvSpPr>
        <p:spPr>
          <a:xfrm>
            <a:off x="3492360" y="620640"/>
            <a:ext cx="3311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apas del ensayo de 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3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4986360" cy="3465720"/>
          </a:xfrm>
          <a:prstGeom prst="rect">
            <a:avLst/>
          </a:prstGeom>
          <a:ln w="0">
            <a:noFill/>
          </a:ln>
        </p:spPr>
      </p:pic>
      <p:sp>
        <p:nvSpPr>
          <p:cNvPr id="577" name="1 CuadroTexto"/>
          <p:cNvSpPr/>
          <p:nvPr/>
        </p:nvSpPr>
        <p:spPr>
          <a:xfrm>
            <a:off x="2411280" y="620640"/>
            <a:ext cx="3745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istencia máxima a la 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5216400" cy="4246560"/>
          </a:xfrm>
          <a:prstGeom prst="rect">
            <a:avLst/>
          </a:prstGeom>
          <a:ln w="0">
            <a:noFill/>
          </a:ln>
        </p:spPr>
      </p:pic>
      <p:sp>
        <p:nvSpPr>
          <p:cNvPr id="579" name="1 CuadroTexto"/>
          <p:cNvSpPr/>
          <p:nvPr/>
        </p:nvSpPr>
        <p:spPr>
          <a:xfrm>
            <a:off x="1835280" y="549360"/>
            <a:ext cx="5976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rminación de propiedades mecánicas en un ensayo de 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5:05:32Z</dcterms:created>
  <dc:creator>Gladys Leiva</dc:creator>
  <dc:description/>
  <dc:language>en-US</dc:language>
  <cp:lastModifiedBy>Rodrigo Palma</cp:lastModifiedBy>
  <dcterms:modified xsi:type="dcterms:W3CDTF">2011-10-27T12:25:48Z</dcterms:modified>
  <cp:revision>10</cp:revision>
  <dc:subject/>
  <dc:title>Diapositiva 1</dc:title>
</cp:coreProperties>
</file>