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2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4.wmf" ContentType="image/x-wmf"/>
  <Override PartName="/ppt/media/image3.wmf" ContentType="image/x-wmf"/>
  <Override PartName="/ppt/media/image5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media/image32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33.png" ContentType="image/png"/>
  <Override PartName="/ppt/media/image46.jpeg" ContentType="image/jpeg"/>
  <Override PartName="/ppt/media/image49.jpeg" ContentType="image/jpeg"/>
  <Override PartName="/ppt/media/image7.wmf" ContentType="image/x-wmf"/>
  <Override PartName="/ppt/media/image31.png" ContentType="image/png"/>
  <Override PartName="/ppt/media/image30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39.jpeg" ContentType="image/jpeg"/>
  <Override PartName="/ppt/media/image16.wmf" ContentType="image/x-wmf"/>
  <Override PartName="/ppt/media/image45.jpeg" ContentType="image/jpeg"/>
  <Override PartName="/ppt/media/image11.wmf" ContentType="image/x-wmf"/>
  <Override PartName="/ppt/media/image47.jpeg" ContentType="image/jpeg"/>
  <Override PartName="/ppt/media/image6.wmf" ContentType="image/x-wmf"/>
  <Override PartName="/ppt/media/image10.wmf" ContentType="image/x-wmf"/>
  <Override PartName="/ppt/media/image42.jpeg" ContentType="image/jpeg"/>
  <Override PartName="/ppt/media/image25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E15-DBB7-430E-9C74-244D1A47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24E-98D0-4CD5-B91C-5DE52508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EB639-33EF-483A-89B4-A18F331F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6B005-03CB-4CEB-BD29-36376A65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C936E-6F80-4C92-99F4-7CF6D9BB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6C56E-C8BA-458F-AF32-BD128AFB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F499D-AB36-4B71-8206-62F1F07A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E3D43-1CFE-4378-9081-F9E779B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B8BED-20C9-4234-BEFF-A8656098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C6D49-BAE3-4517-9CCE-2020C9A2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1C1EC-B652-460D-832D-FB29E7DD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DA2E3-1467-4727-A6D4-BD4C1DEE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1A8-BAA2-445B-9E5F-A39892EF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15F61-E72E-47E1-A5EA-20FA7973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2C899-3750-4141-AD09-472E332B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B9B32-89AE-4EBA-8082-F3518C1C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D3202-0E5A-497D-8858-DBDFECCD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ED6B6-41EC-4089-A1FE-8BDC561B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54710-16D2-4298-935C-9B6CAE23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62901-92D4-4FCF-9F7E-68744238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99D82-D792-45BA-8E5D-A5A80C09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F74D5-E66A-49AD-94B2-4888BF1F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F76CD-E3A2-41D2-A6C3-8A83F67F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A39-ECD4-411A-AF19-6D9D02BF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112AD-ACBF-41C0-9608-D51D7F88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3310A-6920-4827-94ED-C9DFF8A1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1CEB1-6DFC-44C1-99F3-437FE444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B1819-210E-462C-AB71-D9FDA8AB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A3FA4-EC11-4E42-BE05-8C9F1D7C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205B0-056C-4F46-87A0-9869D7E1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6AE42-1220-48F6-A500-AA8E6DFF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C8538-CE41-4C05-A0B5-D6CEAF5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8875B-6F40-42AC-BCE8-050B634D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2CB63-C293-40B1-813D-0D8B4397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C017-0FD9-40BB-BFC9-C2B9EFF1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285C4-7089-4CF1-9A98-A831CFB9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9E927-55E4-4AD3-A63E-A63C56AB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8995F-CF11-4B94-8B32-209C8ADC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237F4-DA0B-4950-A828-7EB28287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B8A4C-A868-4520-BB97-39147EC2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FF7B5-A83F-41DC-B4A2-BAE49722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F179A-65F1-4936-B0EA-2CACEE77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7775F-BE57-4FFD-B0E5-4F584C7D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C7857-12D9-4EB1-9A0F-B11A268C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45B26-9366-455F-B78D-5BFF8374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FC2A-E475-41FE-A9F0-7448E527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90EEB-9C68-45C8-8B57-E58F35E6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E112C-524F-4FB6-A58A-785119F8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384D7-F625-4839-B5DC-2976D689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B8C36-B4CB-4470-BB73-71745F1E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7301E-9C98-4694-A0B0-6CFF9BFF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92293-BEE4-4E8E-9345-AA93BE26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C141E-9786-4AC3-A9F1-04598F6B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6C5A8-65CB-4FCD-AAD5-3B8A3DFD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6586D-1F34-490D-9EE2-1291DAE6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13B13-371A-441B-A69E-E5D1B23A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A21A-1C5F-4AA6-84AB-1D60921E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818C4-8721-4BBE-A983-60BC28C2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7466F-1269-4FDB-846E-E550BB45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7AC78-D78A-45C3-A3AC-69CCD16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F9428-12FD-4E46-9BC2-8A270F69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CE29A-79E3-4177-818F-77515A12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819A1-3E79-4491-AE55-F1F0C085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EADA4-DBED-4C0E-B67E-4C5AEC40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22A1-DBB1-4214-82DF-C558B869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C02E-3922-49C5-9E38-7E628349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5B77-6F7B-49D5-B7B5-560AF1AB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958E-4A05-46CD-A121-3BC58EB4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9AE-2419-454E-BF41-3B0F3F39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C0D8-9902-4E97-817F-C76AFA11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EDCE-96D8-419D-A540-769F436D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8671-2020-4FD1-9964-93A0F888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9DD7-F070-4BE7-B90D-07A8463C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FD25-D742-4043-888C-E4FD46E7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EA20-2507-4780-8043-208E4442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F1D5-24D2-495F-AEB1-9E559506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8C20-DEE5-4332-BDEA-D69BD0FB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69E6-3246-4AC0-9803-9D51B4CD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8FF8B-D7B5-4B23-A12C-0F290512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F47-5C9A-47D8-A12F-89D0F884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3940-0081-49A1-AE70-1172F3F3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6D1D-8C8F-4A94-AB91-D65A2BC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49EC-D1DA-4F6D-9E39-6D8F7B8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64FD-2F1B-4DE4-8D31-32E2D50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2831-2C2D-4DED-BE68-511813BC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4B7C4-5004-4ADD-B3DC-B9CBABEA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63FA-0D7D-49E0-A884-B52B39B8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77B5-DAA5-475F-BEDC-579B7FD4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7C860-32B0-42B9-9B15-D6834EC1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8F47-CD83-4197-9EB0-45080B03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05D-80F0-4BB9-814D-25A027ED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03CA-B2D6-4028-9936-16F3A6EE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F80A1-3078-4719-BB93-D29AB2A3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F6551-CF5D-4578-AE11-2DEAE09A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FE66-5EDA-48D3-90CE-1ED07105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088D6-AD21-474B-82CD-3AE69266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1EF88-DF49-4C65-A6C8-058B625E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E7FC0-9F76-4507-BB2C-70C0169C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3E72-1FF8-409E-B5B4-384B47B3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7A1C-BFDB-4BAC-A789-6C6D04EA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B6853-1441-4989-BD21-0F921E37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A3F-5E31-4CE4-9910-F357530C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9B7D0-0EF1-4D43-B614-835208D9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81C0C-905E-42E9-9131-284794D4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BB29-4302-49F4-80CD-9E9083CA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1B06F-E9C2-4972-B9B1-76555077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FECCF-DDB0-435D-A65A-C0D21C56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0F5E-1408-48A0-A77B-103936A6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9463D-933E-4E12-A005-4756450A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8DC6F-7A25-4A3A-9250-FD775EBF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B7A0-31FF-4182-A275-FC5F1315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136A-7C97-4052-B8F9-C30FC21C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726-1BCA-4248-8705-94E0AE78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CEE25-47D3-454C-BC3F-DB3E867B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ED79-CFC0-4975-9E66-8DD7B84F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EB31E-8110-49DE-9422-FE1B328C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1CFBD-C55A-447B-94A9-7D4AC0EC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D685F-E148-4775-8980-648E59CF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02D24-120F-417C-A181-BCCB0CBE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2724F-7F14-4C76-836C-C510AD07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0C8AA-857E-446F-BFF1-B2793A3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98440-EDA9-4037-96A2-B79A4EAD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12AF3-8BF8-44C4-A43D-562E305D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B81-042B-4A4C-B89E-02CE5E1C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0E89B-B59C-4D8D-A850-B4EE58A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E265-A4CF-4408-8FCF-7030CBE4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2593F-C83A-4C46-9F17-69BB0200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3E829-383C-45BF-BFCC-6A1AA11B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30759-BB8A-4ECD-BCE4-1F830DEA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1B1BF-13E8-4642-BE4F-A26E04BA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D3CD1-74A7-4F6F-ACF2-F5D2356A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4D4D1-CB8E-423C-B2B9-2CA989E9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5254C-A4D3-4919-A1DB-AFA13A8F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2792D-059C-42C5-89A2-C561AAE8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0D2-F0CB-4580-A7CF-8EAB4C96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9A4CF-F0B2-46DE-B932-04215A3C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AD4E6-BEA4-4436-89F5-813C0FBB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C4CC7-98AB-4F40-93E6-B4FC8B66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9C13B-A4AF-461C-8A8A-846C4FD4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1B2AE-2C56-4E06-BFE6-BD50B245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FD961-E9AE-4A15-9B30-2E210219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4B824-E943-491B-BCA0-4752CA00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86B07-F84A-4909-BFB3-167276FC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079D-AC89-4D1D-AA52-A3D1463B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D191-CAE8-496C-BB85-97AB4A45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1F5-2258-4156-B986-2C021B5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C717C-CBAF-4D42-A13E-7E578A17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D343F-107C-410B-8EA6-B0586C06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D306F-A0E9-4C02-9742-4929902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6F267-64DB-4CCF-976D-0A220288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6B6CE-EFE0-4912-9362-1FA4F9D6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B7202-1A43-4AE9-8369-713540AB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38D1-3C5B-4386-988F-EF5D7D47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4F746-AD8F-4A10-999B-2542FD5D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FFD88-2E83-4FE8-A8E2-E623F2A0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617B4-CFB9-4375-9C83-990DCAAB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F7EB-597D-45E5-B162-A2BF591A12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F3C2-D049-44BD-AA82-921C18265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F9EC-6312-411E-A5DE-39615D90F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25A1-98EC-4A41-89C6-F11C5851F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30F2-B047-441E-A65E-01E65124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1FA7-DFCF-4A02-B9F6-D90DE30D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3C16-52E6-4A43-AA73-9808316AB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E423-0B58-43AD-BE4A-8E31737A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A5FE-EFFC-42C8-9C2B-77449C589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2B32-89E7-4059-B2BF-05521CB2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F4E3-055F-40F1-A706-2D1253C7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02BE-0DBE-4CAE-9DC0-94209F8E8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48D5-DBAF-499A-90AD-B11FE644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ulo de Young de materiales co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2367000" y="404640"/>
            <a:ext cx="58212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539640" y="595440"/>
            <a:ext cx="813132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278000" y="1573200"/>
            <a:ext cx="6794280" cy="4095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686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085760" y="765000"/>
            <a:ext cx="751680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2484360" y="404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U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305400" cy="25797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"/>
          <p:cNvPicPr/>
          <p:nvPr/>
        </p:nvPicPr>
        <p:blipFill>
          <a:blip r:embed="rId2"/>
          <a:stretch/>
        </p:blipFill>
        <p:spPr>
          <a:xfrm>
            <a:off x="3851280" y="5589720"/>
            <a:ext cx="12272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Fig"/>
          <p:cNvPicPr/>
          <p:nvPr/>
        </p:nvPicPr>
        <p:blipFill>
          <a:blip r:embed="rId1"/>
          <a:stretch/>
        </p:blipFill>
        <p:spPr>
          <a:xfrm>
            <a:off x="324000" y="1125360"/>
            <a:ext cx="8532720" cy="3464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2771640" y="47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de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Fig"/>
          <p:cNvPicPr/>
          <p:nvPr/>
        </p:nvPicPr>
        <p:blipFill>
          <a:blip r:embed="rId2"/>
          <a:stretch/>
        </p:blipFill>
        <p:spPr>
          <a:xfrm>
            <a:off x="1476360" y="4724280"/>
            <a:ext cx="6838920" cy="14511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3492360" y="638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c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6240600" cy="4680000"/>
          </a:xfrm>
          <a:prstGeom prst="rect">
            <a:avLst/>
          </a:prstGeom>
          <a:ln w="0">
            <a:noFill/>
          </a:ln>
        </p:spPr>
      </p:pic>
      <p:sp>
        <p:nvSpPr>
          <p:cNvPr id="593" name="1 CuadroTexto"/>
          <p:cNvSpPr/>
          <p:nvPr/>
        </p:nvSpPr>
        <p:spPr>
          <a:xfrm>
            <a:off x="108000" y="230040"/>
            <a:ext cx="30240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 la fractura dúct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cleación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alescencia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e en la superf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68360" y="291960"/>
            <a:ext cx="2241360" cy="17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erficies de la frac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Scan10555"/>
          <p:cNvPicPr/>
          <p:nvPr/>
        </p:nvPicPr>
        <p:blipFill>
          <a:blip r:embed="rId1"/>
          <a:stretch/>
        </p:blipFill>
        <p:spPr>
          <a:xfrm>
            <a:off x="3132000" y="291960"/>
            <a:ext cx="5827680" cy="6193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: fractura de una cañ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88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ctura Dúctil transgranular: coalescencia de microhue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Scan10556"/>
          <p:cNvPicPr/>
          <p:nvPr/>
        </p:nvPicPr>
        <p:blipFill>
          <a:blip r:embed="rId1"/>
          <a:stretch/>
        </p:blipFill>
        <p:spPr>
          <a:xfrm>
            <a:off x="2771640" y="2133720"/>
            <a:ext cx="3400560" cy="32875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 de materiales compuestos lamin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5496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1895760" cy="314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5116680" y="2060640"/>
            <a:ext cx="2390760" cy="371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4925880" y="2808360"/>
            <a:ext cx="2772000" cy="371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"/>
          <p:cNvPicPr/>
          <p:nvPr/>
        </p:nvPicPr>
        <p:blipFill>
          <a:blip r:embed="rId5"/>
          <a:stretch/>
        </p:blipFill>
        <p:spPr>
          <a:xfrm>
            <a:off x="5435640" y="2432160"/>
            <a:ext cx="1400040" cy="399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315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frágil transgranular: cliv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Scan10557"/>
          <p:cNvPicPr/>
          <p:nvPr/>
        </p:nvPicPr>
        <p:blipFill>
          <a:blip r:embed="rId1"/>
          <a:stretch/>
        </p:blipFill>
        <p:spPr>
          <a:xfrm>
            <a:off x="2484360" y="2276640"/>
            <a:ext cx="4213440" cy="3365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Intergran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Scan10558"/>
          <p:cNvPicPr/>
          <p:nvPr/>
        </p:nvPicPr>
        <p:blipFill>
          <a:blip r:embed="rId1"/>
          <a:stretch/>
        </p:blipFill>
        <p:spPr>
          <a:xfrm>
            <a:off x="622440" y="1773360"/>
            <a:ext cx="7812000" cy="42116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 real o verdad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C:\Users\Rodrigo Palma\Pictures\2011-10-27 n\n 001.jpg"/>
          <p:cNvPicPr/>
          <p:nvPr/>
        </p:nvPicPr>
        <p:blipFill>
          <a:blip r:embed="rId1"/>
          <a:stretch/>
        </p:blipFill>
        <p:spPr>
          <a:xfrm>
            <a:off x="5580000" y="3813120"/>
            <a:ext cx="2648160" cy="19652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6" name="Picture 3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097440" cy="927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C:\Users\Rodrigo Palma\Pictures\2011-10-27 real\real 001.jpg"/>
          <p:cNvPicPr/>
          <p:nvPr/>
        </p:nvPicPr>
        <p:blipFill>
          <a:blip r:embed="rId3"/>
          <a:stretch/>
        </p:blipFill>
        <p:spPr>
          <a:xfrm>
            <a:off x="1403280" y="3573360"/>
            <a:ext cx="2670120" cy="24465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8" name="Picture 6" descr=""/>
          <p:cNvPicPr/>
          <p:nvPr/>
        </p:nvPicPr>
        <p:blipFill>
          <a:blip r:embed="rId4"/>
          <a:stretch/>
        </p:blipFill>
        <p:spPr>
          <a:xfrm>
            <a:off x="3780000" y="1844640"/>
            <a:ext cx="4833720" cy="11588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5"/>
          <a:stretch/>
        </p:blipFill>
        <p:spPr>
          <a:xfrm>
            <a:off x="130320" y="2328840"/>
            <a:ext cx="2547720" cy="8906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C:\Users\Rodrigo Palma\Pictures\2011-10-27 K N\K N 001.jpg"/>
          <p:cNvPicPr/>
          <p:nvPr/>
        </p:nvPicPr>
        <p:blipFill>
          <a:blip r:embed="rId6"/>
          <a:stretch/>
        </p:blipFill>
        <p:spPr>
          <a:xfrm>
            <a:off x="1911240" y="3579840"/>
            <a:ext cx="981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2B4A-CA5D-48E9-888B-60F481C0D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nsayo de Impacto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2297160" y="2313000"/>
            <a:ext cx="5421960" cy="4233960"/>
            <a:chOff x="2297160" y="2313000"/>
            <a:chExt cx="5421960" cy="4233960"/>
          </a:xfrm>
        </p:grpSpPr>
        <p:pic>
          <p:nvPicPr>
            <p:cNvPr id="614" name="Picture 6" descr="Fig 8_12"/>
            <p:cNvPicPr/>
            <p:nvPr/>
          </p:nvPicPr>
          <p:blipFill>
            <a:blip r:embed="rId1"/>
            <a:stretch/>
          </p:blipFill>
          <p:spPr>
            <a:xfrm>
              <a:off x="2297160" y="2313000"/>
              <a:ext cx="4886280" cy="42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Rectangle 7"/>
            <p:cNvSpPr/>
            <p:nvPr/>
          </p:nvSpPr>
          <p:spPr>
            <a:xfrm>
              <a:off x="2368080" y="5802480"/>
              <a:ext cx="86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fin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8"/>
            <p:cNvGrpSpPr/>
            <p:nvPr/>
          </p:nvGrpSpPr>
          <p:grpSpPr>
            <a:xfrm>
              <a:off x="3244680" y="4135320"/>
              <a:ext cx="3558600" cy="2193480"/>
              <a:chOff x="3244680" y="4135320"/>
              <a:chExt cx="3558600" cy="2193480"/>
            </a:xfrm>
          </p:grpSpPr>
          <p:sp>
            <p:nvSpPr>
              <p:cNvPr id="617" name="Line 9"/>
              <p:cNvSpPr/>
              <p:nvPr/>
            </p:nvSpPr>
            <p:spPr>
              <a:xfrm>
                <a:off x="3322440" y="6327000"/>
                <a:ext cx="3402720" cy="1800"/>
              </a:xfrm>
              <a:prstGeom prst="line">
                <a:avLst/>
              </a:prstGeom>
              <a:ln w="20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Group 10"/>
              <p:cNvGrpSpPr/>
              <p:nvPr/>
            </p:nvGrpSpPr>
            <p:grpSpPr>
              <a:xfrm>
                <a:off x="6614640" y="4135320"/>
                <a:ext cx="188640" cy="2185920"/>
                <a:chOff x="6614640" y="4135320"/>
                <a:chExt cx="188640" cy="2185920"/>
              </a:xfrm>
            </p:grpSpPr>
            <p:sp>
              <p:nvSpPr>
                <p:cNvPr id="619" name="Freeform 11"/>
                <p:cNvSpPr/>
                <p:nvPr/>
              </p:nvSpPr>
              <p:spPr>
                <a:xfrm>
                  <a:off x="6614640" y="4135320"/>
                  <a:ext cx="188640" cy="2066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6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"/>
                <p:cNvSpPr/>
                <p:nvPr/>
              </p:nvSpPr>
              <p:spPr>
                <a:xfrm flipV="1">
                  <a:off x="6708600" y="4276080"/>
                  <a:ext cx="2520" cy="204516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13"/>
              <p:cNvGrpSpPr/>
              <p:nvPr/>
            </p:nvGrpSpPr>
            <p:grpSpPr>
              <a:xfrm>
                <a:off x="3244680" y="5281200"/>
                <a:ext cx="174600" cy="1044720"/>
                <a:chOff x="3244680" y="5281200"/>
                <a:chExt cx="174600" cy="1044720"/>
              </a:xfrm>
            </p:grpSpPr>
            <p:sp>
              <p:nvSpPr>
                <p:cNvPr id="622" name="Freeform 14"/>
                <p:cNvSpPr/>
                <p:nvPr/>
              </p:nvSpPr>
              <p:spPr>
                <a:xfrm>
                  <a:off x="3244680" y="5281200"/>
                  <a:ext cx="174600" cy="1908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0800"/>
                    <a:gd name="textAreaBottom" fmla="*/ 191160 h 19080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7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5"/>
                <p:cNvSpPr/>
                <p:nvPr/>
              </p:nvSpPr>
              <p:spPr>
                <a:xfrm flipV="1">
                  <a:off x="3331800" y="5413320"/>
                  <a:ext cx="1800" cy="91260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" name="Rectangle 16"/>
            <p:cNvSpPr/>
            <p:nvPr/>
          </p:nvSpPr>
          <p:spPr>
            <a:xfrm>
              <a:off x="6775200" y="58024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initi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Rectangle 17"/>
          <p:cNvSpPr/>
          <p:nvPr/>
        </p:nvSpPr>
        <p:spPr>
          <a:xfrm>
            <a:off x="522360" y="1155600"/>
            <a:ext cx="469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ga de Impa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s el caso mas severo de ca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l material se comporta más frág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8"/>
          <p:cNvSpPr/>
          <p:nvPr/>
        </p:nvSpPr>
        <p:spPr>
          <a:xfrm>
            <a:off x="293760" y="2798640"/>
            <a:ext cx="243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8.12(b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Fig. 8.12(b) is adapted from H.W. Hayden, W.G. Moffatt, and J. Wulff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Structure and Properties of Materi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. III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chanical Behavi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ohn Wiley and Sons, Inc. (1965) p. 13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9"/>
          <p:cNvGrpSpPr/>
          <p:nvPr/>
        </p:nvGrpSpPr>
        <p:grpSpPr>
          <a:xfrm>
            <a:off x="6486480" y="1154160"/>
            <a:ext cx="1917720" cy="1805040"/>
            <a:chOff x="6486480" y="1154160"/>
            <a:chExt cx="1917720" cy="1805040"/>
          </a:xfrm>
        </p:grpSpPr>
        <p:pic>
          <p:nvPicPr>
            <p:cNvPr id="628" name="Picture 20" descr=""/>
            <p:cNvPicPr/>
            <p:nvPr/>
          </p:nvPicPr>
          <p:blipFill>
            <a:blip r:embed="rId2"/>
            <a:stretch/>
          </p:blipFill>
          <p:spPr>
            <a:xfrm>
              <a:off x="6486480" y="1484280"/>
              <a:ext cx="19177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Rectangle 21"/>
            <p:cNvSpPr/>
            <p:nvPr/>
          </p:nvSpPr>
          <p:spPr>
            <a:xfrm>
              <a:off x="6525000" y="1154160"/>
              <a:ext cx="88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(Charp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22"/>
            <p:cNvGrpSpPr/>
            <p:nvPr/>
          </p:nvGrpSpPr>
          <p:grpSpPr>
            <a:xfrm>
              <a:off x="7031160" y="1395360"/>
              <a:ext cx="164880" cy="444600"/>
              <a:chOff x="7031160" y="1395360"/>
              <a:chExt cx="164880" cy="444600"/>
            </a:xfrm>
          </p:grpSpPr>
          <p:sp>
            <p:nvSpPr>
              <p:cNvPr id="631" name="Freeform 23"/>
              <p:cNvSpPr/>
              <p:nvPr/>
            </p:nvSpPr>
            <p:spPr>
              <a:xfrm>
                <a:off x="7056360" y="1662120"/>
                <a:ext cx="139680" cy="1778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88" h="112">
                    <a:moveTo>
                      <a:pt x="80" y="112"/>
                    </a:moveTo>
                    <a:lnTo>
                      <a:pt x="0" y="32"/>
                    </a:lnTo>
                    <a:lnTo>
                      <a:pt x="56" y="48"/>
                    </a:lnTo>
                    <a:lnTo>
                      <a:pt x="88" y="0"/>
                    </a:lnTo>
                    <a:lnTo>
                      <a:pt x="80" y="112"/>
                    </a:lnTo>
                    <a:close/>
                  </a:path>
                </a:pathLst>
              </a:custGeom>
              <a:solidFill>
                <a:srgbClr val="006600"/>
              </a:solidFill>
              <a:ln w="1260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24"/>
              <p:cNvSpPr/>
              <p:nvPr/>
            </p:nvSpPr>
            <p:spPr>
              <a:xfrm>
                <a:off x="7031160" y="1395360"/>
                <a:ext cx="114120" cy="343080"/>
              </a:xfrm>
              <a:prstGeom prst="line">
                <a:avLst/>
              </a:prstGeom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0000"/>
                </a:solidFill>
                <a:latin typeface="Arial"/>
              </a:rPr>
              <a:t>Curva de impacto  de un acero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13E6-D4F6-4D95-B0E4-7B89E9E38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1355760" y="1203480"/>
            <a:ext cx="6454800" cy="4892400"/>
          </a:xfrm>
          <a:prstGeom prst="rect">
            <a:avLst/>
          </a:prstGeom>
          <a:ln w="0">
            <a:noFill/>
          </a:ln>
        </p:spPr>
      </p:pic>
      <p:sp>
        <p:nvSpPr>
          <p:cNvPr id="636" name="5 Rectángulo"/>
          <p:cNvSpPr/>
          <p:nvPr/>
        </p:nvSpPr>
        <p:spPr>
          <a:xfrm>
            <a:off x="4140360" y="4292640"/>
            <a:ext cx="309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7 Rectángulo"/>
          <p:cNvSpPr/>
          <p:nvPr/>
        </p:nvSpPr>
        <p:spPr>
          <a:xfrm>
            <a:off x="2428920" y="2276640"/>
            <a:ext cx="201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Ec"/>
          <p:cNvPicPr/>
          <p:nvPr/>
        </p:nvPicPr>
        <p:blipFill>
          <a:blip r:embed="rId1"/>
          <a:stretch/>
        </p:blipFill>
        <p:spPr>
          <a:xfrm>
            <a:off x="250920" y="1341360"/>
            <a:ext cx="8426520" cy="8571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Ec"/>
          <p:cNvPicPr/>
          <p:nvPr/>
        </p:nvPicPr>
        <p:blipFill>
          <a:blip r:embed="rId2"/>
          <a:stretch/>
        </p:blipFill>
        <p:spPr>
          <a:xfrm>
            <a:off x="971640" y="3141720"/>
            <a:ext cx="7626240" cy="8827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Ec"/>
          <p:cNvPicPr/>
          <p:nvPr/>
        </p:nvPicPr>
        <p:blipFill>
          <a:blip r:embed="rId3"/>
          <a:srcRect l="0" t="0" r="55262" b="0"/>
          <a:stretch/>
        </p:blipFill>
        <p:spPr>
          <a:xfrm>
            <a:off x="1476360" y="4365720"/>
            <a:ext cx="3095640" cy="9270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5"/>
          <p:cNvSpPr/>
          <p:nvPr/>
        </p:nvSpPr>
        <p:spPr>
          <a:xfrm>
            <a:off x="2916360" y="26028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ormación verd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Ec"/>
          <p:cNvPicPr/>
          <p:nvPr/>
        </p:nvPicPr>
        <p:blipFill>
          <a:blip r:embed="rId1"/>
          <a:stretch/>
        </p:blipFill>
        <p:spPr>
          <a:xfrm>
            <a:off x="1476360" y="907920"/>
            <a:ext cx="6912000" cy="7257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Ec"/>
          <p:cNvPicPr/>
          <p:nvPr/>
        </p:nvPicPr>
        <p:blipFill>
          <a:blip r:embed="rId2"/>
          <a:srcRect l="0" t="0" r="64773" b="0"/>
          <a:stretch/>
        </p:blipFill>
        <p:spPr>
          <a:xfrm>
            <a:off x="826920" y="2781360"/>
            <a:ext cx="2664000" cy="10652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Ec"/>
          <p:cNvPicPr/>
          <p:nvPr/>
        </p:nvPicPr>
        <p:blipFill>
          <a:blip r:embed="rId3"/>
          <a:stretch/>
        </p:blipFill>
        <p:spPr>
          <a:xfrm>
            <a:off x="900000" y="4365720"/>
            <a:ext cx="748836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Ec"/>
          <p:cNvPicPr/>
          <p:nvPr/>
        </p:nvPicPr>
        <p:blipFill>
          <a:blip r:embed="rId1"/>
          <a:stretch/>
        </p:blipFill>
        <p:spPr>
          <a:xfrm>
            <a:off x="1042920" y="907920"/>
            <a:ext cx="7345440" cy="798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Ec"/>
          <p:cNvPicPr/>
          <p:nvPr/>
        </p:nvPicPr>
        <p:blipFill>
          <a:blip r:embed="rId2"/>
          <a:stretch/>
        </p:blipFill>
        <p:spPr>
          <a:xfrm>
            <a:off x="826920" y="2708280"/>
            <a:ext cx="73454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Ec"/>
          <p:cNvPicPr/>
          <p:nvPr/>
        </p:nvPicPr>
        <p:blipFill>
          <a:blip r:embed="rId1"/>
          <a:stretch/>
        </p:blipFill>
        <p:spPr>
          <a:xfrm>
            <a:off x="1187280" y="2565360"/>
            <a:ext cx="6728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ímites superior e inferior del módulo de Young de materiales compue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416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Ec"/>
          <p:cNvPicPr/>
          <p:nvPr/>
        </p:nvPicPr>
        <p:blipFill>
          <a:blip r:embed="rId1"/>
          <a:stretch/>
        </p:blipFill>
        <p:spPr>
          <a:xfrm>
            <a:off x="1763640" y="836640"/>
            <a:ext cx="5784840" cy="1130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" descr="Ec"/>
          <p:cNvPicPr/>
          <p:nvPr/>
        </p:nvPicPr>
        <p:blipFill>
          <a:blip r:embed="rId2"/>
          <a:stretch/>
        </p:blipFill>
        <p:spPr>
          <a:xfrm>
            <a:off x="579600" y="5013360"/>
            <a:ext cx="8564400" cy="10904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Ec"/>
          <p:cNvPicPr/>
          <p:nvPr/>
        </p:nvPicPr>
        <p:blipFill>
          <a:blip r:embed="rId3"/>
          <a:stretch/>
        </p:blipFill>
        <p:spPr>
          <a:xfrm>
            <a:off x="1116000" y="2708280"/>
            <a:ext cx="6985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Ec"/>
          <p:cNvPicPr/>
          <p:nvPr/>
        </p:nvPicPr>
        <p:blipFill>
          <a:blip r:embed="rId1"/>
          <a:srcRect l="0" t="0" r="45182" b="0"/>
          <a:stretch/>
        </p:blipFill>
        <p:spPr>
          <a:xfrm>
            <a:off x="0" y="765000"/>
            <a:ext cx="4835520" cy="1163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" descr="Ec"/>
          <p:cNvPicPr/>
          <p:nvPr/>
        </p:nvPicPr>
        <p:blipFill>
          <a:blip r:embed="rId2"/>
          <a:stretch/>
        </p:blipFill>
        <p:spPr>
          <a:xfrm>
            <a:off x="879480" y="2421000"/>
            <a:ext cx="7345440" cy="9777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Ec"/>
          <p:cNvPicPr/>
          <p:nvPr/>
        </p:nvPicPr>
        <p:blipFill>
          <a:blip r:embed="rId3"/>
          <a:srcRect l="0" t="0" r="65665" b="0"/>
          <a:stretch/>
        </p:blipFill>
        <p:spPr>
          <a:xfrm>
            <a:off x="971640" y="4292640"/>
            <a:ext cx="2547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SAYOS MECA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5" descr=""/>
          <p:cNvPicPr/>
          <p:nvPr/>
        </p:nvPicPr>
        <p:blipFill>
          <a:blip r:embed="rId1"/>
          <a:stretch/>
        </p:blipFill>
        <p:spPr>
          <a:xfrm>
            <a:off x="1063800" y="2390760"/>
            <a:ext cx="6669000" cy="3341880"/>
          </a:xfrm>
          <a:prstGeom prst="rect">
            <a:avLst/>
          </a:prstGeom>
          <a:ln w="0">
            <a:noFill/>
          </a:ln>
        </p:spPr>
      </p:pic>
      <p:sp>
        <p:nvSpPr>
          <p:cNvPr id="571" name="1 CuadroTexto"/>
          <p:cNvSpPr/>
          <p:nvPr/>
        </p:nvSpPr>
        <p:spPr>
          <a:xfrm>
            <a:off x="2843280" y="981000"/>
            <a:ext cx="33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lin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1182600" y="2409840"/>
            <a:ext cx="7048440" cy="3467160"/>
          </a:xfrm>
          <a:prstGeom prst="rect">
            <a:avLst/>
          </a:prstGeom>
          <a:ln w="0">
            <a:noFill/>
          </a:ln>
        </p:spPr>
      </p:pic>
      <p:sp>
        <p:nvSpPr>
          <p:cNvPr id="573" name="1 CuadroTexto"/>
          <p:cNvSpPr/>
          <p:nvPr/>
        </p:nvSpPr>
        <p:spPr>
          <a:xfrm>
            <a:off x="2268360" y="765000"/>
            <a:ext cx="460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no-lineal (go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796000" cy="3370320"/>
          </a:xfrm>
          <a:prstGeom prst="rect">
            <a:avLst/>
          </a:prstGeom>
          <a:ln w="0">
            <a:noFill/>
          </a:ln>
        </p:spPr>
      </p:pic>
      <p:sp>
        <p:nvSpPr>
          <p:cNvPr id="575" name="1 CuadroTexto"/>
          <p:cNvSpPr/>
          <p:nvPr/>
        </p:nvSpPr>
        <p:spPr>
          <a:xfrm>
            <a:off x="3492360" y="620640"/>
            <a:ext cx="3311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l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4986360" cy="3465720"/>
          </a:xfrm>
          <a:prstGeom prst="rect">
            <a:avLst/>
          </a:prstGeom>
          <a:ln w="0">
            <a:noFill/>
          </a:ln>
        </p:spPr>
      </p:pic>
      <p:sp>
        <p:nvSpPr>
          <p:cNvPr id="577" name="1 CuadroTexto"/>
          <p:cNvSpPr/>
          <p:nvPr/>
        </p:nvSpPr>
        <p:spPr>
          <a:xfrm>
            <a:off x="2411280" y="620640"/>
            <a:ext cx="3745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istencia máxima a la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216400" cy="4246560"/>
          </a:xfrm>
          <a:prstGeom prst="rect">
            <a:avLst/>
          </a:prstGeom>
          <a:ln w="0">
            <a:noFill/>
          </a:ln>
        </p:spPr>
      </p:pic>
      <p:sp>
        <p:nvSpPr>
          <p:cNvPr id="579" name="1 CuadroTexto"/>
          <p:cNvSpPr/>
          <p:nvPr/>
        </p:nvSpPr>
        <p:spPr>
          <a:xfrm>
            <a:off x="1835280" y="549360"/>
            <a:ext cx="5976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ción de propiedades mecánicas en un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5:05:32Z</dcterms:created>
  <dc:creator>Gladys Leiva</dc:creator>
  <dc:description/>
  <dc:language>en-US</dc:language>
  <cp:lastModifiedBy>Rodrigo Palma</cp:lastModifiedBy>
  <dcterms:modified xsi:type="dcterms:W3CDTF">2011-10-27T12:25:48Z</dcterms:modified>
  <cp:revision>10</cp:revision>
  <dc:subject/>
  <dc:title>Diapositiva 1</dc:title>
</cp:coreProperties>
</file>