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2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4.wmf" ContentType="image/x-wmf"/>
  <Override PartName="/ppt/media/image3.wmf" ContentType="image/x-wmf"/>
  <Override PartName="/ppt/media/image5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media/image32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33.png" ContentType="image/png"/>
  <Override PartName="/ppt/media/image46.jpeg" ContentType="image/jpeg"/>
  <Override PartName="/ppt/media/image49.jpeg" ContentType="image/jpeg"/>
  <Override PartName="/ppt/media/image7.wmf" ContentType="image/x-wmf"/>
  <Override PartName="/ppt/media/image31.png" ContentType="image/png"/>
  <Override PartName="/ppt/media/image30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39.jpeg" ContentType="image/jpeg"/>
  <Override PartName="/ppt/media/image16.wmf" ContentType="image/x-wmf"/>
  <Override PartName="/ppt/media/image45.jpeg" ContentType="image/jpeg"/>
  <Override PartName="/ppt/media/image11.wmf" ContentType="image/x-wmf"/>
  <Override PartName="/ppt/media/image47.jpeg" ContentType="image/jpeg"/>
  <Override PartName="/ppt/media/image6.wmf" ContentType="image/x-wmf"/>
  <Override PartName="/ppt/media/image10.wmf" ContentType="image/x-wmf"/>
  <Override PartName="/ppt/media/image42.jpeg" ContentType="image/jpeg"/>
  <Override PartName="/ppt/media/image25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F94-76B2-4250-A2A5-1DADDA79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07D-4143-4C58-BEB2-A86890F6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F0197-E25B-4308-934A-F46464FB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1C743-C34B-4D53-B9A3-31EAB80E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FEA9F-471F-4B3C-9649-AE4ADBBF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2FE5C-017D-4E31-9F7E-7039B093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C768A-C314-476E-AF6E-C31BE96D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49508-3C34-4637-96A7-371C53D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FA182-EE05-430F-AD33-8F9AD1E3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C2D7F-57E2-40CC-8002-51D621CB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1F3E4-E289-4263-815E-F01D2EA7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E5CA1-69AA-4315-A9E8-1DCC53D9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F54-EA32-44F5-9E87-2D0A1C7E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8CCFC-9598-4BAD-B93B-9DFAA8BB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A523D-B91D-4DBE-B961-90B33EB1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52F95-2F6B-40CC-A08B-10649CBB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199B0-5D20-4FBF-BAD8-A287353B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07D84-A1D7-49F0-A22C-CDE0D7A2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884B0-0F68-457D-8C50-AF5E5A21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D13A9-7D2E-4BA7-92C1-E1F39F8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81A85-AC8E-42BB-9631-AEE80DF9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EF74A-CA39-4ED8-B8CC-ACA00DF2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C81C0-1191-4EAC-BAB5-F16949BF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B96-3801-4445-8B80-2B7A7897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EFBAD-F16F-44A3-B2DB-AF15EE69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78AA9-3E4B-4715-A024-5C79D82E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49C24-F72C-4350-8681-FD99875C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ABD3C-C60E-41BC-884A-238EC266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F2CF5-DD75-4831-80FF-38744C4D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1EB10-5012-448C-8010-8C98E6B8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B2169-B2E5-444D-BF09-2F7FB6FA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E1E41-3476-4C97-AE22-AB42CABE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1FB0F-877C-4F0F-87FD-39E5406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5A532-4A60-4F50-887B-9ED5B7EC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16EE-922A-4B6D-8A41-0E7EA00D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98EF0-64B9-4F1F-9878-C383C136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628AF-DF06-4DDE-B7ED-3B07951B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C1046-74FC-4982-8C6A-8CAA350C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E432B-2468-473C-952F-F86A9D40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2FC0D-8EC9-43BA-BE68-B66C94EE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FAFCB-7068-4708-A528-70664A01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0D0CD-5A8B-43F8-AB9B-F404BC87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DD248-ACFE-4B36-9104-648DBECB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0468C-998D-460D-9E2B-6342D46C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B968C-DA5E-4F70-BD73-A85C4B2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62CC-0A68-4104-B8DA-2BCBC407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7C5CD-EA3C-43BE-A29C-5832A2ED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6377F-B4CD-4776-92A3-53FD8EDC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A667A-1238-4594-94B4-058B94ED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C8CBD-7660-405A-B392-41A2630D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3EDE6-693F-4105-8260-DB0D0C52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FCE92-7543-480C-84E6-2A368FA1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6796A-F027-42AB-A8DF-A7D07609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63CFA-763B-405B-9D6D-61A3F2E7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6E8F0-C079-4FC8-8F4D-4E64739B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4981C-E877-402A-878E-46197468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AA70-EFD6-4056-AE2A-EFE62FEA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6F8BC-1E3C-4F8E-92B6-67AEFF10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4B964-AAA1-42A2-97C7-492A890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AA297-7C5F-4C1E-BD83-900F3E5A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8CC0B-FA82-4C34-9173-E2D1F8B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C311B-057C-4D5B-A7E0-6AA18F11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86694-3575-4998-A729-F3D1D79F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50DF3-580E-4EC2-BFF5-9CE0064B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2564-57DA-4C35-B0B1-94F6FE3C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18D0-07A7-4637-80C5-A94FA6EE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62A7-8ECF-4E34-A223-F507CAD7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9EF3-F4CC-43AD-9F28-080A4DCF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321-7583-4B89-A219-2D42C63F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EB90-51FA-4D0B-B537-8FD9512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1A78-B285-41DF-97C5-F741DC3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8388-D874-42CE-A18E-75FB06F2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A119-6C0E-4ADF-A409-DC6F8683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4628-E290-4D03-B9BE-541A058F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B5BF-D7EA-461A-9022-AF6E9F2B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9C85-E0CB-4044-A220-0E555533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09DDF-084B-45C3-9AF6-1FB0DC7F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E654-7001-4147-85DD-07B2DC25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822E-277E-4FE8-9D03-DFE828E1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086-725E-4DEA-86B3-CCEB2B33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C4A7-4050-40F5-A1FE-172405A5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2F34-FFDC-4DF1-BCDE-1F3D27C0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2D82-E25D-4FCE-893D-D23B8B41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E62B-A5DF-48FD-9E6E-2F0ADFC6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B593-2291-4315-B5D9-5F4CD21F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273E-1A5F-4234-9495-1CCC85BD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FE20-1BF9-4083-8F4A-51497A0C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1B8EA-80E9-4DB6-A4C5-27A42E35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ABE76-8D4A-4B73-A92B-B6FA5DA7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79906-14A5-43F4-A49B-B4A67EE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888-D5D2-4932-8824-13D6075F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C614-03F8-452F-A792-0D4537D7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53BF-A0E1-431E-8BD0-05FBC787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2BB95-6636-41B3-99EB-4E7A15A7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CD78F-5E1E-4BE8-A764-519CAA3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0A43E-7093-4E8B-A293-ABB3EC47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317D-DBEF-4B86-BE4E-6AF052D1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864E-10F3-423B-90CA-77349DA0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29A1-03D5-4AD1-96F2-97A38775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B9D53-AF0A-4008-A9F1-B49AC7FF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17F7C-7114-4C12-966F-B4339107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528-EC10-4B28-9C75-5B5B4744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570F6-870B-4570-A9D8-34C6DE68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9AFC9-AD76-4C9E-A94D-416232E7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CC3FE-76FF-4119-8D50-2C9C1988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C29A2-9BE5-45AA-B39D-30B7A749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50F91-6FF7-48EA-883E-7841DB71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897BC-7B21-48C4-96FA-FC09DD3E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7C3B6-5CC9-4964-B8DA-F161921E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62132-3B23-4031-A1BB-07F6E07B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E530E-F7C0-4489-A7E8-F5BCD364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FF29C-B825-4BA7-A9F9-F6DC48E6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E78-B29B-497C-ACAC-4DC9BAA6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8885-36A8-4D05-818C-4EC4B2D7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4E93-A953-48B1-911B-744502CB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04418-9D87-4347-83E6-4ADF05EA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EAE16-77E9-434A-8A14-2EFA5D0D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82A51-3A9E-48E3-B9B5-D762FEDE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284E8-5D5F-4535-BC03-6B0D865F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BCEA-8E57-4027-8AFE-B99D6E90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FAA0C-7ACE-43EC-8B0D-0EE78080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697D0-6B40-43BC-80C8-FAF9015E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5F759-BE74-40BE-B14A-FB6C84A2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A8F-815D-4F89-8162-324CCC4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C10ED-7F49-4447-BC19-7CBC8608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A5F3B-9F55-4A99-9F7A-15AEAFF6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ED13D-8CDC-47F6-8F8B-F9270B09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7ED35-D0F6-4410-839C-68CEBF24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8B809-99D7-4BC4-9C67-97971799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AA866-30CD-43F0-B5CF-E27E9361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769E4-6987-46A0-B0B4-CE9D32F5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468F0-A9E8-4731-B2FC-01C6F36A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7B17A-2686-4546-B073-4161D626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FC4A3-981E-4722-84CB-5A83128B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05C-AC71-4F9F-9FEC-10C1A0B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C3BEB-255B-4026-8DCD-2DB581C4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1B33D-2BF1-42D4-A2E8-E4269586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18496-1243-4833-836B-FB612B87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175D2-1164-48C1-A90F-8AFC5362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B623-4790-4AA2-9B2B-993263B3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EEBB0-60B3-40FE-BE8D-C9E426AC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64594-9A6D-4AB4-8A2D-B0F3BDC3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307F4-AB57-4F29-A483-8AC19707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F5B31-3CB0-4498-B6CA-096790B6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7B911-CC84-4A3B-83FB-083CB3A0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AA4-6736-4FF8-9ED5-DD44FBD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9B735-3D77-4993-9234-1C8E93BB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83160-ED8E-4671-BB14-D6AB0D82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F4211-5325-4F0B-A5CC-013FDBB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08C1A-8927-46F0-AAEF-2E14D47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04EED-84C7-4063-9779-59009DAF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21F5A-F9ED-4649-9589-034017F2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6E924-1A94-42F4-9D15-D6339653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889E0-F52F-434B-8B52-0886E6A3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D1424-2A10-4962-A764-6DA88867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88D62-8359-46CF-9BCC-FE533C91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4435-6141-4B8E-8764-C98177AE98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E931-B7C6-4D8A-84F7-254D8F4CC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6340-D641-43B3-8C71-71136E7DF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2DA5-27F4-498F-8FBF-BC8B8DBB6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AE41-374C-4036-8543-C4CE2D25B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1674-F299-4471-8A4B-FC7128F1C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A272-76FE-4FAB-AEFD-973662D5E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3D91-4421-46FA-A865-91073C16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4ABE-7CE2-40B3-AF05-BF6809A81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CD22-4D65-4322-88D5-1E0338DAC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0FA9-0D8E-4624-98B3-08D72A15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6CE3-9C3F-4F36-A466-19C9E9760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EC39-A247-44D2-B8E0-5BF72B2D7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ulo de Young de materiales co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2367000" y="404640"/>
            <a:ext cx="58212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539640" y="595440"/>
            <a:ext cx="813132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278000" y="1573200"/>
            <a:ext cx="6794280" cy="4095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686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085760" y="765000"/>
            <a:ext cx="751680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2484360" y="404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U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305400" cy="25797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"/>
          <p:cNvPicPr/>
          <p:nvPr/>
        </p:nvPicPr>
        <p:blipFill>
          <a:blip r:embed="rId2"/>
          <a:stretch/>
        </p:blipFill>
        <p:spPr>
          <a:xfrm>
            <a:off x="3851280" y="5589720"/>
            <a:ext cx="12272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Fig"/>
          <p:cNvPicPr/>
          <p:nvPr/>
        </p:nvPicPr>
        <p:blipFill>
          <a:blip r:embed="rId1"/>
          <a:stretch/>
        </p:blipFill>
        <p:spPr>
          <a:xfrm>
            <a:off x="324000" y="1125360"/>
            <a:ext cx="8532720" cy="3464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2771640" y="47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de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Fig"/>
          <p:cNvPicPr/>
          <p:nvPr/>
        </p:nvPicPr>
        <p:blipFill>
          <a:blip r:embed="rId2"/>
          <a:stretch/>
        </p:blipFill>
        <p:spPr>
          <a:xfrm>
            <a:off x="1476360" y="4724280"/>
            <a:ext cx="6838920" cy="14511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3492360" y="638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c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6240600" cy="4680000"/>
          </a:xfrm>
          <a:prstGeom prst="rect">
            <a:avLst/>
          </a:prstGeom>
          <a:ln w="0">
            <a:noFill/>
          </a:ln>
        </p:spPr>
      </p:pic>
      <p:sp>
        <p:nvSpPr>
          <p:cNvPr id="593" name="1 CuadroTexto"/>
          <p:cNvSpPr/>
          <p:nvPr/>
        </p:nvSpPr>
        <p:spPr>
          <a:xfrm>
            <a:off x="108000" y="230040"/>
            <a:ext cx="30240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 la fractura dúct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cleación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alescencia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e en la superf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68360" y="291960"/>
            <a:ext cx="2241360" cy="17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erficies de la frac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Scan10555"/>
          <p:cNvPicPr/>
          <p:nvPr/>
        </p:nvPicPr>
        <p:blipFill>
          <a:blip r:embed="rId1"/>
          <a:stretch/>
        </p:blipFill>
        <p:spPr>
          <a:xfrm>
            <a:off x="3132000" y="291960"/>
            <a:ext cx="5827680" cy="6193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: fractura de una cañ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88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ctura Dúctil transgranular: coalescencia de microhue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Scan10556"/>
          <p:cNvPicPr/>
          <p:nvPr/>
        </p:nvPicPr>
        <p:blipFill>
          <a:blip r:embed="rId1"/>
          <a:stretch/>
        </p:blipFill>
        <p:spPr>
          <a:xfrm>
            <a:off x="2771640" y="2133720"/>
            <a:ext cx="3400560" cy="32875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 de materiales compuestos lamin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5496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1895760" cy="314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5116680" y="2060640"/>
            <a:ext cx="2390760" cy="371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4925880" y="2808360"/>
            <a:ext cx="2772000" cy="371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"/>
          <p:cNvPicPr/>
          <p:nvPr/>
        </p:nvPicPr>
        <p:blipFill>
          <a:blip r:embed="rId5"/>
          <a:stretch/>
        </p:blipFill>
        <p:spPr>
          <a:xfrm>
            <a:off x="5435640" y="2432160"/>
            <a:ext cx="1400040" cy="399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315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frágil transgranular: cliv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Scan10557"/>
          <p:cNvPicPr/>
          <p:nvPr/>
        </p:nvPicPr>
        <p:blipFill>
          <a:blip r:embed="rId1"/>
          <a:stretch/>
        </p:blipFill>
        <p:spPr>
          <a:xfrm>
            <a:off x="2484360" y="2276640"/>
            <a:ext cx="4213440" cy="3365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Intergran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Scan10558"/>
          <p:cNvPicPr/>
          <p:nvPr/>
        </p:nvPicPr>
        <p:blipFill>
          <a:blip r:embed="rId1"/>
          <a:stretch/>
        </p:blipFill>
        <p:spPr>
          <a:xfrm>
            <a:off x="622440" y="1773360"/>
            <a:ext cx="7812000" cy="42116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 real o verdad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C:\Users\Rodrigo Palma\Pictures\2011-10-27 n\n 001.jpg"/>
          <p:cNvPicPr/>
          <p:nvPr/>
        </p:nvPicPr>
        <p:blipFill>
          <a:blip r:embed="rId1"/>
          <a:stretch/>
        </p:blipFill>
        <p:spPr>
          <a:xfrm>
            <a:off x="5580000" y="3813120"/>
            <a:ext cx="2648160" cy="19652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6" name="Picture 3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097440" cy="927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C:\Users\Rodrigo Palma\Pictures\2011-10-27 real\real 001.jpg"/>
          <p:cNvPicPr/>
          <p:nvPr/>
        </p:nvPicPr>
        <p:blipFill>
          <a:blip r:embed="rId3"/>
          <a:stretch/>
        </p:blipFill>
        <p:spPr>
          <a:xfrm>
            <a:off x="1403280" y="3573360"/>
            <a:ext cx="2670120" cy="24465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8" name="Picture 6" descr=""/>
          <p:cNvPicPr/>
          <p:nvPr/>
        </p:nvPicPr>
        <p:blipFill>
          <a:blip r:embed="rId4"/>
          <a:stretch/>
        </p:blipFill>
        <p:spPr>
          <a:xfrm>
            <a:off x="3780000" y="1844640"/>
            <a:ext cx="4833720" cy="11588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5"/>
          <a:stretch/>
        </p:blipFill>
        <p:spPr>
          <a:xfrm>
            <a:off x="130320" y="2328840"/>
            <a:ext cx="2547720" cy="8906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C:\Users\Rodrigo Palma\Pictures\2011-10-27 K N\K N 001.jpg"/>
          <p:cNvPicPr/>
          <p:nvPr/>
        </p:nvPicPr>
        <p:blipFill>
          <a:blip r:embed="rId6"/>
          <a:stretch/>
        </p:blipFill>
        <p:spPr>
          <a:xfrm>
            <a:off x="1911240" y="3579840"/>
            <a:ext cx="981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48D1-23E8-4EB2-933B-78D836671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nsayo de Impacto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2297160" y="2313000"/>
            <a:ext cx="5421960" cy="4233960"/>
            <a:chOff x="2297160" y="2313000"/>
            <a:chExt cx="5421960" cy="4233960"/>
          </a:xfrm>
        </p:grpSpPr>
        <p:pic>
          <p:nvPicPr>
            <p:cNvPr id="614" name="Picture 6" descr="Fig 8_12"/>
            <p:cNvPicPr/>
            <p:nvPr/>
          </p:nvPicPr>
          <p:blipFill>
            <a:blip r:embed="rId1"/>
            <a:stretch/>
          </p:blipFill>
          <p:spPr>
            <a:xfrm>
              <a:off x="2297160" y="2313000"/>
              <a:ext cx="4886280" cy="42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Rectangle 7"/>
            <p:cNvSpPr/>
            <p:nvPr/>
          </p:nvSpPr>
          <p:spPr>
            <a:xfrm>
              <a:off x="2368080" y="5802480"/>
              <a:ext cx="86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fin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8"/>
            <p:cNvGrpSpPr/>
            <p:nvPr/>
          </p:nvGrpSpPr>
          <p:grpSpPr>
            <a:xfrm>
              <a:off x="3244680" y="4135320"/>
              <a:ext cx="3558600" cy="2193480"/>
              <a:chOff x="3244680" y="4135320"/>
              <a:chExt cx="3558600" cy="2193480"/>
            </a:xfrm>
          </p:grpSpPr>
          <p:sp>
            <p:nvSpPr>
              <p:cNvPr id="617" name="Line 9"/>
              <p:cNvSpPr/>
              <p:nvPr/>
            </p:nvSpPr>
            <p:spPr>
              <a:xfrm>
                <a:off x="3322440" y="6327000"/>
                <a:ext cx="3402720" cy="1800"/>
              </a:xfrm>
              <a:prstGeom prst="line">
                <a:avLst/>
              </a:prstGeom>
              <a:ln w="20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Group 10"/>
              <p:cNvGrpSpPr/>
              <p:nvPr/>
            </p:nvGrpSpPr>
            <p:grpSpPr>
              <a:xfrm>
                <a:off x="6614640" y="4135320"/>
                <a:ext cx="188640" cy="2185920"/>
                <a:chOff x="6614640" y="4135320"/>
                <a:chExt cx="188640" cy="2185920"/>
              </a:xfrm>
            </p:grpSpPr>
            <p:sp>
              <p:nvSpPr>
                <p:cNvPr id="619" name="Freeform 11"/>
                <p:cNvSpPr/>
                <p:nvPr/>
              </p:nvSpPr>
              <p:spPr>
                <a:xfrm>
                  <a:off x="6614640" y="4135320"/>
                  <a:ext cx="188640" cy="2066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6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"/>
                <p:cNvSpPr/>
                <p:nvPr/>
              </p:nvSpPr>
              <p:spPr>
                <a:xfrm flipV="1">
                  <a:off x="6708600" y="4276080"/>
                  <a:ext cx="2520" cy="204516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13"/>
              <p:cNvGrpSpPr/>
              <p:nvPr/>
            </p:nvGrpSpPr>
            <p:grpSpPr>
              <a:xfrm>
                <a:off x="3244680" y="5281200"/>
                <a:ext cx="174600" cy="1044720"/>
                <a:chOff x="3244680" y="5281200"/>
                <a:chExt cx="174600" cy="1044720"/>
              </a:xfrm>
            </p:grpSpPr>
            <p:sp>
              <p:nvSpPr>
                <p:cNvPr id="622" name="Freeform 14"/>
                <p:cNvSpPr/>
                <p:nvPr/>
              </p:nvSpPr>
              <p:spPr>
                <a:xfrm>
                  <a:off x="3244680" y="5281200"/>
                  <a:ext cx="174600" cy="1908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0800"/>
                    <a:gd name="textAreaBottom" fmla="*/ 191160 h 19080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7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5"/>
                <p:cNvSpPr/>
                <p:nvPr/>
              </p:nvSpPr>
              <p:spPr>
                <a:xfrm flipV="1">
                  <a:off x="3331800" y="5413320"/>
                  <a:ext cx="1800" cy="91260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" name="Rectangle 16"/>
            <p:cNvSpPr/>
            <p:nvPr/>
          </p:nvSpPr>
          <p:spPr>
            <a:xfrm>
              <a:off x="6775200" y="58024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initi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Rectangle 17"/>
          <p:cNvSpPr/>
          <p:nvPr/>
        </p:nvSpPr>
        <p:spPr>
          <a:xfrm>
            <a:off x="522360" y="1155600"/>
            <a:ext cx="469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ga de Impa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s el caso mas severo de ca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l material se comporta más frág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8"/>
          <p:cNvSpPr/>
          <p:nvPr/>
        </p:nvSpPr>
        <p:spPr>
          <a:xfrm>
            <a:off x="293760" y="2798640"/>
            <a:ext cx="243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8.12(b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Fig. 8.12(b) is adapted from H.W. Hayden, W.G. Moffatt, and J. Wulff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Structure and Properties of Materi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. III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chanical Behavi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ohn Wiley and Sons, Inc. (1965) p. 13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9"/>
          <p:cNvGrpSpPr/>
          <p:nvPr/>
        </p:nvGrpSpPr>
        <p:grpSpPr>
          <a:xfrm>
            <a:off x="6486480" y="1154160"/>
            <a:ext cx="1917720" cy="1805040"/>
            <a:chOff x="6486480" y="1154160"/>
            <a:chExt cx="1917720" cy="1805040"/>
          </a:xfrm>
        </p:grpSpPr>
        <p:pic>
          <p:nvPicPr>
            <p:cNvPr id="628" name="Picture 20" descr=""/>
            <p:cNvPicPr/>
            <p:nvPr/>
          </p:nvPicPr>
          <p:blipFill>
            <a:blip r:embed="rId2"/>
            <a:stretch/>
          </p:blipFill>
          <p:spPr>
            <a:xfrm>
              <a:off x="6486480" y="1484280"/>
              <a:ext cx="19177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Rectangle 21"/>
            <p:cNvSpPr/>
            <p:nvPr/>
          </p:nvSpPr>
          <p:spPr>
            <a:xfrm>
              <a:off x="6525000" y="1154160"/>
              <a:ext cx="88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(Charp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22"/>
            <p:cNvGrpSpPr/>
            <p:nvPr/>
          </p:nvGrpSpPr>
          <p:grpSpPr>
            <a:xfrm>
              <a:off x="7031160" y="1395360"/>
              <a:ext cx="164880" cy="444600"/>
              <a:chOff x="7031160" y="1395360"/>
              <a:chExt cx="164880" cy="444600"/>
            </a:xfrm>
          </p:grpSpPr>
          <p:sp>
            <p:nvSpPr>
              <p:cNvPr id="631" name="Freeform 23"/>
              <p:cNvSpPr/>
              <p:nvPr/>
            </p:nvSpPr>
            <p:spPr>
              <a:xfrm>
                <a:off x="7056360" y="1662120"/>
                <a:ext cx="139680" cy="1778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88" h="112">
                    <a:moveTo>
                      <a:pt x="80" y="112"/>
                    </a:moveTo>
                    <a:lnTo>
                      <a:pt x="0" y="32"/>
                    </a:lnTo>
                    <a:lnTo>
                      <a:pt x="56" y="48"/>
                    </a:lnTo>
                    <a:lnTo>
                      <a:pt x="88" y="0"/>
                    </a:lnTo>
                    <a:lnTo>
                      <a:pt x="80" y="112"/>
                    </a:lnTo>
                    <a:close/>
                  </a:path>
                </a:pathLst>
              </a:custGeom>
              <a:solidFill>
                <a:srgbClr val="006600"/>
              </a:solidFill>
              <a:ln w="1260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24"/>
              <p:cNvSpPr/>
              <p:nvPr/>
            </p:nvSpPr>
            <p:spPr>
              <a:xfrm>
                <a:off x="7031160" y="1395360"/>
                <a:ext cx="114120" cy="343080"/>
              </a:xfrm>
              <a:prstGeom prst="line">
                <a:avLst/>
              </a:prstGeom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0000"/>
                </a:solidFill>
                <a:latin typeface="Arial"/>
              </a:rPr>
              <a:t>Curva de impacto  de un acero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FF2F-3CE4-4682-8D5E-1B677ADF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1355760" y="1203480"/>
            <a:ext cx="6454800" cy="4892400"/>
          </a:xfrm>
          <a:prstGeom prst="rect">
            <a:avLst/>
          </a:prstGeom>
          <a:ln w="0">
            <a:noFill/>
          </a:ln>
        </p:spPr>
      </p:pic>
      <p:sp>
        <p:nvSpPr>
          <p:cNvPr id="636" name="5 Rectángulo"/>
          <p:cNvSpPr/>
          <p:nvPr/>
        </p:nvSpPr>
        <p:spPr>
          <a:xfrm>
            <a:off x="4140360" y="4292640"/>
            <a:ext cx="309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7 Rectángulo"/>
          <p:cNvSpPr/>
          <p:nvPr/>
        </p:nvSpPr>
        <p:spPr>
          <a:xfrm>
            <a:off x="2428920" y="2276640"/>
            <a:ext cx="201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Ec"/>
          <p:cNvPicPr/>
          <p:nvPr/>
        </p:nvPicPr>
        <p:blipFill>
          <a:blip r:embed="rId1"/>
          <a:stretch/>
        </p:blipFill>
        <p:spPr>
          <a:xfrm>
            <a:off x="250920" y="1341360"/>
            <a:ext cx="8426520" cy="8571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Ec"/>
          <p:cNvPicPr/>
          <p:nvPr/>
        </p:nvPicPr>
        <p:blipFill>
          <a:blip r:embed="rId2"/>
          <a:stretch/>
        </p:blipFill>
        <p:spPr>
          <a:xfrm>
            <a:off x="971640" y="3141720"/>
            <a:ext cx="7626240" cy="8827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Ec"/>
          <p:cNvPicPr/>
          <p:nvPr/>
        </p:nvPicPr>
        <p:blipFill>
          <a:blip r:embed="rId3"/>
          <a:srcRect l="0" t="0" r="55262" b="0"/>
          <a:stretch/>
        </p:blipFill>
        <p:spPr>
          <a:xfrm>
            <a:off x="1476360" y="4365720"/>
            <a:ext cx="3095640" cy="9270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5"/>
          <p:cNvSpPr/>
          <p:nvPr/>
        </p:nvSpPr>
        <p:spPr>
          <a:xfrm>
            <a:off x="2916360" y="26028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ormación verd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Ec"/>
          <p:cNvPicPr/>
          <p:nvPr/>
        </p:nvPicPr>
        <p:blipFill>
          <a:blip r:embed="rId1"/>
          <a:stretch/>
        </p:blipFill>
        <p:spPr>
          <a:xfrm>
            <a:off x="1476360" y="907920"/>
            <a:ext cx="6912000" cy="7257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Ec"/>
          <p:cNvPicPr/>
          <p:nvPr/>
        </p:nvPicPr>
        <p:blipFill>
          <a:blip r:embed="rId2"/>
          <a:srcRect l="0" t="0" r="64773" b="0"/>
          <a:stretch/>
        </p:blipFill>
        <p:spPr>
          <a:xfrm>
            <a:off x="826920" y="2781360"/>
            <a:ext cx="2664000" cy="10652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Ec"/>
          <p:cNvPicPr/>
          <p:nvPr/>
        </p:nvPicPr>
        <p:blipFill>
          <a:blip r:embed="rId3"/>
          <a:stretch/>
        </p:blipFill>
        <p:spPr>
          <a:xfrm>
            <a:off x="900000" y="4365720"/>
            <a:ext cx="748836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Ec"/>
          <p:cNvPicPr/>
          <p:nvPr/>
        </p:nvPicPr>
        <p:blipFill>
          <a:blip r:embed="rId1"/>
          <a:stretch/>
        </p:blipFill>
        <p:spPr>
          <a:xfrm>
            <a:off x="1042920" y="907920"/>
            <a:ext cx="7345440" cy="798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Ec"/>
          <p:cNvPicPr/>
          <p:nvPr/>
        </p:nvPicPr>
        <p:blipFill>
          <a:blip r:embed="rId2"/>
          <a:stretch/>
        </p:blipFill>
        <p:spPr>
          <a:xfrm>
            <a:off x="826920" y="2708280"/>
            <a:ext cx="73454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Ec"/>
          <p:cNvPicPr/>
          <p:nvPr/>
        </p:nvPicPr>
        <p:blipFill>
          <a:blip r:embed="rId1"/>
          <a:stretch/>
        </p:blipFill>
        <p:spPr>
          <a:xfrm>
            <a:off x="1187280" y="2565360"/>
            <a:ext cx="6728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ímites superior e inferior del módulo de Young de materiales compue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416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Ec"/>
          <p:cNvPicPr/>
          <p:nvPr/>
        </p:nvPicPr>
        <p:blipFill>
          <a:blip r:embed="rId1"/>
          <a:stretch/>
        </p:blipFill>
        <p:spPr>
          <a:xfrm>
            <a:off x="1763640" y="836640"/>
            <a:ext cx="5784840" cy="1130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" descr="Ec"/>
          <p:cNvPicPr/>
          <p:nvPr/>
        </p:nvPicPr>
        <p:blipFill>
          <a:blip r:embed="rId2"/>
          <a:stretch/>
        </p:blipFill>
        <p:spPr>
          <a:xfrm>
            <a:off x="579600" y="5013360"/>
            <a:ext cx="8564400" cy="10904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Ec"/>
          <p:cNvPicPr/>
          <p:nvPr/>
        </p:nvPicPr>
        <p:blipFill>
          <a:blip r:embed="rId3"/>
          <a:stretch/>
        </p:blipFill>
        <p:spPr>
          <a:xfrm>
            <a:off x="1116000" y="2708280"/>
            <a:ext cx="6985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Ec"/>
          <p:cNvPicPr/>
          <p:nvPr/>
        </p:nvPicPr>
        <p:blipFill>
          <a:blip r:embed="rId1"/>
          <a:srcRect l="0" t="0" r="45182" b="0"/>
          <a:stretch/>
        </p:blipFill>
        <p:spPr>
          <a:xfrm>
            <a:off x="0" y="765000"/>
            <a:ext cx="4835520" cy="1163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" descr="Ec"/>
          <p:cNvPicPr/>
          <p:nvPr/>
        </p:nvPicPr>
        <p:blipFill>
          <a:blip r:embed="rId2"/>
          <a:stretch/>
        </p:blipFill>
        <p:spPr>
          <a:xfrm>
            <a:off x="879480" y="2421000"/>
            <a:ext cx="7345440" cy="9777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Ec"/>
          <p:cNvPicPr/>
          <p:nvPr/>
        </p:nvPicPr>
        <p:blipFill>
          <a:blip r:embed="rId3"/>
          <a:srcRect l="0" t="0" r="65665" b="0"/>
          <a:stretch/>
        </p:blipFill>
        <p:spPr>
          <a:xfrm>
            <a:off x="971640" y="4292640"/>
            <a:ext cx="2547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SAYOS MECA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5" descr=""/>
          <p:cNvPicPr/>
          <p:nvPr/>
        </p:nvPicPr>
        <p:blipFill>
          <a:blip r:embed="rId1"/>
          <a:stretch/>
        </p:blipFill>
        <p:spPr>
          <a:xfrm>
            <a:off x="1063800" y="2390760"/>
            <a:ext cx="6669000" cy="3341880"/>
          </a:xfrm>
          <a:prstGeom prst="rect">
            <a:avLst/>
          </a:prstGeom>
          <a:ln w="0">
            <a:noFill/>
          </a:ln>
        </p:spPr>
      </p:pic>
      <p:sp>
        <p:nvSpPr>
          <p:cNvPr id="571" name="1 CuadroTexto"/>
          <p:cNvSpPr/>
          <p:nvPr/>
        </p:nvSpPr>
        <p:spPr>
          <a:xfrm>
            <a:off x="2843280" y="981000"/>
            <a:ext cx="33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lin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1182600" y="2409840"/>
            <a:ext cx="7048440" cy="3467160"/>
          </a:xfrm>
          <a:prstGeom prst="rect">
            <a:avLst/>
          </a:prstGeom>
          <a:ln w="0">
            <a:noFill/>
          </a:ln>
        </p:spPr>
      </p:pic>
      <p:sp>
        <p:nvSpPr>
          <p:cNvPr id="573" name="1 CuadroTexto"/>
          <p:cNvSpPr/>
          <p:nvPr/>
        </p:nvSpPr>
        <p:spPr>
          <a:xfrm>
            <a:off x="2268360" y="765000"/>
            <a:ext cx="460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no-lineal (go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796000" cy="3370320"/>
          </a:xfrm>
          <a:prstGeom prst="rect">
            <a:avLst/>
          </a:prstGeom>
          <a:ln w="0">
            <a:noFill/>
          </a:ln>
        </p:spPr>
      </p:pic>
      <p:sp>
        <p:nvSpPr>
          <p:cNvPr id="575" name="1 CuadroTexto"/>
          <p:cNvSpPr/>
          <p:nvPr/>
        </p:nvSpPr>
        <p:spPr>
          <a:xfrm>
            <a:off x="3492360" y="620640"/>
            <a:ext cx="3311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l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4986360" cy="3465720"/>
          </a:xfrm>
          <a:prstGeom prst="rect">
            <a:avLst/>
          </a:prstGeom>
          <a:ln w="0">
            <a:noFill/>
          </a:ln>
        </p:spPr>
      </p:pic>
      <p:sp>
        <p:nvSpPr>
          <p:cNvPr id="577" name="1 CuadroTexto"/>
          <p:cNvSpPr/>
          <p:nvPr/>
        </p:nvSpPr>
        <p:spPr>
          <a:xfrm>
            <a:off x="2411280" y="620640"/>
            <a:ext cx="3745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istencia máxima a la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216400" cy="4246560"/>
          </a:xfrm>
          <a:prstGeom prst="rect">
            <a:avLst/>
          </a:prstGeom>
          <a:ln w="0">
            <a:noFill/>
          </a:ln>
        </p:spPr>
      </p:pic>
      <p:sp>
        <p:nvSpPr>
          <p:cNvPr id="579" name="1 CuadroTexto"/>
          <p:cNvSpPr/>
          <p:nvPr/>
        </p:nvSpPr>
        <p:spPr>
          <a:xfrm>
            <a:off x="1835280" y="549360"/>
            <a:ext cx="5976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ción de propiedades mecánicas en un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5:05:32Z</dcterms:created>
  <dc:creator>Gladys Leiva</dc:creator>
  <dc:description/>
  <dc:language>en-US</dc:language>
  <cp:lastModifiedBy>Rodrigo Palma</cp:lastModifiedBy>
  <dcterms:modified xsi:type="dcterms:W3CDTF">2011-10-27T12:25:48Z</dcterms:modified>
  <cp:revision>10</cp:revision>
  <dc:subject/>
  <dc:title>Diapositiva 1</dc:title>
</cp:coreProperties>
</file>