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media/image32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6.jpeg" ContentType="image/jpeg"/>
  <Override PartName="/ppt/media/image49.jpeg" ContentType="image/jpeg"/>
  <Override PartName="/ppt/media/image7.wmf" ContentType="image/x-wmf"/>
  <Override PartName="/ppt/media/image31.png" ContentType="image/png"/>
  <Override PartName="/ppt/media/image30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39.jpeg" ContentType="image/jpeg"/>
  <Override PartName="/ppt/media/image16.wmf" ContentType="image/x-wmf"/>
  <Override PartName="/ppt/media/image45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42.jpeg" ContentType="image/jpeg"/>
  <Override PartName="/ppt/media/image25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C7A-FC2D-4DF3-ABA1-483B116D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DFD-FA67-434A-9DE9-D0D7AF09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7A32D-9959-4277-8A12-1F3CB6F1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C5A25-3E47-44D9-AE58-4264DA0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3DB2-F51C-433E-AD3B-E846DFA1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DB5DC-EE3F-4771-8A7F-8879CA9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46BB9-0210-4109-887A-92665FA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820A-A621-433F-9C3C-EA68938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EE16F-3755-47BD-B810-09A3F82C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27326-6213-461B-B5B4-A12693E9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F2CCF-9ACA-4544-B4EF-DE57B161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46FC9-B98D-4D96-A77F-98EBBF9E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243-FCA1-4407-B2D0-D46A0FA2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4D028-04DF-4884-A822-C7FBD760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54572-0F25-41DD-862F-02E774C8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32CB8-F170-47A3-9A72-1FD4E010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14CF6-6556-4CCF-BF84-60A59D0D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1BACF-5230-43CD-ACDF-49BBE7BA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D496D-A9A6-4959-B6CE-F210C194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2F234-4AC9-4A68-947D-3BBED97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56227-8D9D-4545-B414-AF5498F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AB190-2C1A-4D34-882F-CC6926ED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D15CA-9035-4C16-B2FA-96DBF663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97F-A812-4597-8CF3-0E68A782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54B06-4B08-42D7-B8F8-FFD30C2E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5B85D-16BB-4B3E-BEC7-376F863F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9F8CC-008A-452F-8222-54D1441B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F4304-B09A-4FBB-A70D-F52CB132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4CB7D-882A-4A90-807E-88E66D49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0F532-293D-4935-BEB9-8F34B219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3ADDA-2809-4EBD-9E36-F7FCE3A3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73E9E-2290-4C70-8CDC-9DE59FA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1B29F-5162-4B50-9540-1A126EC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40BC3-E07D-48E3-8C47-C05C52D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C347-580A-4B0E-AE60-5EC39DEA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F4416-109E-41D6-87FA-C9C52BA5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03319-CCE8-42AC-91FB-169682B0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2CC39-2454-4483-8B73-5810F360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6A502-E24F-4203-AFA8-ACFCB460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78085-F68E-4407-9EA4-A2F3AB68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2FF49-16D0-4F28-BE30-34EF0537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A7243-BFF7-425D-BE10-6CB724C2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CE58A-C2A6-4952-B5F0-50917182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1204A-8514-4BED-9BC5-D5B51AF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C85E3-7498-49DE-A9EF-BF40146A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8F50-8E2E-4956-B25E-5D1E27E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2A3D6-E4E4-49A1-84F0-AE09D6C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ECAB4-50C8-4636-89D9-6C49EA3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189B1-B224-46FD-A630-090FE02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4CF16-3D8B-45E2-A413-07707C00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1015B-B197-4FF8-997C-FE90E27D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70705-91D0-49FF-9998-59E83F79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719E3-046D-4247-9EE6-6938A1B0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7F777-41B3-4675-B41B-A48BA2D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1A469-DA18-4EDE-83A0-8E016A22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214C3-42A7-478E-8B25-8681FE49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E304-7124-48DE-850E-961317D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646D7-46D9-432E-9D55-4BA0C678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0C7A8-5B30-4770-B7C9-3754C8C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B8743-E30C-4D1F-82C0-98A80A6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33934-2EBC-4C20-864F-5BDEA1E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808AE-B5DE-4FF1-84D2-C7CAA427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8A8FD-B8FC-4D83-A612-D8939545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97BD5-890B-45BE-99DE-B8870828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C089-71B1-4AE1-8D54-539FF31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2ADB-FF20-47FA-9F1E-358F565F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DA25-6028-442F-A263-FD3DA492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139F-21D4-44D9-945D-D2C54F5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DDD-38CD-468E-A193-F7B1A9DF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79A-D8D9-48B6-9E26-DE7B4CEF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BE13-43CE-404F-A93E-AF7C5FB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9211-7AF4-4C6C-A660-2E24EE6D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91DF-1997-4D5E-85D3-36724AED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E601-00EC-4117-ABF4-887A4CF4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BAEC-F6CC-464D-A4DE-A7D66181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FBC2-9208-4581-87E1-C36CF12D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B1A3-8E8E-45B6-934D-A197A02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4DC6-63D2-4F1C-A8EC-A337EAB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54BD-B7FB-4A18-B508-60EA9613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8B1-7777-4DC9-A7A0-35D6AA0F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F2E3-9481-4278-9779-01575A34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2802-A471-4144-B655-D769BDF5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379D-1C49-49C9-AE72-F92B8D9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CF2F-C07A-4CA6-8875-AFD1D19A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5E34-DBC4-42DF-9749-1DF64AD5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037A-0934-4475-A13E-37FEF86A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7BB5-66D3-4338-851B-815D3A62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0811-781C-49DF-8FC7-87403A23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49C42-E707-48D4-8417-3D23CBCC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7F37-B279-44F8-B545-BA564AA7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317-4B34-408D-8660-0FA1F04F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0907-01BA-4938-9C1C-81206DA2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6DF2-8940-4160-A647-E86A4EA7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1F9F-2820-435B-8C3F-649CBA4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FD7A-F35E-4231-BB36-E5D4FF5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7D37-924E-4E42-B75F-43F75365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7BC8-41E8-4444-91BB-DC01452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77E7-B8FE-4BDD-8672-0A040A63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1ABC-C15A-495A-B3D4-39345550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84E2-9FC7-432C-8108-52C08E60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51BA2-968D-465C-8644-5F16D9A5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652-B333-4D9D-AA70-9F93DBEE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28AE-67B2-48E5-9522-E58457A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63A9D-081B-4CD5-A835-6FF8778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6983-31E2-4A43-A095-3141A8B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5114-0A0B-47A4-9335-EE13EB3D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D9978-6B2A-4871-86BA-A3D50F67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A8CE-4E92-405D-8B40-4800E0C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B5CB4-D600-4D52-9222-C91772C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0B1E-2A7D-4D7A-977A-91072221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6DCC-3237-4021-A45D-9D8F213B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5A37-A777-4E2F-B4D1-25805903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681-8DC5-4B53-8D3F-6998F57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2DADF-2AB4-4F07-B4B7-C1EE2355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4DEB2-B194-49F1-AE75-65F89CA9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2506-21B4-4D9A-AE31-7E7A7CFE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82B9D-6624-4A35-8023-ED5E18FD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60BA5-805B-4DEE-A1EF-55942A1E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5977-458D-447C-A228-FF0E6295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5326-7EE8-407B-8DFC-E922B482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7968-3EC4-4F5C-A631-12E76F1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6646E-5FF6-45DC-8A7B-805FD73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F177-F25B-4E0D-9067-D8E278A0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066-8E96-4468-B7D0-4F3BD22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B07F3-E8EE-4147-BC3E-D88BEFC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DD92-3883-498B-887C-DE6B32E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4F0B-A1C6-426C-9A88-A9EF4480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37C93-DE62-49C1-B5A3-1B47182B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7CC38-E527-4643-BDFE-6D5E1B35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BD92-2DFA-4AE2-86CA-AEAF3F77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B1A7-CAE0-4915-83C0-A01DF30F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1C701-9590-47FA-8E04-B067E225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410A-5C79-4B09-8B93-751B51EE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3B2D1-45CE-4D0D-B42D-E5F1EDE8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806-62D3-4BC5-A1AA-06F66AC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F389-9354-475B-9085-58A67F6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7ED55-2718-4A53-AC33-944D7FDA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69C3-F45D-4E4C-AAA9-CFDB4F38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3A3E9-6780-4008-82A9-5FCFC135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93836-F35F-4D03-B2B2-55A879F0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E89D5-F04B-4045-BA18-05292095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E6B79-0BEE-4423-94DE-BDE56B1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C58C1-8C57-43A0-BB5C-F1997030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B273E-544C-4EB5-AC68-20371EE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A0104-CD08-4F6B-9051-29D243EC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473-B2E7-4898-BE3C-5CB9103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3FC3F-75C6-42F1-AE22-ADEF965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B3D3-9475-49D7-B27D-08C2D044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0DC5-55BF-45E6-BACD-0454C5E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60817-FD99-4083-8E02-0BA2605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3A4FD-C373-4BA5-88BD-CAA7AD43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550A9-550E-4071-9770-B04C741E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50815-A94F-48CD-9B1F-8C0802DC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7A2D9-40F7-4C07-850F-C6B7F3BE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5AD7-8C5E-4AF0-9312-674315A2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B487C-1A24-4A5B-9B8E-ECCB7C3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647-DB73-40C7-A1D8-0321000585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9E6-BD28-4A70-9C9B-6B46DE18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76F8-8E0B-465F-BB81-3AF17CEF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DB2E-905D-4F2F-BF6E-C001E69C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AD7-5DA4-491B-8B42-0ECEB198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8689-B04C-40E5-AEE1-786ABC60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4683-796B-4B9A-8E5E-96BEF48D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3B9-4DEC-4C18-9BC2-D8AA6009C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F72-A5EE-459E-B2BF-849DE72F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D5C5-3F99-4FF3-8DB6-8B6024BEC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1D7-46E6-4B4C-AEF8-10E65B08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AD50-DF3D-4425-84DA-33712EAC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432640" y="6172200"/>
            <a:ext cx="432000" cy="468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7221240" y="64008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6960" y="120348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304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767052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0991-E462-482E-889E-08D8AB23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ulo de Young de materiales co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2367000" y="404640"/>
            <a:ext cx="58212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39640" y="595440"/>
            <a:ext cx="813132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278000" y="1573200"/>
            <a:ext cx="6794280" cy="4095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686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085760" y="765000"/>
            <a:ext cx="75168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2484360" y="404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R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305400" cy="2579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"/>
          <p:cNvPicPr/>
          <p:nvPr/>
        </p:nvPicPr>
        <p:blipFill>
          <a:blip r:embed="rId2"/>
          <a:stretch/>
        </p:blipFill>
        <p:spPr>
          <a:xfrm>
            <a:off x="3851280" y="5589720"/>
            <a:ext cx="12272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Fig"/>
          <p:cNvPicPr/>
          <p:nvPr/>
        </p:nvPicPr>
        <p:blipFill>
          <a:blip r:embed="rId1"/>
          <a:stretch/>
        </p:blipFill>
        <p:spPr>
          <a:xfrm>
            <a:off x="324000" y="1125360"/>
            <a:ext cx="8532720" cy="3464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771640" y="47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Fig"/>
          <p:cNvPicPr/>
          <p:nvPr/>
        </p:nvPicPr>
        <p:blipFill>
          <a:blip r:embed="rId2"/>
          <a:stretch/>
        </p:blipFill>
        <p:spPr>
          <a:xfrm>
            <a:off x="1476360" y="4724280"/>
            <a:ext cx="6838920" cy="1451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492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c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593" name="1 CuadroTexto"/>
          <p:cNvSpPr/>
          <p:nvPr/>
        </p:nvSpPr>
        <p:spPr>
          <a:xfrm>
            <a:off x="108000" y="230040"/>
            <a:ext cx="3024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 la fractura dúct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cleación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alescencia de hue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 en la 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68360" y="291960"/>
            <a:ext cx="2241360" cy="17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erficies de la fra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Scan10555"/>
          <p:cNvPicPr/>
          <p:nvPr/>
        </p:nvPicPr>
        <p:blipFill>
          <a:blip r:embed="rId1"/>
          <a:stretch/>
        </p:blipFill>
        <p:spPr>
          <a:xfrm>
            <a:off x="3132000" y="291960"/>
            <a:ext cx="5827680" cy="61930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: fractura de una cañ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8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úctil transgranular: coalescencia de microhue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Scan10556"/>
          <p:cNvPicPr/>
          <p:nvPr/>
        </p:nvPicPr>
        <p:blipFill>
          <a:blip r:embed="rId1"/>
          <a:stretch/>
        </p:blipFill>
        <p:spPr>
          <a:xfrm>
            <a:off x="2771640" y="2133720"/>
            <a:ext cx="3400560" cy="32875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 de materiales compuestos lamin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5496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1895760" cy="31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5116680" y="2060640"/>
            <a:ext cx="2390760" cy="371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4925880" y="2808360"/>
            <a:ext cx="2772000" cy="37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435640" y="2432160"/>
            <a:ext cx="1400040" cy="399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4859280" y="4653000"/>
            <a:ext cx="315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frágil transgranular: cliv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Scan10557"/>
          <p:cNvPicPr/>
          <p:nvPr/>
        </p:nvPicPr>
        <p:blipFill>
          <a:blip r:embed="rId1"/>
          <a:stretch/>
        </p:blipFill>
        <p:spPr>
          <a:xfrm>
            <a:off x="2484360" y="2276640"/>
            <a:ext cx="4213440" cy="3365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Intergran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Scan10558"/>
          <p:cNvPicPr/>
          <p:nvPr/>
        </p:nvPicPr>
        <p:blipFill>
          <a:blip r:embed="rId1"/>
          <a:stretch/>
        </p:blipFill>
        <p:spPr>
          <a:xfrm>
            <a:off x="622440" y="1773360"/>
            <a:ext cx="7812000" cy="42116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real o verdad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C:\Users\Rodrigo Palma\Pictures\2011-10-27 n\n 001.jpg"/>
          <p:cNvPicPr/>
          <p:nvPr/>
        </p:nvPicPr>
        <p:blipFill>
          <a:blip r:embed="rId1"/>
          <a:stretch/>
        </p:blipFill>
        <p:spPr>
          <a:xfrm>
            <a:off x="5580000" y="3813120"/>
            <a:ext cx="2648160" cy="196524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97440" cy="927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C:\Users\Rodrigo Palma\Pictures\2011-10-27 real\real 001.jpg"/>
          <p:cNvPicPr/>
          <p:nvPr/>
        </p:nvPicPr>
        <p:blipFill>
          <a:blip r:embed="rId3"/>
          <a:stretch/>
        </p:blipFill>
        <p:spPr>
          <a:xfrm>
            <a:off x="1403280" y="3573360"/>
            <a:ext cx="2670120" cy="24465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pic>
        <p:nvPicPr>
          <p:cNvPr id="608" name="Picture 6" descr=""/>
          <p:cNvPicPr/>
          <p:nvPr/>
        </p:nvPicPr>
        <p:blipFill>
          <a:blip r:embed="rId4"/>
          <a:stretch/>
        </p:blipFill>
        <p:spPr>
          <a:xfrm>
            <a:off x="3780000" y="1844640"/>
            <a:ext cx="4833720" cy="11588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>
            <a:off x="130320" y="2328840"/>
            <a:ext cx="2547720" cy="8906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C:\Users\Rodrigo Palma\Pictures\2011-10-27 K N\K N 001.jpg"/>
          <p:cNvPicPr/>
          <p:nvPr/>
        </p:nvPicPr>
        <p:blipFill>
          <a:blip r:embed="rId6"/>
          <a:stretch/>
        </p:blipFill>
        <p:spPr>
          <a:xfrm>
            <a:off x="1911240" y="3579840"/>
            <a:ext cx="981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1728-685D-4BFE-80E3-9DB6318C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nsayo de Impacto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2297160" y="2313000"/>
            <a:ext cx="5421960" cy="4233960"/>
            <a:chOff x="2297160" y="2313000"/>
            <a:chExt cx="5421960" cy="4233960"/>
          </a:xfrm>
        </p:grpSpPr>
        <p:pic>
          <p:nvPicPr>
            <p:cNvPr id="614" name="Picture 6" descr="Fig 8_12"/>
            <p:cNvPicPr/>
            <p:nvPr/>
          </p:nvPicPr>
          <p:blipFill>
            <a:blip r:embed="rId1"/>
            <a:stretch/>
          </p:blipFill>
          <p:spPr>
            <a:xfrm>
              <a:off x="2297160" y="2313000"/>
              <a:ext cx="488628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Rectangle 7"/>
            <p:cNvSpPr/>
            <p:nvPr/>
          </p:nvSpPr>
          <p:spPr>
            <a:xfrm>
              <a:off x="2368080" y="580248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fin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3244680" y="4135320"/>
              <a:ext cx="3558600" cy="2193480"/>
              <a:chOff x="3244680" y="4135320"/>
              <a:chExt cx="3558600" cy="2193480"/>
            </a:xfrm>
          </p:grpSpPr>
          <p:sp>
            <p:nvSpPr>
              <p:cNvPr id="617" name="Line 9"/>
              <p:cNvSpPr/>
              <p:nvPr/>
            </p:nvSpPr>
            <p:spPr>
              <a:xfrm>
                <a:off x="3322440" y="6327000"/>
                <a:ext cx="3402720" cy="1800"/>
              </a:xfrm>
              <a:prstGeom prst="line">
                <a:avLst/>
              </a:prstGeom>
              <a:ln w="20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Group 10"/>
              <p:cNvGrpSpPr/>
              <p:nvPr/>
            </p:nvGrpSpPr>
            <p:grpSpPr>
              <a:xfrm>
                <a:off x="6614640" y="4135320"/>
                <a:ext cx="188640" cy="2185920"/>
                <a:chOff x="6614640" y="4135320"/>
                <a:chExt cx="188640" cy="2185920"/>
              </a:xfrm>
            </p:grpSpPr>
            <p:sp>
              <p:nvSpPr>
                <p:cNvPr id="619" name="Freeform 11"/>
                <p:cNvSpPr/>
                <p:nvPr/>
              </p:nvSpPr>
              <p:spPr>
                <a:xfrm>
                  <a:off x="6614640" y="4135320"/>
                  <a:ext cx="188640" cy="20664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6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 flipV="1">
                  <a:off x="6708600" y="4276080"/>
                  <a:ext cx="2520" cy="204516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13"/>
              <p:cNvGrpSpPr/>
              <p:nvPr/>
            </p:nvGrpSpPr>
            <p:grpSpPr>
              <a:xfrm>
                <a:off x="3244680" y="5281200"/>
                <a:ext cx="174600" cy="1044720"/>
                <a:chOff x="3244680" y="5281200"/>
                <a:chExt cx="174600" cy="1044720"/>
              </a:xfrm>
            </p:grpSpPr>
            <p:sp>
              <p:nvSpPr>
                <p:cNvPr id="622" name="Freeform 14"/>
                <p:cNvSpPr/>
                <p:nvPr/>
              </p:nvSpPr>
              <p:spPr>
                <a:xfrm>
                  <a:off x="3244680" y="5281200"/>
                  <a:ext cx="174600" cy="190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76" h="82">
                      <a:moveTo>
                        <a:pt x="38" y="0"/>
                      </a:moveTo>
                      <a:lnTo>
                        <a:pt x="76" y="82"/>
                      </a:lnTo>
                      <a:lnTo>
                        <a:pt x="38" y="57"/>
                      </a:lnTo>
                      <a:lnTo>
                        <a:pt x="0" y="82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0000"/>
                </a:solidFill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5"/>
                <p:cNvSpPr/>
                <p:nvPr/>
              </p:nvSpPr>
              <p:spPr>
                <a:xfrm flipV="1">
                  <a:off x="3331800" y="5413320"/>
                  <a:ext cx="1800" cy="912600"/>
                </a:xfrm>
                <a:prstGeom prst="line">
                  <a:avLst/>
                </a:prstGeom>
                <a:ln w="205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" name="Rectangle 16"/>
            <p:cNvSpPr/>
            <p:nvPr/>
          </p:nvSpPr>
          <p:spPr>
            <a:xfrm>
              <a:off x="6775200" y="58024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initial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7"/>
          <p:cNvSpPr/>
          <p:nvPr/>
        </p:nvSpPr>
        <p:spPr>
          <a:xfrm>
            <a:off x="522360" y="1155600"/>
            <a:ext cx="469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ga de Impa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s el caso mas severo de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 el material se comporta más frág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8"/>
          <p:cNvSpPr/>
          <p:nvPr/>
        </p:nvSpPr>
        <p:spPr>
          <a:xfrm>
            <a:off x="293760" y="2798640"/>
            <a:ext cx="243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8.12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Fig. 8.12(b) is adapted from H.W. Hayden, W.G. Moffatt, and J. Wulff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Structure and Properties of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III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chanical Behavi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ohn Wiley and Sons, Inc. (1965) p. 13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6486480" y="1154160"/>
            <a:ext cx="1917720" cy="1805040"/>
            <a:chOff x="6486480" y="1154160"/>
            <a:chExt cx="1917720" cy="1805040"/>
          </a:xfrm>
        </p:grpSpPr>
        <p:pic>
          <p:nvPicPr>
            <p:cNvPr id="628" name="Picture 20" descr=""/>
            <p:cNvPicPr/>
            <p:nvPr/>
          </p:nvPicPr>
          <p:blipFill>
            <a:blip r:embed="rId2"/>
            <a:stretch/>
          </p:blipFill>
          <p:spPr>
            <a:xfrm>
              <a:off x="6486480" y="1484280"/>
              <a:ext cx="19177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21"/>
            <p:cNvSpPr/>
            <p:nvPr/>
          </p:nvSpPr>
          <p:spPr>
            <a:xfrm>
              <a:off x="6525000" y="115416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(Charp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22"/>
            <p:cNvGrpSpPr/>
            <p:nvPr/>
          </p:nvGrpSpPr>
          <p:grpSpPr>
            <a:xfrm>
              <a:off x="7031160" y="1395360"/>
              <a:ext cx="164880" cy="444600"/>
              <a:chOff x="7031160" y="1395360"/>
              <a:chExt cx="164880" cy="444600"/>
            </a:xfrm>
          </p:grpSpPr>
          <p:sp>
            <p:nvSpPr>
              <p:cNvPr id="631" name="Freeform 23"/>
              <p:cNvSpPr/>
              <p:nvPr/>
            </p:nvSpPr>
            <p:spPr>
              <a:xfrm>
                <a:off x="7056360" y="1662120"/>
                <a:ext cx="139680" cy="177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88" h="112">
                    <a:moveTo>
                      <a:pt x="80" y="112"/>
                    </a:moveTo>
                    <a:lnTo>
                      <a:pt x="0" y="32"/>
                    </a:lnTo>
                    <a:lnTo>
                      <a:pt x="56" y="48"/>
                    </a:lnTo>
                    <a:lnTo>
                      <a:pt x="88" y="0"/>
                    </a:lnTo>
                    <a:lnTo>
                      <a:pt x="80" y="112"/>
                    </a:ln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>
                <a:off x="7031160" y="1395360"/>
                <a:ext cx="114120" cy="343080"/>
              </a:xfrm>
              <a:prstGeom prst="line">
                <a:avLst/>
              </a:prstGeom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Arial"/>
              </a:rPr>
              <a:t>Curva de impacto  de un acero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7670880" y="6404040"/>
            <a:ext cx="118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A3DC-4F33-4B09-AF06-93AF7084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1355760" y="1203480"/>
            <a:ext cx="6454800" cy="4892400"/>
          </a:xfrm>
          <a:prstGeom prst="rect">
            <a:avLst/>
          </a:prstGeom>
          <a:ln w="0">
            <a:noFill/>
          </a:ln>
        </p:spPr>
      </p:pic>
      <p:sp>
        <p:nvSpPr>
          <p:cNvPr id="636" name="5 Rectángulo"/>
          <p:cNvSpPr/>
          <p:nvPr/>
        </p:nvSpPr>
        <p:spPr>
          <a:xfrm>
            <a:off x="4140360" y="4292640"/>
            <a:ext cx="3095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7 Rectángulo"/>
          <p:cNvSpPr/>
          <p:nvPr/>
        </p:nvSpPr>
        <p:spPr>
          <a:xfrm>
            <a:off x="2428920" y="2276640"/>
            <a:ext cx="20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Ec"/>
          <p:cNvPicPr/>
          <p:nvPr/>
        </p:nvPicPr>
        <p:blipFill>
          <a:blip r:embed="rId1"/>
          <a:stretch/>
        </p:blipFill>
        <p:spPr>
          <a:xfrm>
            <a:off x="250920" y="1341360"/>
            <a:ext cx="8426520" cy="857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Ec"/>
          <p:cNvPicPr/>
          <p:nvPr/>
        </p:nvPicPr>
        <p:blipFill>
          <a:blip r:embed="rId2"/>
          <a:stretch/>
        </p:blipFill>
        <p:spPr>
          <a:xfrm>
            <a:off x="971640" y="3141720"/>
            <a:ext cx="7626240" cy="8827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Ec"/>
          <p:cNvPicPr/>
          <p:nvPr/>
        </p:nvPicPr>
        <p:blipFill>
          <a:blip r:embed="rId3"/>
          <a:srcRect l="0" t="0" r="55262" b="0"/>
          <a:stretch/>
        </p:blipFill>
        <p:spPr>
          <a:xfrm>
            <a:off x="1476360" y="4365720"/>
            <a:ext cx="3095640" cy="927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916360" y="2602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ormación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Ec"/>
          <p:cNvPicPr/>
          <p:nvPr/>
        </p:nvPicPr>
        <p:blipFill>
          <a:blip r:embed="rId1"/>
          <a:stretch/>
        </p:blipFill>
        <p:spPr>
          <a:xfrm>
            <a:off x="1476360" y="907920"/>
            <a:ext cx="6912000" cy="725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Ec"/>
          <p:cNvPicPr/>
          <p:nvPr/>
        </p:nvPicPr>
        <p:blipFill>
          <a:blip r:embed="rId2"/>
          <a:srcRect l="0" t="0" r="64773" b="0"/>
          <a:stretch/>
        </p:blipFill>
        <p:spPr>
          <a:xfrm>
            <a:off x="826920" y="2781360"/>
            <a:ext cx="2664000" cy="1065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Ec"/>
          <p:cNvPicPr/>
          <p:nvPr/>
        </p:nvPicPr>
        <p:blipFill>
          <a:blip r:embed="rId3"/>
          <a:stretch/>
        </p:blipFill>
        <p:spPr>
          <a:xfrm>
            <a:off x="900000" y="4365720"/>
            <a:ext cx="748836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Ec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798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Ec"/>
          <p:cNvPicPr/>
          <p:nvPr/>
        </p:nvPicPr>
        <p:blipFill>
          <a:blip r:embed="rId2"/>
          <a:stretch/>
        </p:blipFill>
        <p:spPr>
          <a:xfrm>
            <a:off x="826920" y="2708280"/>
            <a:ext cx="73454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Ec"/>
          <p:cNvPicPr/>
          <p:nvPr/>
        </p:nvPicPr>
        <p:blipFill>
          <a:blip r:embed="rId1"/>
          <a:stretch/>
        </p:blipFill>
        <p:spPr>
          <a:xfrm>
            <a:off x="1187280" y="2565360"/>
            <a:ext cx="6728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mites superior e inferior del módulo de Young de materiales com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416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Ec"/>
          <p:cNvPicPr/>
          <p:nvPr/>
        </p:nvPicPr>
        <p:blipFill>
          <a:blip r:embed="rId1"/>
          <a:stretch/>
        </p:blipFill>
        <p:spPr>
          <a:xfrm>
            <a:off x="1763640" y="836640"/>
            <a:ext cx="5784840" cy="1130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Ec"/>
          <p:cNvPicPr/>
          <p:nvPr/>
        </p:nvPicPr>
        <p:blipFill>
          <a:blip r:embed="rId2"/>
          <a:stretch/>
        </p:blipFill>
        <p:spPr>
          <a:xfrm>
            <a:off x="579600" y="5013360"/>
            <a:ext cx="8564400" cy="10904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Ec"/>
          <p:cNvPicPr/>
          <p:nvPr/>
        </p:nvPicPr>
        <p:blipFill>
          <a:blip r:embed="rId3"/>
          <a:stretch/>
        </p:blipFill>
        <p:spPr>
          <a:xfrm>
            <a:off x="1116000" y="2708280"/>
            <a:ext cx="698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Ec"/>
          <p:cNvPicPr/>
          <p:nvPr/>
        </p:nvPicPr>
        <p:blipFill>
          <a:blip r:embed="rId1"/>
          <a:srcRect l="0" t="0" r="45182" b="0"/>
          <a:stretch/>
        </p:blipFill>
        <p:spPr>
          <a:xfrm>
            <a:off x="0" y="765000"/>
            <a:ext cx="4835520" cy="1163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Ec"/>
          <p:cNvPicPr/>
          <p:nvPr/>
        </p:nvPicPr>
        <p:blipFill>
          <a:blip r:embed="rId2"/>
          <a:stretch/>
        </p:blipFill>
        <p:spPr>
          <a:xfrm>
            <a:off x="879480" y="2421000"/>
            <a:ext cx="7345440" cy="977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Ec"/>
          <p:cNvPicPr/>
          <p:nvPr/>
        </p:nvPicPr>
        <p:blipFill>
          <a:blip r:embed="rId3"/>
          <a:srcRect l="0" t="0" r="65665" b="0"/>
          <a:stretch/>
        </p:blipFill>
        <p:spPr>
          <a:xfrm>
            <a:off x="971640" y="4292640"/>
            <a:ext cx="2547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SAYOS MECA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1063800" y="2390760"/>
            <a:ext cx="6669000" cy="3341880"/>
          </a:xfrm>
          <a:prstGeom prst="rect">
            <a:avLst/>
          </a:prstGeom>
          <a:ln w="0">
            <a:noFill/>
          </a:ln>
        </p:spPr>
      </p:pic>
      <p:sp>
        <p:nvSpPr>
          <p:cNvPr id="571" name="1 CuadroTexto"/>
          <p:cNvSpPr/>
          <p:nvPr/>
        </p:nvSpPr>
        <p:spPr>
          <a:xfrm>
            <a:off x="2843280" y="981000"/>
            <a:ext cx="33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li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1182600" y="2409840"/>
            <a:ext cx="7048440" cy="3467160"/>
          </a:xfrm>
          <a:prstGeom prst="rect">
            <a:avLst/>
          </a:prstGeom>
          <a:ln w="0">
            <a:noFill/>
          </a:ln>
        </p:spPr>
      </p:pic>
      <p:sp>
        <p:nvSpPr>
          <p:cNvPr id="573" name="1 CuadroTexto"/>
          <p:cNvSpPr/>
          <p:nvPr/>
        </p:nvSpPr>
        <p:spPr>
          <a:xfrm>
            <a:off x="2268360" y="765000"/>
            <a:ext cx="460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ortamiento elástico no-lineal (go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96000" cy="3370320"/>
          </a:xfrm>
          <a:prstGeom prst="rect">
            <a:avLst/>
          </a:prstGeom>
          <a:ln w="0">
            <a:noFill/>
          </a:ln>
        </p:spPr>
      </p:pic>
      <p:sp>
        <p:nvSpPr>
          <p:cNvPr id="575" name="1 CuadroTexto"/>
          <p:cNvSpPr/>
          <p:nvPr/>
        </p:nvSpPr>
        <p:spPr>
          <a:xfrm>
            <a:off x="3492360" y="620640"/>
            <a:ext cx="3311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pas del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4986360" cy="3465720"/>
          </a:xfrm>
          <a:prstGeom prst="rect">
            <a:avLst/>
          </a:prstGeom>
          <a:ln w="0">
            <a:noFill/>
          </a:ln>
        </p:spPr>
      </p:pic>
      <p:sp>
        <p:nvSpPr>
          <p:cNvPr id="577" name="1 CuadroTexto"/>
          <p:cNvSpPr/>
          <p:nvPr/>
        </p:nvSpPr>
        <p:spPr>
          <a:xfrm>
            <a:off x="2411280" y="620640"/>
            <a:ext cx="3745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istencia máxima a la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216400" cy="4246560"/>
          </a:xfrm>
          <a:prstGeom prst="rect">
            <a:avLst/>
          </a:prstGeom>
          <a:ln w="0">
            <a:noFill/>
          </a:ln>
        </p:spPr>
      </p:pic>
      <p:sp>
        <p:nvSpPr>
          <p:cNvPr id="579" name="1 CuadroTexto"/>
          <p:cNvSpPr/>
          <p:nvPr/>
        </p:nvSpPr>
        <p:spPr>
          <a:xfrm>
            <a:off x="1835280" y="549360"/>
            <a:ext cx="59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ción de propiedades mecánicas en un ensayo de 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5:32Z</dcterms:created>
  <dc:creator>Gladys Leiva</dc:creator>
  <dc:description/>
  <dc:language>en-US</dc:language>
  <cp:lastModifiedBy>Rodrigo Palma</cp:lastModifiedBy>
  <dcterms:modified xsi:type="dcterms:W3CDTF">2011-10-27T12:25:48Z</dcterms:modified>
  <cp:revision>10</cp:revision>
  <dc:subject/>
  <dc:title>Diapositiva 1</dc:title>
</cp:coreProperties>
</file>