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media/image5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media/image32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33.png" ContentType="image/png"/>
  <Override PartName="/ppt/media/image46.jpeg" ContentType="image/jpeg"/>
  <Override PartName="/ppt/media/image49.jpeg" ContentType="image/jpeg"/>
  <Override PartName="/ppt/media/image7.wmf" ContentType="image/x-wmf"/>
  <Override PartName="/ppt/media/image31.png" ContentType="image/png"/>
  <Override PartName="/ppt/media/image30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39.jpeg" ContentType="image/jpeg"/>
  <Override PartName="/ppt/media/image16.wmf" ContentType="image/x-wmf"/>
  <Override PartName="/ppt/media/image45.jpeg" ContentType="image/jpeg"/>
  <Override PartName="/ppt/media/image11.wmf" ContentType="image/x-wmf"/>
  <Override PartName="/ppt/media/image47.jpeg" ContentType="image/jpeg"/>
  <Override PartName="/ppt/media/image6.wmf" ContentType="image/x-wmf"/>
  <Override PartName="/ppt/media/image10.wmf" ContentType="image/x-wmf"/>
  <Override PartName="/ppt/media/image42.jpeg" ContentType="image/jpeg"/>
  <Override PartName="/ppt/media/image25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343-DF04-41BD-8919-A2C3DF32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6E1-C703-4BFC-904E-EF0828D4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6E067-5138-4086-9AD2-355A21E5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9292A-1A5A-4BA6-ADC9-8CFE9600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1EFFC-C8E4-4883-B2F5-FFD60C77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6EDD1-2804-468B-BD9C-113DDE6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CFE16-31AF-447A-B7DB-F091EC7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EECBC-8C8C-40AE-9844-8F80541F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723B1-9C00-4FA4-AB33-86F8B276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F98F1-049D-4F87-A1CD-3582D35D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78972-A172-47A9-96DF-27B6E92F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2C7A5-073B-4833-84A6-6198AD34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F33-E276-4023-A8AB-04E3015D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5CBE4-8DF1-470B-8043-C169BFA3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18081-7059-460B-9CBE-64224A4B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FFCF6-609E-451C-9A50-2738B942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FB006-56ED-4580-B1FF-6D5FF1C5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521F4-4312-46CC-9574-38EAD0F1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D1574-4967-441F-97DB-6FF23B4A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B3C17-AE53-462F-8412-3C20E9D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F0C11-DB8E-4D18-A8B5-FD5DA11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34F32-33D3-45CE-ACFA-062AA3C2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23A86-E383-4755-8F88-04FCC880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654-B374-4A1F-B205-A3B4D64C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834EE-9EDA-40F0-85EB-5E738752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91A8D-E278-4768-AD51-C43C0AEE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7C780-6415-48FA-80ED-D4CB392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7E1FE-7F3E-4332-9035-A2490ACD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F57E9-270F-41C0-94F8-9DC910C6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DCABD-5C7B-47F3-90DB-DE92AD96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2F7CF-911F-4A75-A7B3-96623CA6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76CE9-C675-4353-A4C6-6DCFBCB6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79F18-AD1E-4704-8BCC-18241E9C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C51AE-FE7C-4FD8-8296-2DBA6A26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9BF9-F43A-408D-B0C5-80EAE6CE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445F4-8F56-446F-97D9-394C1C3F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7138A-6C3A-4B1A-98B3-72320327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5BADC-F677-497D-8D9A-56C54906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208E8-A388-4728-B6DA-782FDE93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F6398-B639-4BB7-8B51-271F590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251F6-570D-467E-9D88-450BB192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A67B0-0CF1-4D20-B47B-2F6784A0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40D04-40EF-482B-ABA2-E86032C8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16ED9-5357-4D02-B956-4F08388F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E2E8D-FDDC-4B4F-8786-7DC5619A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F657-929A-451D-A711-D83616A0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971E6-2F08-41EB-AE9B-89C86999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6CFC9-E7AA-40DD-BEAD-BEEFB83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8392D-5B91-4B06-B679-F61AF295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ACEB9-C3DA-4E94-B339-F6CC0E7B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4CC43-AE39-45C9-9C03-161840EE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70940-7302-49CF-B684-8C26F25D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D827B-9F2C-402D-B6B4-AFFD122E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ADC62-3CA8-4600-86A7-686D56F9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17026-C0E2-4EDA-BA9B-BBC8DE54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C86A2-48EB-45A7-8713-CEC40A54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4EB5-D6AD-4C85-A649-CA57BE81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B6C65-4653-4CAC-BB6B-5C06F412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9A52A-430C-468E-9BDC-DDB86F12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A1498-FA9A-4163-BEE4-8F09A32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2DBDA-3160-449B-9BC0-55B6FCA3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5B5F4-AD1B-4A79-BAAD-4E841F61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22365-F053-441F-AF1C-596DACA7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CAF9E-ECA0-412A-A9D2-6A82C528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9CE3-7239-4548-9B80-1EEB3050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CED6-EF15-43DF-9DB2-483E973B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B1A3-6997-4D83-BF48-06BBA90F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33D5-445B-4C8A-80A2-0F9B2D2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5C3-F88F-4BE3-ACAD-27BC3B2E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F2A8-FECE-4D98-B96C-AED550C8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90DE-1CAF-4E2D-8AD7-9A1FD27D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4F85-5485-444A-A3BD-8BFDCA87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E994-DE55-42C0-9ADE-01F62E06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3DAF-0688-483F-9286-36A33258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8E94-AB4A-4471-917E-1420AF93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D927-B89D-4D9F-AD84-5CAF6AC6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E9FE-AE26-4DA0-A583-E14372F6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6CE3-1EF9-4687-AD30-4CBF344B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EC26-0EFB-4DEF-BF1C-B1B8A55F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41C-E2B0-46D7-8D66-BB7CCD78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E710-D8F2-4DA6-BB00-704368CD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B4D3-18A1-4AB1-99A2-079CC54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77C2-C2B4-41C9-942D-DBC2C15B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5A09-F832-43A7-A9F7-76121935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1DB4-7DC1-440B-A05B-21143BB0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5183-F421-429B-8EFD-36128D92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38AF-B27B-4140-830C-0B934B15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6E9CC-0C6E-417D-BDA3-C861D6A9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83DB-F9E9-459B-A106-FBE30EF0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96A60-6D0A-4F7A-AA64-2BE73DA8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687-1E30-4783-B2DA-71039BC8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507FD-896B-4188-86B9-5135EE08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0259-5153-4D49-B9D2-DCDC21C7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B404-AAE5-4281-8353-D3D8B5D8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E441-376F-43EC-B09A-9D475249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B320A-3258-4145-9EEE-7D29C7FB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7CC7D-FC79-4C68-84C9-7CE96A0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6E81-02D9-40E3-85DF-B46C763C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3191-E18C-4368-B45F-292A1A58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8289-0ED0-458D-9F33-FEA0F8F2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32E1A-5FA7-4763-903F-F96108A5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FB7-97AA-4591-A39A-A8940A69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0161A-EF84-4BEC-B7E5-D7FA118D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8C4C-87ED-4F09-A69F-FD5C4157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9414-6F2A-43E6-99C3-DE3C55D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0B10A-3E90-444A-8AFA-AD323CBC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C040-1B80-431D-9456-4D340B03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05D6-2F54-4191-BE3A-2A21FC22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7C4BB-05AB-41DC-9E27-9A92792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5EE1C-552B-43EF-8D11-FCE62CA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2B55-2137-4308-B7C9-28EBC63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0230-6695-4501-BA50-CBE41396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504-8158-4B37-8378-FEB66114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D2FD-2D54-44D4-A364-B13191F1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780E1-2600-4210-979E-1BDD8C00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FA4D-D61D-465D-80CD-D4BC0BF7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C48C4-3446-4FAA-9A05-7B3F8DED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6CA76-F4A5-415C-A3C3-353BB1CA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AE1A1-8033-4CDD-8761-7A3D77A1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ECDDA-5A17-447C-965C-B687AD2D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BE8AE-F369-4537-B1A5-A064C29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080A7-69E1-4093-8CCD-8DFE0CB3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D1E51-ACA7-44C6-9F69-3383FB2D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9D0-F285-4787-9CCB-018003C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E946F-E7A0-47CC-B79A-FB117889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8242D-8073-4EAC-8500-A25F6463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EA389-4D1E-4CAF-B993-221483E3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0AF5A-434E-4B85-BEEB-F7D0AB40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DAEE2-515B-4232-9CD5-3BE877E4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E98B7-65EF-4044-AF49-84A2E96F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30154-E6D1-4CE3-A447-D0BF37A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3A6A-85D1-4F9A-A9CF-086E6E93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4F64A-851B-47F3-8C13-077374B7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7068B-DF0B-4312-A02D-399F5E5F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379-34D1-4177-B884-98B9DFF0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4DD5F-4A15-4B70-83FB-9DCE457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F7EC8-8077-42C8-A6F7-E9A35076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44660-F50E-4096-BD9B-33AC7948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EAB09-9253-454B-9597-9A5D7A42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AACEB-EAD8-4B5C-B13C-BC964464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4EDD-185F-4489-9E0F-81939786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151A0-E236-46DF-9E97-8004D88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D97DF-84E8-433B-95BD-B8ED8C39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13F05-7BF1-401F-A906-23AD5B6C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40E89-3C65-4BDA-8774-22EA4733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AB3-983D-44E3-88EF-05E8225B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BA7DE-7CD5-4B35-90E9-EBA9FEE7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CDBB1-4B73-47A3-BFFD-77E072C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E300D-CBF3-4501-9FF0-8B3DC4C8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DD024-85B3-4AAF-A860-E3922C2A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AFC0B-E3DE-467F-AEAE-26F504A6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D09EA-EDEC-4813-8FE9-2867A462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3C52D-8F4E-423E-886C-D15CAF69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24B96-A9CC-4598-8F84-4CBF733E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88143-2EB2-4FDA-A077-A60EA5D9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AC160-A112-4CA2-BDB5-4BEC7DD8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1E51-52F6-4E11-A252-26D8E436BE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FDB4-C026-4427-9506-EFABA35A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815E-EC86-4DE6-B14E-A2C04A660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8DA9-1046-49BD-8747-940B230A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39A-1682-463F-AFCA-91AF1BF4E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D210-20DC-4218-9333-9B513766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4A5D-DA13-4376-8CE6-BC3A019EA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2CBC-6A68-482A-AAA5-9C6744976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11A2-4178-4E11-AF15-5546A806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F333-6FD6-4C1E-83E9-24B99F2AB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C383-3DDA-48DE-B878-6B5DF94E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0116-7AD4-4E19-BED8-CD80CD228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FD5B-5165-47A5-B9C3-554997824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ulo de Young de materiales co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2367000" y="404640"/>
            <a:ext cx="58212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539640" y="595440"/>
            <a:ext cx="81313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278000" y="1573200"/>
            <a:ext cx="6794280" cy="4095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686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085760" y="765000"/>
            <a:ext cx="75168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2484360" y="404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U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305400" cy="2579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2"/>
          <a:stretch/>
        </p:blipFill>
        <p:spPr>
          <a:xfrm>
            <a:off x="3851280" y="5589720"/>
            <a:ext cx="12272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Fig"/>
          <p:cNvPicPr/>
          <p:nvPr/>
        </p:nvPicPr>
        <p:blipFill>
          <a:blip r:embed="rId1"/>
          <a:stretch/>
        </p:blipFill>
        <p:spPr>
          <a:xfrm>
            <a:off x="324000" y="1125360"/>
            <a:ext cx="8532720" cy="3464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2771640" y="47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Fig"/>
          <p:cNvPicPr/>
          <p:nvPr/>
        </p:nvPicPr>
        <p:blipFill>
          <a:blip r:embed="rId2"/>
          <a:stretch/>
        </p:blipFill>
        <p:spPr>
          <a:xfrm>
            <a:off x="1476360" y="4724280"/>
            <a:ext cx="6838920" cy="14511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3492360" y="638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c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6240600" cy="4680000"/>
          </a:xfrm>
          <a:prstGeom prst="rect">
            <a:avLst/>
          </a:prstGeom>
          <a:ln w="0">
            <a:noFill/>
          </a:ln>
        </p:spPr>
      </p:pic>
      <p:sp>
        <p:nvSpPr>
          <p:cNvPr id="593" name="1 CuadroTexto"/>
          <p:cNvSpPr/>
          <p:nvPr/>
        </p:nvSpPr>
        <p:spPr>
          <a:xfrm>
            <a:off x="108000" y="230040"/>
            <a:ext cx="3024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 la fractura dúct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cleación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alescencia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e en la superf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68360" y="291960"/>
            <a:ext cx="2241360" cy="17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erficies de la frac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Scan10555"/>
          <p:cNvPicPr/>
          <p:nvPr/>
        </p:nvPicPr>
        <p:blipFill>
          <a:blip r:embed="rId1"/>
          <a:stretch/>
        </p:blipFill>
        <p:spPr>
          <a:xfrm>
            <a:off x="3132000" y="291960"/>
            <a:ext cx="5827680" cy="6193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: fractura de una cañ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8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úctil transgranular: coalescencia de microhue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Scan10556"/>
          <p:cNvPicPr/>
          <p:nvPr/>
        </p:nvPicPr>
        <p:blipFill>
          <a:blip r:embed="rId1"/>
          <a:stretch/>
        </p:blipFill>
        <p:spPr>
          <a:xfrm>
            <a:off x="2771640" y="2133720"/>
            <a:ext cx="3400560" cy="32875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 de materiales compuestos lamin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5496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1895760" cy="314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5116680" y="2060640"/>
            <a:ext cx="2390760" cy="371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4925880" y="2808360"/>
            <a:ext cx="2772000" cy="37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"/>
          <p:cNvPicPr/>
          <p:nvPr/>
        </p:nvPicPr>
        <p:blipFill>
          <a:blip r:embed="rId5"/>
          <a:stretch/>
        </p:blipFill>
        <p:spPr>
          <a:xfrm>
            <a:off x="5435640" y="2432160"/>
            <a:ext cx="1400040" cy="399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315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frágil transgranular: cliv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Scan10557"/>
          <p:cNvPicPr/>
          <p:nvPr/>
        </p:nvPicPr>
        <p:blipFill>
          <a:blip r:embed="rId1"/>
          <a:stretch/>
        </p:blipFill>
        <p:spPr>
          <a:xfrm>
            <a:off x="2484360" y="2276640"/>
            <a:ext cx="4213440" cy="3365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Intergran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Scan10558"/>
          <p:cNvPicPr/>
          <p:nvPr/>
        </p:nvPicPr>
        <p:blipFill>
          <a:blip r:embed="rId1"/>
          <a:stretch/>
        </p:blipFill>
        <p:spPr>
          <a:xfrm>
            <a:off x="622440" y="1773360"/>
            <a:ext cx="7812000" cy="42116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 real o verdad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C:\Users\Rodrigo Palma\Pictures\2011-10-27 n\n 001.jpg"/>
          <p:cNvPicPr/>
          <p:nvPr/>
        </p:nvPicPr>
        <p:blipFill>
          <a:blip r:embed="rId1"/>
          <a:stretch/>
        </p:blipFill>
        <p:spPr>
          <a:xfrm>
            <a:off x="5580000" y="3813120"/>
            <a:ext cx="2648160" cy="19652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6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97440" cy="927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C:\Users\Rodrigo Palma\Pictures\2011-10-27 real\real 001.jpg"/>
          <p:cNvPicPr/>
          <p:nvPr/>
        </p:nvPicPr>
        <p:blipFill>
          <a:blip r:embed="rId3"/>
          <a:stretch/>
        </p:blipFill>
        <p:spPr>
          <a:xfrm>
            <a:off x="1403280" y="3573360"/>
            <a:ext cx="2670120" cy="24465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8" name="Picture 6" descr=""/>
          <p:cNvPicPr/>
          <p:nvPr/>
        </p:nvPicPr>
        <p:blipFill>
          <a:blip r:embed="rId4"/>
          <a:stretch/>
        </p:blipFill>
        <p:spPr>
          <a:xfrm>
            <a:off x="3780000" y="1844640"/>
            <a:ext cx="4833720" cy="11588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>
            <a:off x="130320" y="2328840"/>
            <a:ext cx="2547720" cy="8906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C:\Users\Rodrigo Palma\Pictures\2011-10-27 K N\K N 001.jpg"/>
          <p:cNvPicPr/>
          <p:nvPr/>
        </p:nvPicPr>
        <p:blipFill>
          <a:blip r:embed="rId6"/>
          <a:stretch/>
        </p:blipFill>
        <p:spPr>
          <a:xfrm>
            <a:off x="1911240" y="3579840"/>
            <a:ext cx="981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F621-A0F9-4FEB-BF00-FD2248CC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nsayo de Impacto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2297160" y="2313000"/>
            <a:ext cx="5421960" cy="4233960"/>
            <a:chOff x="2297160" y="2313000"/>
            <a:chExt cx="5421960" cy="4233960"/>
          </a:xfrm>
        </p:grpSpPr>
        <p:pic>
          <p:nvPicPr>
            <p:cNvPr id="614" name="Picture 6" descr="Fig 8_12"/>
            <p:cNvPicPr/>
            <p:nvPr/>
          </p:nvPicPr>
          <p:blipFill>
            <a:blip r:embed="rId1"/>
            <a:stretch/>
          </p:blipFill>
          <p:spPr>
            <a:xfrm>
              <a:off x="2297160" y="2313000"/>
              <a:ext cx="488628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Rectangle 7"/>
            <p:cNvSpPr/>
            <p:nvPr/>
          </p:nvSpPr>
          <p:spPr>
            <a:xfrm>
              <a:off x="2368080" y="5802480"/>
              <a:ext cx="86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fin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8"/>
            <p:cNvGrpSpPr/>
            <p:nvPr/>
          </p:nvGrpSpPr>
          <p:grpSpPr>
            <a:xfrm>
              <a:off x="3244680" y="4135320"/>
              <a:ext cx="3558600" cy="2193480"/>
              <a:chOff x="3244680" y="4135320"/>
              <a:chExt cx="3558600" cy="2193480"/>
            </a:xfrm>
          </p:grpSpPr>
          <p:sp>
            <p:nvSpPr>
              <p:cNvPr id="617" name="Line 9"/>
              <p:cNvSpPr/>
              <p:nvPr/>
            </p:nvSpPr>
            <p:spPr>
              <a:xfrm>
                <a:off x="3322440" y="6327000"/>
                <a:ext cx="3402720" cy="1800"/>
              </a:xfrm>
              <a:prstGeom prst="line">
                <a:avLst/>
              </a:prstGeom>
              <a:ln w="20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Group 10"/>
              <p:cNvGrpSpPr/>
              <p:nvPr/>
            </p:nvGrpSpPr>
            <p:grpSpPr>
              <a:xfrm>
                <a:off x="6614640" y="4135320"/>
                <a:ext cx="188640" cy="2185920"/>
                <a:chOff x="6614640" y="4135320"/>
                <a:chExt cx="188640" cy="2185920"/>
              </a:xfrm>
            </p:grpSpPr>
            <p:sp>
              <p:nvSpPr>
                <p:cNvPr id="619" name="Freeform 11"/>
                <p:cNvSpPr/>
                <p:nvPr/>
              </p:nvSpPr>
              <p:spPr>
                <a:xfrm>
                  <a:off x="6614640" y="4135320"/>
                  <a:ext cx="188640" cy="2066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6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"/>
                <p:cNvSpPr/>
                <p:nvPr/>
              </p:nvSpPr>
              <p:spPr>
                <a:xfrm flipV="1">
                  <a:off x="6708600" y="4276080"/>
                  <a:ext cx="2520" cy="204516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13"/>
              <p:cNvGrpSpPr/>
              <p:nvPr/>
            </p:nvGrpSpPr>
            <p:grpSpPr>
              <a:xfrm>
                <a:off x="3244680" y="5281200"/>
                <a:ext cx="174600" cy="1044720"/>
                <a:chOff x="3244680" y="5281200"/>
                <a:chExt cx="174600" cy="1044720"/>
              </a:xfrm>
            </p:grpSpPr>
            <p:sp>
              <p:nvSpPr>
                <p:cNvPr id="622" name="Freeform 14"/>
                <p:cNvSpPr/>
                <p:nvPr/>
              </p:nvSpPr>
              <p:spPr>
                <a:xfrm>
                  <a:off x="3244680" y="5281200"/>
                  <a:ext cx="174600" cy="1908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7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5"/>
                <p:cNvSpPr/>
                <p:nvPr/>
              </p:nvSpPr>
              <p:spPr>
                <a:xfrm flipV="1">
                  <a:off x="3331800" y="5413320"/>
                  <a:ext cx="1800" cy="91260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" name="Rectangle 16"/>
            <p:cNvSpPr/>
            <p:nvPr/>
          </p:nvSpPr>
          <p:spPr>
            <a:xfrm>
              <a:off x="6775200" y="58024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initi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7"/>
          <p:cNvSpPr/>
          <p:nvPr/>
        </p:nvSpPr>
        <p:spPr>
          <a:xfrm>
            <a:off x="522360" y="1155600"/>
            <a:ext cx="469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ga de Impa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s el caso mas severo de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l material se comporta más frág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8"/>
          <p:cNvSpPr/>
          <p:nvPr/>
        </p:nvSpPr>
        <p:spPr>
          <a:xfrm>
            <a:off x="293760" y="2798640"/>
            <a:ext cx="243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8.12(b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Fig. 8.12(b) is adapted from H.W. Hayden, W.G. Moffatt, and J. Wulff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Structure and Properties of Materi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III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chanical Behavi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ohn Wiley and Sons, Inc. (1965) p. 13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9"/>
          <p:cNvGrpSpPr/>
          <p:nvPr/>
        </p:nvGrpSpPr>
        <p:grpSpPr>
          <a:xfrm>
            <a:off x="6486480" y="1154160"/>
            <a:ext cx="1917720" cy="1805040"/>
            <a:chOff x="6486480" y="1154160"/>
            <a:chExt cx="1917720" cy="1805040"/>
          </a:xfrm>
        </p:grpSpPr>
        <p:pic>
          <p:nvPicPr>
            <p:cNvPr id="628" name="Picture 20" descr=""/>
            <p:cNvPicPr/>
            <p:nvPr/>
          </p:nvPicPr>
          <p:blipFill>
            <a:blip r:embed="rId2"/>
            <a:stretch/>
          </p:blipFill>
          <p:spPr>
            <a:xfrm>
              <a:off x="6486480" y="1484280"/>
              <a:ext cx="19177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Rectangle 21"/>
            <p:cNvSpPr/>
            <p:nvPr/>
          </p:nvSpPr>
          <p:spPr>
            <a:xfrm>
              <a:off x="6525000" y="1154160"/>
              <a:ext cx="88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(Charp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22"/>
            <p:cNvGrpSpPr/>
            <p:nvPr/>
          </p:nvGrpSpPr>
          <p:grpSpPr>
            <a:xfrm>
              <a:off x="7031160" y="1395360"/>
              <a:ext cx="164880" cy="444600"/>
              <a:chOff x="7031160" y="1395360"/>
              <a:chExt cx="164880" cy="444600"/>
            </a:xfrm>
          </p:grpSpPr>
          <p:sp>
            <p:nvSpPr>
              <p:cNvPr id="631" name="Freeform 23"/>
              <p:cNvSpPr/>
              <p:nvPr/>
            </p:nvSpPr>
            <p:spPr>
              <a:xfrm>
                <a:off x="7056360" y="1662120"/>
                <a:ext cx="139680" cy="177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88" h="112">
                    <a:moveTo>
                      <a:pt x="80" y="112"/>
                    </a:moveTo>
                    <a:lnTo>
                      <a:pt x="0" y="32"/>
                    </a:lnTo>
                    <a:lnTo>
                      <a:pt x="56" y="48"/>
                    </a:lnTo>
                    <a:lnTo>
                      <a:pt x="88" y="0"/>
                    </a:lnTo>
                    <a:lnTo>
                      <a:pt x="80" y="112"/>
                    </a:lnTo>
                    <a:close/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4"/>
              <p:cNvSpPr/>
              <p:nvPr/>
            </p:nvSpPr>
            <p:spPr>
              <a:xfrm>
                <a:off x="7031160" y="1395360"/>
                <a:ext cx="114120" cy="343080"/>
              </a:xfrm>
              <a:prstGeom prst="line">
                <a:avLst/>
              </a:prstGeom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0000"/>
                </a:solidFill>
                <a:latin typeface="Arial"/>
              </a:rPr>
              <a:t>Curva de impacto  de un acero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F1B2-E3F4-4A8A-BA41-05FEC682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1355760" y="1203480"/>
            <a:ext cx="6454800" cy="4892400"/>
          </a:xfrm>
          <a:prstGeom prst="rect">
            <a:avLst/>
          </a:prstGeom>
          <a:ln w="0">
            <a:noFill/>
          </a:ln>
        </p:spPr>
      </p:pic>
      <p:sp>
        <p:nvSpPr>
          <p:cNvPr id="636" name="5 Rectángulo"/>
          <p:cNvSpPr/>
          <p:nvPr/>
        </p:nvSpPr>
        <p:spPr>
          <a:xfrm>
            <a:off x="4140360" y="4292640"/>
            <a:ext cx="309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7 Rectángulo"/>
          <p:cNvSpPr/>
          <p:nvPr/>
        </p:nvSpPr>
        <p:spPr>
          <a:xfrm>
            <a:off x="2428920" y="2276640"/>
            <a:ext cx="201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Ec"/>
          <p:cNvPicPr/>
          <p:nvPr/>
        </p:nvPicPr>
        <p:blipFill>
          <a:blip r:embed="rId1"/>
          <a:stretch/>
        </p:blipFill>
        <p:spPr>
          <a:xfrm>
            <a:off x="250920" y="1341360"/>
            <a:ext cx="8426520" cy="857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Ec"/>
          <p:cNvPicPr/>
          <p:nvPr/>
        </p:nvPicPr>
        <p:blipFill>
          <a:blip r:embed="rId2"/>
          <a:stretch/>
        </p:blipFill>
        <p:spPr>
          <a:xfrm>
            <a:off x="971640" y="3141720"/>
            <a:ext cx="7626240" cy="8827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Ec"/>
          <p:cNvPicPr/>
          <p:nvPr/>
        </p:nvPicPr>
        <p:blipFill>
          <a:blip r:embed="rId3"/>
          <a:srcRect l="0" t="0" r="55262" b="0"/>
          <a:stretch/>
        </p:blipFill>
        <p:spPr>
          <a:xfrm>
            <a:off x="1476360" y="4365720"/>
            <a:ext cx="3095640" cy="9270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916360" y="26028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ormación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Ec"/>
          <p:cNvPicPr/>
          <p:nvPr/>
        </p:nvPicPr>
        <p:blipFill>
          <a:blip r:embed="rId1"/>
          <a:stretch/>
        </p:blipFill>
        <p:spPr>
          <a:xfrm>
            <a:off x="1476360" y="907920"/>
            <a:ext cx="6912000" cy="7257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Ec"/>
          <p:cNvPicPr/>
          <p:nvPr/>
        </p:nvPicPr>
        <p:blipFill>
          <a:blip r:embed="rId2"/>
          <a:srcRect l="0" t="0" r="64773" b="0"/>
          <a:stretch/>
        </p:blipFill>
        <p:spPr>
          <a:xfrm>
            <a:off x="826920" y="2781360"/>
            <a:ext cx="2664000" cy="1065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Ec"/>
          <p:cNvPicPr/>
          <p:nvPr/>
        </p:nvPicPr>
        <p:blipFill>
          <a:blip r:embed="rId3"/>
          <a:stretch/>
        </p:blipFill>
        <p:spPr>
          <a:xfrm>
            <a:off x="900000" y="4365720"/>
            <a:ext cx="748836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Ec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798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Ec"/>
          <p:cNvPicPr/>
          <p:nvPr/>
        </p:nvPicPr>
        <p:blipFill>
          <a:blip r:embed="rId2"/>
          <a:stretch/>
        </p:blipFill>
        <p:spPr>
          <a:xfrm>
            <a:off x="826920" y="2708280"/>
            <a:ext cx="73454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Ec"/>
          <p:cNvPicPr/>
          <p:nvPr/>
        </p:nvPicPr>
        <p:blipFill>
          <a:blip r:embed="rId1"/>
          <a:stretch/>
        </p:blipFill>
        <p:spPr>
          <a:xfrm>
            <a:off x="1187280" y="2565360"/>
            <a:ext cx="6728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ímites superior e inferior del módulo de Young de materiales compu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416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Ec"/>
          <p:cNvPicPr/>
          <p:nvPr/>
        </p:nvPicPr>
        <p:blipFill>
          <a:blip r:embed="rId1"/>
          <a:stretch/>
        </p:blipFill>
        <p:spPr>
          <a:xfrm>
            <a:off x="1763640" y="836640"/>
            <a:ext cx="5784840" cy="1130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" descr="Ec"/>
          <p:cNvPicPr/>
          <p:nvPr/>
        </p:nvPicPr>
        <p:blipFill>
          <a:blip r:embed="rId2"/>
          <a:stretch/>
        </p:blipFill>
        <p:spPr>
          <a:xfrm>
            <a:off x="579600" y="5013360"/>
            <a:ext cx="8564400" cy="10904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Ec"/>
          <p:cNvPicPr/>
          <p:nvPr/>
        </p:nvPicPr>
        <p:blipFill>
          <a:blip r:embed="rId3"/>
          <a:stretch/>
        </p:blipFill>
        <p:spPr>
          <a:xfrm>
            <a:off x="1116000" y="2708280"/>
            <a:ext cx="6985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Ec"/>
          <p:cNvPicPr/>
          <p:nvPr/>
        </p:nvPicPr>
        <p:blipFill>
          <a:blip r:embed="rId1"/>
          <a:srcRect l="0" t="0" r="45182" b="0"/>
          <a:stretch/>
        </p:blipFill>
        <p:spPr>
          <a:xfrm>
            <a:off x="0" y="765000"/>
            <a:ext cx="4835520" cy="1163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Ec"/>
          <p:cNvPicPr/>
          <p:nvPr/>
        </p:nvPicPr>
        <p:blipFill>
          <a:blip r:embed="rId2"/>
          <a:stretch/>
        </p:blipFill>
        <p:spPr>
          <a:xfrm>
            <a:off x="879480" y="2421000"/>
            <a:ext cx="7345440" cy="977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Ec"/>
          <p:cNvPicPr/>
          <p:nvPr/>
        </p:nvPicPr>
        <p:blipFill>
          <a:blip r:embed="rId3"/>
          <a:srcRect l="0" t="0" r="65665" b="0"/>
          <a:stretch/>
        </p:blipFill>
        <p:spPr>
          <a:xfrm>
            <a:off x="971640" y="4292640"/>
            <a:ext cx="2547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SAYOS MECA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5" descr=""/>
          <p:cNvPicPr/>
          <p:nvPr/>
        </p:nvPicPr>
        <p:blipFill>
          <a:blip r:embed="rId1"/>
          <a:stretch/>
        </p:blipFill>
        <p:spPr>
          <a:xfrm>
            <a:off x="1063800" y="2390760"/>
            <a:ext cx="6669000" cy="3341880"/>
          </a:xfrm>
          <a:prstGeom prst="rect">
            <a:avLst/>
          </a:prstGeom>
          <a:ln w="0">
            <a:noFill/>
          </a:ln>
        </p:spPr>
      </p:pic>
      <p:sp>
        <p:nvSpPr>
          <p:cNvPr id="571" name="1 CuadroTexto"/>
          <p:cNvSpPr/>
          <p:nvPr/>
        </p:nvSpPr>
        <p:spPr>
          <a:xfrm>
            <a:off x="2843280" y="981000"/>
            <a:ext cx="33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li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1182600" y="2409840"/>
            <a:ext cx="7048440" cy="3467160"/>
          </a:xfrm>
          <a:prstGeom prst="rect">
            <a:avLst/>
          </a:prstGeom>
          <a:ln w="0">
            <a:noFill/>
          </a:ln>
        </p:spPr>
      </p:pic>
      <p:sp>
        <p:nvSpPr>
          <p:cNvPr id="573" name="1 CuadroTexto"/>
          <p:cNvSpPr/>
          <p:nvPr/>
        </p:nvSpPr>
        <p:spPr>
          <a:xfrm>
            <a:off x="2268360" y="765000"/>
            <a:ext cx="460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no-lineal (go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796000" cy="3370320"/>
          </a:xfrm>
          <a:prstGeom prst="rect">
            <a:avLst/>
          </a:prstGeom>
          <a:ln w="0">
            <a:noFill/>
          </a:ln>
        </p:spPr>
      </p:pic>
      <p:sp>
        <p:nvSpPr>
          <p:cNvPr id="575" name="1 CuadroTexto"/>
          <p:cNvSpPr/>
          <p:nvPr/>
        </p:nvSpPr>
        <p:spPr>
          <a:xfrm>
            <a:off x="3492360" y="620640"/>
            <a:ext cx="3311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l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4986360" cy="3465720"/>
          </a:xfrm>
          <a:prstGeom prst="rect">
            <a:avLst/>
          </a:prstGeom>
          <a:ln w="0">
            <a:noFill/>
          </a:ln>
        </p:spPr>
      </p:pic>
      <p:sp>
        <p:nvSpPr>
          <p:cNvPr id="577" name="1 CuadroTexto"/>
          <p:cNvSpPr/>
          <p:nvPr/>
        </p:nvSpPr>
        <p:spPr>
          <a:xfrm>
            <a:off x="2411280" y="620640"/>
            <a:ext cx="374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istencia máxima a la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216400" cy="4246560"/>
          </a:xfrm>
          <a:prstGeom prst="rect">
            <a:avLst/>
          </a:prstGeom>
          <a:ln w="0">
            <a:noFill/>
          </a:ln>
        </p:spPr>
      </p:pic>
      <p:sp>
        <p:nvSpPr>
          <p:cNvPr id="579" name="1 CuadroTexto"/>
          <p:cNvSpPr/>
          <p:nvPr/>
        </p:nvSpPr>
        <p:spPr>
          <a:xfrm>
            <a:off x="1835280" y="549360"/>
            <a:ext cx="59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ción de propiedades mecánicas en un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5:32Z</dcterms:created>
  <dc:creator>Gladys Leiva</dc:creator>
  <dc:description/>
  <dc:language>en-US</dc:language>
  <cp:lastModifiedBy>Rodrigo Palma</cp:lastModifiedBy>
  <dcterms:modified xsi:type="dcterms:W3CDTF">2011-10-27T12:25:48Z</dcterms:modified>
  <cp:revision>10</cp:revision>
  <dc:subject/>
  <dc:title>Diapositiva 1</dc:title>
</cp:coreProperties>
</file>