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media/image32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6.jpeg" ContentType="image/jpeg"/>
  <Override PartName="/ppt/media/image49.jpeg" ContentType="image/jpeg"/>
  <Override PartName="/ppt/media/image7.wmf" ContentType="image/x-wmf"/>
  <Override PartName="/ppt/media/image31.png" ContentType="image/png"/>
  <Override PartName="/ppt/media/image30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39.jpeg" ContentType="image/jpeg"/>
  <Override PartName="/ppt/media/image16.wmf" ContentType="image/x-wmf"/>
  <Override PartName="/ppt/media/image45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B60-C666-41BD-BFC1-06AFB40D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69D-91CB-4E84-84D1-46AB6CDD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FDDB4-09E6-48FD-9DEB-4229641E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629BF-0F03-4509-9376-8B37B97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8209C-8BDB-4113-8F1C-01CDEF52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58AEF-0BF5-4F01-82B7-2A2E7351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A0F16-0619-4385-9F7B-0833906F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1525-4A1D-402E-B392-1736880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A9674-EA73-4BD2-B3D2-425763D3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E3B2-2A56-4CAC-AA14-62A1D73F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20018-A19D-401B-9E4D-9C64487D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7B3EE-345E-498C-BE73-81FC5FC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E3E-B735-4426-A6FB-32BCFD11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F8D83-62E2-41AD-BE60-32FC0E7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1B514-FA51-45EF-9434-CC505D90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7A38E-7D7A-4173-9A2D-AFAA8EB7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3F279-5B9F-42CE-B216-2248008D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C886E-F3EE-428F-BA8E-9827AC88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F7F6B-228D-48A2-862E-9114E44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996FE-D5EF-4612-97EE-41DB308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A090B-D7AE-45B9-84DB-473A6C14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5E0E5-2AE2-4839-AEB8-A1AF7F6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2FFC6-7682-4B9D-B4EF-717E3DD1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2F2-39A9-44C5-83E9-4D36F953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F197E-7F20-4E4B-A278-4A07B5E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A0ECB-B0F2-435F-ACD1-0C773E93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A6C07-5058-49BF-9FF6-3A3D8882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B453D-2141-4C8A-A46A-67C96937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DAFA-CAC5-40ED-BE24-8C1E9EB5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80DB-F5B0-42BD-AA0A-D9A0BC1F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521ED-40B6-447F-B385-0D5E9A29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171EB-A1C9-4817-88E0-768CE45F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6DB92-D453-4330-A307-A26A004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35B3F-6DB7-4C86-B89E-877EFD9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D021-5761-4B58-8E2C-22D6FC85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FBEB0-D1AC-48F0-8D04-9D202CED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A901A-5720-446C-BACF-8E3E9617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E7306-7258-4B0C-A400-78FF0C05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BD2B0-6904-43FE-A27F-E6296F57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065F5-DD2B-42B3-8DCC-48E4017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B926F-BDF3-4677-B8EE-2716E410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1DBE7-4A81-451A-A95A-CAE4CD8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04524-D197-4C70-BD3E-AE765DB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7886C-0A58-499B-8381-E4EBA91C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00E0F-EC85-4E09-A67C-C6D1B06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74F0-ADEC-4194-AFF4-FDFA2F7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0F2FB-AD0F-489C-AFF6-8A83ADE3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1050F-9A99-4908-B6C8-0959911E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9B001-E37A-4A22-91F0-2D1EBEE7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9436D-2DE6-4FC0-BA84-FC55EA25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0C309-62B1-4B52-BBD0-57769F01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1A54A-9E83-4242-BA90-AE803718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C3C15-FDC5-4E4D-85FD-0DAF8403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CFCD0-104E-4A49-8952-A7B0851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0BAC1-0BC8-4222-959D-8EFD0CFA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464F6-7CA2-4993-B036-852B71B8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2A98-6045-46B6-85CA-AA492904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739C4-8C28-4B09-99EB-76544B35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4F55C-0225-4CE9-AF21-228E658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E0B01-D1E6-4871-91CF-C1DC9DE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A192F-9A7B-412B-8809-7734BB0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15302-B805-4FD2-934E-0408AFF4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ABB1D-37C8-44E6-9194-35B29677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96DDB-D13B-4905-8500-9114A4AB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DF8A-742C-4E0F-916C-2903DE50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06C8-8C15-4B29-AAE9-F9E45B77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CA85-E878-46D2-A258-173060CD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3DC-AA88-40AE-84B3-29E4329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727-23A2-4E2C-BB8C-3685B354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6289-B709-493E-9715-D3CF0C6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AC05-3E45-4948-BD48-D469E88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53C-50FC-43E7-9579-62FA3AA7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0A13-DEA8-4333-A3B7-8F2C4010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E774-A9F5-4B0F-81E6-2FE8B1ED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1C31-B333-4DC7-BFB7-2D161B1D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BE2D-7C7C-4378-BD6B-2335CAE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622D-FE0B-4F6F-832E-20E8FE9D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53A9-F339-4952-9B27-15414B26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6C6A-8371-4D58-9065-025ED57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872-55FA-41CE-8C8C-FE157B3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D3CC-DD9E-4CAC-BC76-9E1D2277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F102-2CEE-47F3-8E3F-0A1D0C77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CCA6-6B1E-4776-90D6-F889697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F02D-5876-4FC9-B3AC-40532B9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0E6A-40BE-4484-AAA0-D1CA1368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9139-21C8-49E4-B303-94DE2BB9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0A6A-268F-48FF-8556-39A61746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FBDF-1ABF-47D2-BAF9-732C24FD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37F6-CBC5-4462-AB92-25E10A64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2222-335E-4BE7-85DC-7D6A84FD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1A0-3C0C-462B-99BB-866F897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31692-4746-4A0B-A2F4-08B76D0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ADC65-6B61-4942-A6EB-00EF783E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E4F0-AC46-4A33-827E-131FE6F0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E994-40CE-414E-9A8B-789C8CB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5698-3E60-4B55-9246-7880D40F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DE1B-67E0-46CF-A233-DDD437E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6056D-2D4A-4F77-B4C5-13474C39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DB4D-1A13-4246-BCA5-0CCAA52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517E-1EFC-4BD9-880C-0720A409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170C6-EFA0-410D-856C-3D5368E5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615-5483-4C0A-898C-95AD81A7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18351-94FB-4D86-818E-37861569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9FC0A-715E-42DE-B93D-10457870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59486-CE44-479F-8332-B7DC59B1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86C3A-49AD-45C7-BC7E-9898DD9B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BDC1-5803-4946-B86B-D563DBEE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DCAA-EAF8-4E1A-8F5B-BF3DF634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BF82-03A6-496B-9993-D1945C6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2F99-392A-4A0F-95D1-54B5F71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1540F-FEAB-473C-9A08-B98A3EB3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7BA85-E356-4CF4-9D4D-F4029A5D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CCD-9305-4AD6-B0F3-897EAD4D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E914C-BABD-41FF-B9A6-7B07EFA2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098F-9BBF-4E1C-B7F3-FE642488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4FB6-8ED5-47C8-AADC-4D0B0E0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CBA57-EF40-42DE-8C02-F7DD50A8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5B11-0CBF-4047-ACBE-AC090F9F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8AAAA-4609-4B09-B6EF-49A5EF04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A1191-FD70-4A38-90C1-79C24138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4F91-FC16-45EC-92E1-EAF43A8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BE2D1-CFD8-4D62-BAC8-604BF93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BAE66-B516-4142-B5DD-95480D24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F01-785A-4D13-8B18-081B351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D47C4-2751-4DCC-B7F0-D19ADB1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E483-0AC3-453C-91C7-8D9E573A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DA8BB-FE5C-429D-8DDC-FD9C8375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79C0-6654-407B-80EC-0FCD2B08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CFD0D-B1CF-4C4A-8FF7-E32A9744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A65BF-F0AA-4D2A-842D-B2E5E3F2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40479-1C0C-4648-9ADB-43E4C7C9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A97F-1DED-44D9-B638-9605507D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AAB2-72C2-4056-AED6-30D7A921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2C59D-24F7-45B1-9EEA-27B6BFD9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781-FAEA-420D-A35E-7049505B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5084-13A4-4C65-9CF5-BA67551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0394-469B-4198-A794-51E7DA1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F46B-1787-4F47-B2F1-EEAF08CE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E3FC-395F-4539-9880-CE21B5A4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E1D2-72B5-4ED4-876E-6D7A9293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A65CD-45A5-43BF-8E4B-53AF0E7A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656D6-4CD7-4A16-B0E5-146273D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3973-E89F-435D-BDC4-50025FA3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AF467-54F7-4FAD-B1FB-380BC191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F44C0-3C60-4CAB-97BF-6A10375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076-2179-43D3-8D15-9CB1FA79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545B4-4252-49C1-8434-3A7ED2C3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61B83-4AA6-4438-84E4-0362AC5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2C33C-73DC-490C-B751-060199C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DBE7F-5514-479B-AD81-CBB3785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19C56-DC79-43FC-839A-2244D18F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02E1-4F7F-4BAE-8978-44F954A3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4E443-67DE-44BF-AF15-69D4D4FC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6A5D7-9F67-42FB-8896-7458266D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E8DD9-CDBC-4250-ACC1-8D15A7F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EB5B6-A51D-40EA-9D0F-2723118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B2D5-892F-4F84-BEB6-F82D6C7D3A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38BE-85A4-4B79-A464-B78EBD2E1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3F84-F5CE-472E-8E5E-5F13E072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6E39-FEA5-47F5-ABCE-505A4112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ABC-2C19-4CB2-9B35-36B3C232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2647-FDE0-4B70-A8E5-5FC5B3D0F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755C-5AE0-4176-B54D-46B127F30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E840-5FC9-4D23-B64B-6779D2F4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F69F-6BC8-45D3-B51B-DEDBF1B9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E4C2-9E3F-4CDC-B41F-069CC802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FEBB-E09A-4E00-822B-B20DF3B7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469B-0F78-40F9-B457-AC9C6D2D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0269-6FE1-40A2-9E3B-D24BBBED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ulo de Young de materiales co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2367000" y="404640"/>
            <a:ext cx="58212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39640" y="595440"/>
            <a:ext cx="8131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278000" y="1573200"/>
            <a:ext cx="6794280" cy="409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686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085760" y="765000"/>
            <a:ext cx="75168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2484360" y="404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305400" cy="2579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2"/>
          <a:stretch/>
        </p:blipFill>
        <p:spPr>
          <a:xfrm>
            <a:off x="3851280" y="5589720"/>
            <a:ext cx="12272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Fig"/>
          <p:cNvPicPr/>
          <p:nvPr/>
        </p:nvPicPr>
        <p:blipFill>
          <a:blip r:embed="rId1"/>
          <a:stretch/>
        </p:blipFill>
        <p:spPr>
          <a:xfrm>
            <a:off x="324000" y="1125360"/>
            <a:ext cx="8532720" cy="3464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771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Fig"/>
          <p:cNvPicPr/>
          <p:nvPr/>
        </p:nvPicPr>
        <p:blipFill>
          <a:blip r:embed="rId2"/>
          <a:stretch/>
        </p:blipFill>
        <p:spPr>
          <a:xfrm>
            <a:off x="1476360" y="4724280"/>
            <a:ext cx="6838920" cy="1451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492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593" name="1 CuadroTexto"/>
          <p:cNvSpPr/>
          <p:nvPr/>
        </p:nvSpPr>
        <p:spPr>
          <a:xfrm>
            <a:off x="108000" y="230040"/>
            <a:ext cx="3024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 la fractura dúct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cleación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alescencia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 en la 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68360" y="291960"/>
            <a:ext cx="224136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erficies de la fra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Scan10555"/>
          <p:cNvPicPr/>
          <p:nvPr/>
        </p:nvPicPr>
        <p:blipFill>
          <a:blip r:embed="rId1"/>
          <a:stretch/>
        </p:blipFill>
        <p:spPr>
          <a:xfrm>
            <a:off x="3132000" y="291960"/>
            <a:ext cx="5827680" cy="6193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: fractura de una cañ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8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úctil transgranular: coalescencia de microhue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Scan10556"/>
          <p:cNvPicPr/>
          <p:nvPr/>
        </p:nvPicPr>
        <p:blipFill>
          <a:blip r:embed="rId1"/>
          <a:stretch/>
        </p:blipFill>
        <p:spPr>
          <a:xfrm>
            <a:off x="2771640" y="2133720"/>
            <a:ext cx="3400560" cy="3287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 de materiales compuestos lamin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549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1895760" cy="31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5116680" y="2060640"/>
            <a:ext cx="2390760" cy="371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4925880" y="2808360"/>
            <a:ext cx="2772000" cy="37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435640" y="2432160"/>
            <a:ext cx="1400040" cy="399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315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frágil transgranular: cliv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Scan10557"/>
          <p:cNvPicPr/>
          <p:nvPr/>
        </p:nvPicPr>
        <p:blipFill>
          <a:blip r:embed="rId1"/>
          <a:stretch/>
        </p:blipFill>
        <p:spPr>
          <a:xfrm>
            <a:off x="2484360" y="2276640"/>
            <a:ext cx="4213440" cy="3365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Intergran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Scan10558"/>
          <p:cNvPicPr/>
          <p:nvPr/>
        </p:nvPicPr>
        <p:blipFill>
          <a:blip r:embed="rId1"/>
          <a:stretch/>
        </p:blipFill>
        <p:spPr>
          <a:xfrm>
            <a:off x="622440" y="1773360"/>
            <a:ext cx="7812000" cy="4211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real o verda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C:\Users\Rodrigo Palma\Pictures\2011-10-27 n\n 001.jpg"/>
          <p:cNvPicPr/>
          <p:nvPr/>
        </p:nvPicPr>
        <p:blipFill>
          <a:blip r:embed="rId1"/>
          <a:stretch/>
        </p:blipFill>
        <p:spPr>
          <a:xfrm>
            <a:off x="5580000" y="3813120"/>
            <a:ext cx="2648160" cy="1965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97440" cy="927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C:\Users\Rodrigo Palma\Pictures\2011-10-27 real\real 001.jpg"/>
          <p:cNvPicPr/>
          <p:nvPr/>
        </p:nvPicPr>
        <p:blipFill>
          <a:blip r:embed="rId3"/>
          <a:stretch/>
        </p:blipFill>
        <p:spPr>
          <a:xfrm>
            <a:off x="1403280" y="3573360"/>
            <a:ext cx="2670120" cy="24465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8" name="Picture 6" descr=""/>
          <p:cNvPicPr/>
          <p:nvPr/>
        </p:nvPicPr>
        <p:blipFill>
          <a:blip r:embed="rId4"/>
          <a:stretch/>
        </p:blipFill>
        <p:spPr>
          <a:xfrm>
            <a:off x="3780000" y="1844640"/>
            <a:ext cx="4833720" cy="1158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>
            <a:off x="130320" y="2328840"/>
            <a:ext cx="2547720" cy="890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C:\Users\Rodrigo Palma\Pictures\2011-10-27 K N\K N 001.jpg"/>
          <p:cNvPicPr/>
          <p:nvPr/>
        </p:nvPicPr>
        <p:blipFill>
          <a:blip r:embed="rId6"/>
          <a:stretch/>
        </p:blipFill>
        <p:spPr>
          <a:xfrm>
            <a:off x="1911240" y="3579840"/>
            <a:ext cx="981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C4ED-9692-40C6-BA07-BE878C27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sayo de Impacto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2297160" y="2313000"/>
            <a:ext cx="5421960" cy="4233960"/>
            <a:chOff x="2297160" y="2313000"/>
            <a:chExt cx="5421960" cy="4233960"/>
          </a:xfrm>
        </p:grpSpPr>
        <p:pic>
          <p:nvPicPr>
            <p:cNvPr id="614" name="Picture 6" descr="Fig 8_12"/>
            <p:cNvPicPr/>
            <p:nvPr/>
          </p:nvPicPr>
          <p:blipFill>
            <a:blip r:embed="rId1"/>
            <a:stretch/>
          </p:blipFill>
          <p:spPr>
            <a:xfrm>
              <a:off x="2297160" y="2313000"/>
              <a:ext cx="488628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Rectangle 7"/>
            <p:cNvSpPr/>
            <p:nvPr/>
          </p:nvSpPr>
          <p:spPr>
            <a:xfrm>
              <a:off x="2368080" y="580248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fin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3244680" y="4135320"/>
              <a:ext cx="3558600" cy="2193480"/>
              <a:chOff x="3244680" y="4135320"/>
              <a:chExt cx="3558600" cy="2193480"/>
            </a:xfrm>
          </p:grpSpPr>
          <p:sp>
            <p:nvSpPr>
              <p:cNvPr id="617" name="Line 9"/>
              <p:cNvSpPr/>
              <p:nvPr/>
            </p:nvSpPr>
            <p:spPr>
              <a:xfrm>
                <a:off x="3322440" y="6327000"/>
                <a:ext cx="3402720" cy="1800"/>
              </a:xfrm>
              <a:prstGeom prst="line">
                <a:avLst/>
              </a:prstGeom>
              <a:ln w="20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0"/>
              <p:cNvGrpSpPr/>
              <p:nvPr/>
            </p:nvGrpSpPr>
            <p:grpSpPr>
              <a:xfrm>
                <a:off x="6614640" y="4135320"/>
                <a:ext cx="188640" cy="2185920"/>
                <a:chOff x="6614640" y="4135320"/>
                <a:chExt cx="188640" cy="2185920"/>
              </a:xfrm>
            </p:grpSpPr>
            <p:sp>
              <p:nvSpPr>
                <p:cNvPr id="619" name="Freeform 11"/>
                <p:cNvSpPr/>
                <p:nvPr/>
              </p:nvSpPr>
              <p:spPr>
                <a:xfrm>
                  <a:off x="6614640" y="4135320"/>
                  <a:ext cx="188640" cy="2066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6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 flipV="1">
                  <a:off x="6708600" y="4276080"/>
                  <a:ext cx="2520" cy="204516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3"/>
              <p:cNvGrpSpPr/>
              <p:nvPr/>
            </p:nvGrpSpPr>
            <p:grpSpPr>
              <a:xfrm>
                <a:off x="3244680" y="5281200"/>
                <a:ext cx="174600" cy="1044720"/>
                <a:chOff x="3244680" y="5281200"/>
                <a:chExt cx="174600" cy="1044720"/>
              </a:xfrm>
            </p:grpSpPr>
            <p:sp>
              <p:nvSpPr>
                <p:cNvPr id="622" name="Freeform 14"/>
                <p:cNvSpPr/>
                <p:nvPr/>
              </p:nvSpPr>
              <p:spPr>
                <a:xfrm>
                  <a:off x="3244680" y="5281200"/>
                  <a:ext cx="174600" cy="190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7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5"/>
                <p:cNvSpPr/>
                <p:nvPr/>
              </p:nvSpPr>
              <p:spPr>
                <a:xfrm flipV="1">
                  <a:off x="3331800" y="5413320"/>
                  <a:ext cx="1800" cy="91260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" name="Rectangle 16"/>
            <p:cNvSpPr/>
            <p:nvPr/>
          </p:nvSpPr>
          <p:spPr>
            <a:xfrm>
              <a:off x="6775200" y="58024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initi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7"/>
          <p:cNvSpPr/>
          <p:nvPr/>
        </p:nvSpPr>
        <p:spPr>
          <a:xfrm>
            <a:off x="522360" y="1155600"/>
            <a:ext cx="469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ga de Impa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s el caso mas severo de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l material se comporta más frág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8"/>
          <p:cNvSpPr/>
          <p:nvPr/>
        </p:nvSpPr>
        <p:spPr>
          <a:xfrm>
            <a:off x="293760" y="2798640"/>
            <a:ext cx="243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8.12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Fig. 8.12(b) is adapted from H.W. Hayden, W.G. Moffatt, and J. Wulff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tructure and Properties of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III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chanical Behavi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ohn Wiley and Sons, Inc. (1965) p. 13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6486480" y="1154160"/>
            <a:ext cx="1917720" cy="1805040"/>
            <a:chOff x="6486480" y="1154160"/>
            <a:chExt cx="1917720" cy="1805040"/>
          </a:xfrm>
        </p:grpSpPr>
        <p:pic>
          <p:nvPicPr>
            <p:cNvPr id="628" name="Picture 20" descr=""/>
            <p:cNvPicPr/>
            <p:nvPr/>
          </p:nvPicPr>
          <p:blipFill>
            <a:blip r:embed="rId2"/>
            <a:stretch/>
          </p:blipFill>
          <p:spPr>
            <a:xfrm>
              <a:off x="6486480" y="1484280"/>
              <a:ext cx="19177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21"/>
            <p:cNvSpPr/>
            <p:nvPr/>
          </p:nvSpPr>
          <p:spPr>
            <a:xfrm>
              <a:off x="6525000" y="115416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(Charp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22"/>
            <p:cNvGrpSpPr/>
            <p:nvPr/>
          </p:nvGrpSpPr>
          <p:grpSpPr>
            <a:xfrm>
              <a:off x="7031160" y="1395360"/>
              <a:ext cx="164880" cy="444600"/>
              <a:chOff x="7031160" y="1395360"/>
              <a:chExt cx="164880" cy="444600"/>
            </a:xfrm>
          </p:grpSpPr>
          <p:sp>
            <p:nvSpPr>
              <p:cNvPr id="631" name="Freeform 23"/>
              <p:cNvSpPr/>
              <p:nvPr/>
            </p:nvSpPr>
            <p:spPr>
              <a:xfrm>
                <a:off x="7056360" y="1662120"/>
                <a:ext cx="139680" cy="177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88" h="112">
                    <a:moveTo>
                      <a:pt x="80" y="112"/>
                    </a:moveTo>
                    <a:lnTo>
                      <a:pt x="0" y="32"/>
                    </a:lnTo>
                    <a:lnTo>
                      <a:pt x="56" y="48"/>
                    </a:lnTo>
                    <a:lnTo>
                      <a:pt x="88" y="0"/>
                    </a:lnTo>
                    <a:lnTo>
                      <a:pt x="80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>
                <a:off x="7031160" y="1395360"/>
                <a:ext cx="114120" cy="343080"/>
              </a:xfrm>
              <a:prstGeom prst="line">
                <a:avLst/>
              </a:prstGeom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Arial"/>
              </a:rPr>
              <a:t>Curva de impacto  de un acero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23F-8AC7-4785-A8C1-58D16D14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355760" y="1203480"/>
            <a:ext cx="6454800" cy="4892400"/>
          </a:xfrm>
          <a:prstGeom prst="rect">
            <a:avLst/>
          </a:prstGeom>
          <a:ln w="0">
            <a:noFill/>
          </a:ln>
        </p:spPr>
      </p:pic>
      <p:sp>
        <p:nvSpPr>
          <p:cNvPr id="636" name="5 Rectángulo"/>
          <p:cNvSpPr/>
          <p:nvPr/>
        </p:nvSpPr>
        <p:spPr>
          <a:xfrm>
            <a:off x="4140360" y="4292640"/>
            <a:ext cx="309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7 Rectángulo"/>
          <p:cNvSpPr/>
          <p:nvPr/>
        </p:nvSpPr>
        <p:spPr>
          <a:xfrm>
            <a:off x="2428920" y="2276640"/>
            <a:ext cx="20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Ec"/>
          <p:cNvPicPr/>
          <p:nvPr/>
        </p:nvPicPr>
        <p:blipFill>
          <a:blip r:embed="rId1"/>
          <a:stretch/>
        </p:blipFill>
        <p:spPr>
          <a:xfrm>
            <a:off x="250920" y="1341360"/>
            <a:ext cx="8426520" cy="857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Ec"/>
          <p:cNvPicPr/>
          <p:nvPr/>
        </p:nvPicPr>
        <p:blipFill>
          <a:blip r:embed="rId2"/>
          <a:stretch/>
        </p:blipFill>
        <p:spPr>
          <a:xfrm>
            <a:off x="971640" y="3141720"/>
            <a:ext cx="7626240" cy="8827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Ec"/>
          <p:cNvPicPr/>
          <p:nvPr/>
        </p:nvPicPr>
        <p:blipFill>
          <a:blip r:embed="rId3"/>
          <a:srcRect l="0" t="0" r="55262" b="0"/>
          <a:stretch/>
        </p:blipFill>
        <p:spPr>
          <a:xfrm>
            <a:off x="1476360" y="4365720"/>
            <a:ext cx="3095640" cy="927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916360" y="2602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ormación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Ec"/>
          <p:cNvPicPr/>
          <p:nvPr/>
        </p:nvPicPr>
        <p:blipFill>
          <a:blip r:embed="rId1"/>
          <a:stretch/>
        </p:blipFill>
        <p:spPr>
          <a:xfrm>
            <a:off x="1476360" y="907920"/>
            <a:ext cx="6912000" cy="725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Ec"/>
          <p:cNvPicPr/>
          <p:nvPr/>
        </p:nvPicPr>
        <p:blipFill>
          <a:blip r:embed="rId2"/>
          <a:srcRect l="0" t="0" r="64773" b="0"/>
          <a:stretch/>
        </p:blipFill>
        <p:spPr>
          <a:xfrm>
            <a:off x="826920" y="2781360"/>
            <a:ext cx="2664000" cy="1065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Ec"/>
          <p:cNvPicPr/>
          <p:nvPr/>
        </p:nvPicPr>
        <p:blipFill>
          <a:blip r:embed="rId3"/>
          <a:stretch/>
        </p:blipFill>
        <p:spPr>
          <a:xfrm>
            <a:off x="900000" y="4365720"/>
            <a:ext cx="748836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Ec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798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Ec"/>
          <p:cNvPicPr/>
          <p:nvPr/>
        </p:nvPicPr>
        <p:blipFill>
          <a:blip r:embed="rId2"/>
          <a:stretch/>
        </p:blipFill>
        <p:spPr>
          <a:xfrm>
            <a:off x="826920" y="2708280"/>
            <a:ext cx="73454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Ec"/>
          <p:cNvPicPr/>
          <p:nvPr/>
        </p:nvPicPr>
        <p:blipFill>
          <a:blip r:embed="rId1"/>
          <a:stretch/>
        </p:blipFill>
        <p:spPr>
          <a:xfrm>
            <a:off x="1187280" y="2565360"/>
            <a:ext cx="6728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mites superior e inferior del módulo de Young de materiales com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6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Ec"/>
          <p:cNvPicPr/>
          <p:nvPr/>
        </p:nvPicPr>
        <p:blipFill>
          <a:blip r:embed="rId1"/>
          <a:stretch/>
        </p:blipFill>
        <p:spPr>
          <a:xfrm>
            <a:off x="1763640" y="836640"/>
            <a:ext cx="5784840" cy="1130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Ec"/>
          <p:cNvPicPr/>
          <p:nvPr/>
        </p:nvPicPr>
        <p:blipFill>
          <a:blip r:embed="rId2"/>
          <a:stretch/>
        </p:blipFill>
        <p:spPr>
          <a:xfrm>
            <a:off x="579600" y="5013360"/>
            <a:ext cx="8564400" cy="1090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Ec"/>
          <p:cNvPicPr/>
          <p:nvPr/>
        </p:nvPicPr>
        <p:blipFill>
          <a:blip r:embed="rId3"/>
          <a:stretch/>
        </p:blipFill>
        <p:spPr>
          <a:xfrm>
            <a:off x="1116000" y="2708280"/>
            <a:ext cx="698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Ec"/>
          <p:cNvPicPr/>
          <p:nvPr/>
        </p:nvPicPr>
        <p:blipFill>
          <a:blip r:embed="rId1"/>
          <a:srcRect l="0" t="0" r="45182" b="0"/>
          <a:stretch/>
        </p:blipFill>
        <p:spPr>
          <a:xfrm>
            <a:off x="0" y="765000"/>
            <a:ext cx="4835520" cy="1163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Ec"/>
          <p:cNvPicPr/>
          <p:nvPr/>
        </p:nvPicPr>
        <p:blipFill>
          <a:blip r:embed="rId2"/>
          <a:stretch/>
        </p:blipFill>
        <p:spPr>
          <a:xfrm>
            <a:off x="879480" y="2421000"/>
            <a:ext cx="7345440" cy="977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Ec"/>
          <p:cNvPicPr/>
          <p:nvPr/>
        </p:nvPicPr>
        <p:blipFill>
          <a:blip r:embed="rId3"/>
          <a:srcRect l="0" t="0" r="65665" b="0"/>
          <a:stretch/>
        </p:blipFill>
        <p:spPr>
          <a:xfrm>
            <a:off x="971640" y="4292640"/>
            <a:ext cx="254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SAYOS MECA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1063800" y="2390760"/>
            <a:ext cx="6669000" cy="3341880"/>
          </a:xfrm>
          <a:prstGeom prst="rect">
            <a:avLst/>
          </a:prstGeom>
          <a:ln w="0">
            <a:noFill/>
          </a:ln>
        </p:spPr>
      </p:pic>
      <p:sp>
        <p:nvSpPr>
          <p:cNvPr id="571" name="1 CuadroTexto"/>
          <p:cNvSpPr/>
          <p:nvPr/>
        </p:nvSpPr>
        <p:spPr>
          <a:xfrm>
            <a:off x="2843280" y="981000"/>
            <a:ext cx="33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li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1182600" y="2409840"/>
            <a:ext cx="7048440" cy="3467160"/>
          </a:xfrm>
          <a:prstGeom prst="rect">
            <a:avLst/>
          </a:prstGeom>
          <a:ln w="0">
            <a:noFill/>
          </a:ln>
        </p:spPr>
      </p:pic>
      <p:sp>
        <p:nvSpPr>
          <p:cNvPr id="573" name="1 CuadroTexto"/>
          <p:cNvSpPr/>
          <p:nvPr/>
        </p:nvSpPr>
        <p:spPr>
          <a:xfrm>
            <a:off x="2268360" y="765000"/>
            <a:ext cx="460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no-lineal (go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96000" cy="3370320"/>
          </a:xfrm>
          <a:prstGeom prst="rect">
            <a:avLst/>
          </a:prstGeom>
          <a:ln w="0">
            <a:noFill/>
          </a:ln>
        </p:spPr>
      </p:pic>
      <p:sp>
        <p:nvSpPr>
          <p:cNvPr id="575" name="1 CuadroTexto"/>
          <p:cNvSpPr/>
          <p:nvPr/>
        </p:nvSpPr>
        <p:spPr>
          <a:xfrm>
            <a:off x="3492360" y="620640"/>
            <a:ext cx="3311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l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986360" cy="3465720"/>
          </a:xfrm>
          <a:prstGeom prst="rect">
            <a:avLst/>
          </a:prstGeom>
          <a:ln w="0">
            <a:noFill/>
          </a:ln>
        </p:spPr>
      </p:pic>
      <p:sp>
        <p:nvSpPr>
          <p:cNvPr id="577" name="1 CuadroTexto"/>
          <p:cNvSpPr/>
          <p:nvPr/>
        </p:nvSpPr>
        <p:spPr>
          <a:xfrm>
            <a:off x="2411280" y="620640"/>
            <a:ext cx="374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istencia máxima a la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216400" cy="4246560"/>
          </a:xfrm>
          <a:prstGeom prst="rect">
            <a:avLst/>
          </a:prstGeom>
          <a:ln w="0">
            <a:noFill/>
          </a:ln>
        </p:spPr>
      </p:pic>
      <p:sp>
        <p:nvSpPr>
          <p:cNvPr id="579" name="1 CuadroTexto"/>
          <p:cNvSpPr/>
          <p:nvPr/>
        </p:nvSpPr>
        <p:spPr>
          <a:xfrm>
            <a:off x="1835280" y="549360"/>
            <a:ext cx="59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ción de propiedades mecánicas en un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5:32Z</dcterms:created>
  <dc:creator>Gladys Leiva</dc:creator>
  <dc:description/>
  <dc:language>en-US</dc:language>
  <cp:lastModifiedBy>Rodrigo Palma</cp:lastModifiedBy>
  <dcterms:modified xsi:type="dcterms:W3CDTF">2011-10-27T12:25:48Z</dcterms:modified>
  <cp:revision>10</cp:revision>
  <dc:subject/>
  <dc:title>Diapositiva 1</dc:title>
</cp:coreProperties>
</file>