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B406-BB8E-4565-8CC1-C1512A36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F4CC-BCAA-45B6-BC1A-84EC0170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E383-1901-4042-8270-696BB936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408E-9D5E-4468-8E5D-89369362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C1E4-612B-4169-A1FC-01F1C596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1B4B-4045-4016-99A4-7A93A198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026-A44F-4DAF-9637-6A44ACBB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145C-5184-4176-A61F-044B9D72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E3A0-7156-4C43-A876-C382ABD6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B0F3-36A8-415B-8433-BCC1CD99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806-C48E-4102-A6FE-230C395C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00F2-8364-410C-85E3-FB08B98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DABE-B2F6-42BF-9BBB-9E1DD92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8403-6523-4CA1-8B1A-A51AD75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554A-0712-403D-B29B-89EF7E0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0DA3-A2E5-4347-8FDB-F725F402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AE38-B4B8-42D5-BD66-01D077E0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4658-51D6-41F9-AE7D-72ED1616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179A-ABBA-4DB8-9F61-75DC510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2951-F95A-4FF1-B15C-E8B54538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8948-5977-4AE9-A483-C55907A9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BFF0-0E17-41F6-80A4-EA07572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0E78-E8F5-4B05-9F3D-8A00D70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B1E0-B1A3-4138-AAC6-B0F43F0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74CA-B70E-43D9-A6A9-60B5BD361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9978-C778-4D5B-BF8B-BF4FFFED1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2363400"/>
            <a:ext cx="55436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Escurrimiento de Fluid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Laboratorio de Ingeniería Quím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IQ53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Experiencia Nº 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1596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Analizar el comportamiento de un fluido al escurrir por un sistema de cañerías provisto de singularidade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aramond"/>
              </a:rPr>
              <a:t>Determinar las pérdidas de carga de cada singularida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squem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553440" cy="5295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43640" y="357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ntracción br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24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xpansión br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d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720" y="148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iraje cort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080" y="4437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iraje largo 9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522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nión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5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álvula gl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844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64000" y="1844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364000" y="2781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64000" y="3933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435640" y="5589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s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érdida de carga debido a una singula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4920" y="3062160"/>
            <a:ext cx="2449440" cy="1016280"/>
            <a:chOff x="3274920" y="3062160"/>
            <a:chExt cx="2449440" cy="1016280"/>
          </a:xfrm>
        </p:grpSpPr>
        <p:sp>
          <p:nvSpPr>
            <p:cNvPr id="128" name=""/>
            <p:cNvSpPr/>
            <p:nvPr/>
          </p:nvSpPr>
          <p:spPr>
            <a:xfrm>
              <a:off x="3274920" y="3206520"/>
              <a:ext cx="1582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= K</a:t>
              </a:r>
              <a:r>
                <a:rPr b="0" lang="es-E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8000" y="30621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88000" y="349704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8000" y="357012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73200" y="4573440"/>
            <a:ext cx="8229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nde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po de sing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ón difer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73480" cy="374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11640" y="1844640"/>
            <a:ext cx="374328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ρ 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ρ 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∆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 = ∆h ρ 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endo ∆h =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−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904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istintos flujos de agua, se calcularán las pérdidas de carga para todas las singularidades que hay en 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3:20:02Z</dcterms:created>
  <dc:creator>Roberto Vera Muñoz</dc:creator>
  <dc:description/>
  <dc:language>en-US</dc:language>
  <cp:lastModifiedBy>LI2</cp:lastModifiedBy>
  <dcterms:modified xsi:type="dcterms:W3CDTF">2007-03-12T20:20:39Z</dcterms:modified>
  <cp:revision>6</cp:revision>
  <dc:subject/>
  <dc:title>Descarga de Fluidos</dc:title>
</cp:coreProperties>
</file>