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71F1-440A-4DB4-9A5A-680869880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BB92-7060-452F-9D36-9F0B8230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DE45-A70B-4B39-AE67-C148B492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39CE-2CBB-46CE-96B6-8B1F05BA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63FE-7F6F-46F8-92E1-62293E72B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8571-CCFF-4C64-BC09-40C4864F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0278-8C4D-4C15-874C-3D5E4209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42A8-C0E3-4ECD-8E37-925DF35C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2206-3BE8-4524-86B6-3CCD13BC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4834-BE49-48DA-A414-02DC9C21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8DE6-F635-4D4C-BD4B-8F39B9C6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AD02-8D5D-4C29-8896-2DBD47AC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E53C-AD60-4AB9-868A-5D824C5D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786D-3053-481E-90A1-01D2B8DC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494F-00AB-401F-B96B-036E3F67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C0A5-2F62-4473-A1FA-C1DB2AE1A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83FE-59EA-4E59-84EE-CA39641B2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1C0FB-207F-46FD-AF46-F3EE8F291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BF042-4842-4E2C-BF84-4AECA0BB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FDDBF-E463-4C72-84CE-9E5F28E5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5206D-5F2A-4146-9E28-E1130233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69746-DA66-4BCD-96E3-A30E539B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833D-3BBA-4FFF-9AD8-CC1AE9B9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D6CAF-135D-4F39-BEDA-8FB80C7C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6A3BD-2781-4176-B357-05612F68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3364D-307C-425A-8E41-A4E7D022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40E76-C7D5-4F8E-96BC-B89EED6D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3FB7B-A94A-408D-BBBE-8EFFB488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66FA8-4B79-408D-9101-A1193C71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30235-250F-4E4F-ABEA-AAF5557C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01B6F-4464-40B8-B8C2-EC1DBCD64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ECBA3-EF1F-4B1F-9542-97DAAC98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A11BE-8FB9-40D6-B92B-36C1B827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C773-072C-461A-A36E-7826F35D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61E86-D64F-40F3-B070-73041D13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F6625-11AD-4D1C-9135-4882A1E2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FC6C0-A1EC-4713-BEFB-B539A384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520CA-AD20-4E83-8A7F-AD0EB30C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95444-8484-47B2-80C8-46887B14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17AAD-CC1F-4877-B230-A58E9EFA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C35F8-BAA7-45A9-B2B4-F0C4A0FA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5C9A2-760E-4154-9ECA-B15024708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89AD2-C7A1-40E6-BD0F-9A5B614D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C2652-CE9D-478D-A3DE-F9A877C26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3F67-A18C-4EEB-B392-AF78D7D9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64A1D-C163-414B-AF5E-16F61B99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8C3AF-D695-4808-9A5A-F7A3B215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3A824-25B5-4C9C-B490-823F0929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A901D-A279-463D-B5C9-1E3F7D3F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5CD45-3A64-4F6D-A641-2F8C4DB8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71813-026B-46A9-9F38-E8C49078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82AAE-F638-40AC-975C-D32BB62A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F9B62-6271-4577-B5FF-60F34159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80489-5CB8-4852-AE74-FEF0CB64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08526-AD67-4924-8EE3-7CDB36408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08C7-2C67-4B0C-A2F6-484422D8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52367-DABE-45E2-894C-7E093FAF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6DED-095C-4F8E-B300-842BE39B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F52E-C8D0-400F-8F0D-DCB74B02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D6C7-9EFC-4A0F-BFD2-59BE0B80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9BF2-F375-4F9D-B8A7-1E465A0D949C}" type="slidenum">
              <a:rPr b="0" lang="es-E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10 Rectángulo redondeado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12 Rectángulo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14 Rectángulo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B168-06A6-4205-BC3A-65E78ABCDD49}" type="slidenum">
              <a:rPr b="0" lang="es-E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10 Rectángulo redondeado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10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11 Rectángulo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12 Rectángulo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14 Rectángulo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B39B-5928-45BC-A0B8-C706B40C1B2A}" type="slidenum">
              <a:rPr b="0" lang="es-E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10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66FD-F372-4949-B2D3-B846A678FA2F}" type="slidenum">
              <a:rPr b="0" lang="es-E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9 Rectángulo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10 Rectángulo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11 Rectángulo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63BA-7011-4602-85D6-CCBF4164549A}" type="slidenum">
              <a:rPr b="0" lang="es-E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85920" y="3357360"/>
            <a:ext cx="64008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f4b4b"/>
                </a:solidFill>
                <a:latin typeface="Calibri"/>
              </a:rPr>
              <a:t>Aparato visual de escurrimiento de fluid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f4b4b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4f4b4b"/>
                </a:solidFill>
                <a:latin typeface="Calibri"/>
              </a:rPr>
              <a:t>Placa orificio y Venturímetr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IQ4801 -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Laboratorio de Ingeniería Química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Experiencia 3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0" name="4 CuadroTexto"/>
          <p:cNvSpPr/>
          <p:nvPr/>
        </p:nvSpPr>
        <p:spPr>
          <a:xfrm>
            <a:off x="6588000" y="4929120"/>
            <a:ext cx="24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feso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Jorge Casti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aúl Quij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uxiliar Exp. 3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odrigo Var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96464"/>
                </a:solidFill>
                <a:latin typeface="Calibri"/>
              </a:rPr>
              <a:t>a) Aparato visual de escurrimiento de fluidos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14400" y="17859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Objetivo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162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1.- Observar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alibri"/>
              </a:rPr>
              <a:t>visualmente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 los distintos regímenes de flujo que puede presentar un fluido (laminar, turbulento, transición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162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2.- Comprobar y entender la relación entre el número de Reynolds y el régimen en el que se encuentr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4267080" y="3000240"/>
            <a:ext cx="3886200" cy="26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990720" y="642960"/>
            <a:ext cx="2350800" cy="556272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3"/>
          <a:stretch/>
        </p:blipFill>
        <p:spPr>
          <a:xfrm>
            <a:off x="5086440" y="1076400"/>
            <a:ext cx="2200320" cy="92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96464"/>
                </a:solidFill>
                <a:latin typeface="Calibri"/>
              </a:rPr>
              <a:t>b) Placa Orificio y Venturímetro.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Objetivo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162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1.- Conocer distintos métodos de medición de cauda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162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2.- Reconocer cómo confeccionar una curva de calibració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162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3.- Caracterizar placa orificio y venturímetro, encontrando su coeficiente de descarga en función del número de Reynold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297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696464"/>
                </a:solidFill>
                <a:latin typeface="Calibri"/>
              </a:rPr>
              <a:t>Curva de Calibración de un Rotámetro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1563480" cy="4375080"/>
          </a:xfrm>
          <a:prstGeom prst="rect">
            <a:avLst/>
          </a:prstGeom>
          <a:ln w="0">
            <a:noFill/>
          </a:ln>
        </p:spPr>
      </p:pic>
      <p:pic>
        <p:nvPicPr>
          <p:cNvPr id="241" name="6 Gráfico" descr=""/>
          <p:cNvPicPr/>
          <p:nvPr/>
        </p:nvPicPr>
        <p:blipFill>
          <a:blip r:embed="rId2"/>
          <a:stretch/>
        </p:blipFill>
        <p:spPr>
          <a:xfrm>
            <a:off x="3297240" y="1566720"/>
            <a:ext cx="534024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0" descr=""/>
          <p:cNvPicPr/>
          <p:nvPr/>
        </p:nvPicPr>
        <p:blipFill>
          <a:blip r:embed="rId1"/>
          <a:stretch/>
        </p:blipFill>
        <p:spPr>
          <a:xfrm>
            <a:off x="4572000" y="2565360"/>
            <a:ext cx="3089160" cy="3300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"/>
          <p:cNvPicPr/>
          <p:nvPr/>
        </p:nvPicPr>
        <p:blipFill>
          <a:blip r:embed="rId2"/>
          <a:stretch/>
        </p:blipFill>
        <p:spPr>
          <a:xfrm>
            <a:off x="1438200" y="2421000"/>
            <a:ext cx="2413080" cy="34956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5"/>
          <p:cNvSpPr/>
          <p:nvPr/>
        </p:nvSpPr>
        <p:spPr>
          <a:xfrm>
            <a:off x="1547640" y="595008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) Placa Orif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4859280" y="59245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 Venturíme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11" descr=""/>
          <p:cNvPicPr/>
          <p:nvPr/>
        </p:nvPicPr>
        <p:blipFill>
          <a:blip r:embed="rId3"/>
          <a:stretch/>
        </p:blipFill>
        <p:spPr>
          <a:xfrm>
            <a:off x="2771640" y="404640"/>
            <a:ext cx="331488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96464"/>
                </a:solidFill>
                <a:latin typeface="Calibri"/>
              </a:rPr>
              <a:t>Ejemplo: Placa Orificio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619280" y="1447920"/>
            <a:ext cx="5634000" cy="52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20:50:16Z</dcterms:created>
  <dc:creator>Quimica</dc:creator>
  <dc:description/>
  <dc:language>en-US</dc:language>
  <cp:lastModifiedBy>Rodrigo</cp:lastModifiedBy>
  <dcterms:modified xsi:type="dcterms:W3CDTF">2010-08-17T20:17:51Z</dcterms:modified>
  <cp:revision>10</cp:revision>
  <dc:subject/>
  <dc:title>Presentación de PowerPoint</dc:title>
</cp:coreProperties>
</file>