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906-1AF0-4138-99EE-510EF768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DE7-71A6-45D2-BEE8-A4CFDDB2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B0D-DA4C-4E0E-8ECD-A5195EE2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3D0-4A21-47A1-9517-EEAE818B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0A5-9F65-4CBB-A834-A55C6D32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39B-D549-4504-8BCC-FE18ABD0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91D-99DB-4FA0-92C9-06202D0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578D-A7B7-47DC-9C84-A897BEC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BB1-59EB-4E30-AC21-50C33F4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D34D-7BC2-488C-8B24-4624B39C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C23D-BE60-4A80-A6CA-AB0583D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5E9-AFF4-4154-A235-FDC78593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F66C-D16A-44D3-A8F6-9E657F5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5726-E417-493B-91E0-8D5029F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9DB4-5D8F-4EF0-9600-92D2BB4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627-10E5-4545-9208-EE9AA942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68B9-9E5D-436E-B054-39C1865A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89BC-E238-4FA2-B2E2-2F6CA026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E89D-62BD-4F0A-A183-B2880F4E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8193-4275-4086-A1D8-797B2C9D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903F-E789-4AE2-B870-9939AFC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F5A8-9573-43D3-BB35-3CA6B96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DD8-A34A-4D58-B8E3-F1066072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0DC5-26D3-4B7A-A9A9-C5A51EC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DAC8-4A8B-4D55-A2FF-D6BDB748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FB7D-D41B-467B-A6DB-636A1B0F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03D4-4162-4D0D-BC56-40213C9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00AD-0C51-43C6-8BA3-687594AF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4499-A1B7-4C90-9D50-1615A957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56EE-8BDC-4E2E-9B41-5E4978DA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E255-AEFD-4AA2-9611-166B1FC0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913D-3532-4B2C-9E59-508CD2C0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1364-5687-408F-8F54-BA6222D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AD5-E5D5-41F6-B46F-4D030FE7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DE23-A6C0-4FD4-864F-5F4A88D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07A5-4D51-4B69-ACCA-F3DD677A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53B9F-5B33-43F9-AC60-C100885F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26412-481C-439B-957B-8E451B3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AD4C-1ECC-48DE-AED2-009B646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79C3-496C-4311-BEC0-20700A6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0D08-6F5D-438E-9C23-A7E37E37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272F-62BE-47D8-86B9-CF011B06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4461-0A76-4B9A-87F7-B708517D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0650-5E81-4015-A04B-0B43C408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F1E-94CF-43AE-8C75-30A8668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1D82-902E-4415-B31B-3487F351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FDF9-59DF-4D89-9C93-10B539D1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B6A5-4A07-48A0-ACBA-DED1EDBC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2B4B-CC07-44A1-B963-585313B6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7EF3-9FF3-44C1-A400-6CEEEA0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A554-AAD0-4C1D-B6C7-34573D6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82085-EA07-4C1F-8F36-D894EB2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0432-5445-4559-B374-E3A98A3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B31C-EC11-4FA8-A1B4-E124D71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5C5D-4799-4BA7-ADDF-DB6674C0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D4C-9A82-4398-B714-426EB288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D7E8-C8D4-47F8-95CB-C0BBDC0F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774-1237-45BB-82C0-0E5D1F3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202-51F7-443D-966A-506B1C3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DCF-D399-42DD-833F-E5B15087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EFC-3326-45E7-80B2-F02B4860B5D7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320-068B-400B-B624-D038667E9552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2183-93C0-40C5-9D23-48E91CFCEA5E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6C4F-850F-4C34-AFC9-6E10CCCB13D0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0D7-CF72-4773-BDB0-40F8AC50D28D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85920" y="335736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Aparato visual de escurrimiento de flu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Placa orificio y Venturíme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IQ4801 -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Laboratorio de Ingeniería Químic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Experiencia 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588000" y="4929120"/>
            <a:ext cx="24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Jorge Cas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úl Qui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xiliar Exp. 3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odrigo Var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a) Aparato visual de escurrimiento de fluido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Observar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alibri"/>
              </a:rPr>
              <a:t>visualmente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los distintos regímenes de flujo que puede presentar un fluido (laminar, turbulento, transició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Comprobar y entender la relación entre el número de Reynolds y el régimen en el que se encuent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67080" y="3000240"/>
            <a:ext cx="388620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990720" y="642960"/>
            <a:ext cx="2350800" cy="5562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86440" y="1076400"/>
            <a:ext cx="2200320" cy="92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b) Placa Orificio y Venturímetro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Conocer distintos métodos de medición de caud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Reconocer cómo confeccionar una curva de calibr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3.- Caracterizar placa orificio y venturímetro, encontrando su coeficiente de descarga en función del número de Reynol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696464"/>
                </a:solidFill>
                <a:latin typeface="Calibri"/>
              </a:rPr>
              <a:t>Curva de Calibración de un Rotámetr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3480" cy="4375080"/>
          </a:xfrm>
          <a:prstGeom prst="rect">
            <a:avLst/>
          </a:prstGeom>
          <a:ln w="0">
            <a:noFill/>
          </a:ln>
        </p:spPr>
      </p:pic>
      <p:pic>
        <p:nvPicPr>
          <p:cNvPr id="241" name="6 Gráfico" descr=""/>
          <p:cNvPicPr/>
          <p:nvPr/>
        </p:nvPicPr>
        <p:blipFill>
          <a:blip r:embed="rId2"/>
          <a:stretch/>
        </p:blipFill>
        <p:spPr>
          <a:xfrm>
            <a:off x="3297240" y="1566720"/>
            <a:ext cx="5340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089160" cy="330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1438200" y="2421000"/>
            <a:ext cx="2413080" cy="3495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547640" y="59500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Placa Or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59280" y="5924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Venturí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771640" y="404640"/>
            <a:ext cx="3314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Calibri"/>
              </a:rPr>
              <a:t>Ejemplo: Placa Orifici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340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50:16Z</dcterms:created>
  <dc:creator>Quimica</dc:creator>
  <dc:description/>
  <dc:language>en-US</dc:language>
  <cp:lastModifiedBy>Rodrigo</cp:lastModifiedBy>
  <dcterms:modified xsi:type="dcterms:W3CDTF">2010-08-17T20:17:51Z</dcterms:modified>
  <cp:revision>10</cp:revision>
  <dc:subject/>
  <dc:title>Presentación de PowerPoint</dc:title>
</cp:coreProperties>
</file>