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761-6853-43AF-B690-39F0FA2B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7E1-9B33-4AE3-9299-332C2E1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C68-7871-4019-BA71-DF44A88B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499-9D36-4BF5-8D79-23CCBCD4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A02A-D25E-4B87-8EDE-D5C41CC2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CA61-8048-40B5-835A-7B6782C4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DA34-5389-4A28-9C26-6DFBF857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9063-24BA-426B-A5FF-A1DCCB62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0EDA-3E95-491D-8BD9-CDEF0F3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FF59-65B6-4636-B6B6-8A4F7B72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CCF4-F769-4E93-913F-960295C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0D6-44F2-47EE-80E5-8B619170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791-669F-48E9-AC14-4F4E4CC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220E-6583-440C-9117-6A439FF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C7A-D427-470E-89BE-CB2FBE2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8025-0164-47B1-9E7B-56F43352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B46D-4728-4ED5-B33D-BBB580CB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849B-5A72-484B-BAD5-BBDFFC80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4F9A-277C-465A-B3C5-9B487F62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9431-6445-42D3-A08F-22506DE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6891-AE90-46E7-AC31-69C71A51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797D-9558-4968-9319-B679256D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1BA-56A9-4329-AA8D-637688D3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A00FD-9176-44C7-BBDF-7665CF0C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8950-3A05-4A73-814D-159EA73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87C4-A292-47AB-80BB-5EC4763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8967-8419-4F94-8449-28D7687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02CD-8575-4C5A-B747-B1B86648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A951-FE67-4E10-B188-9B6BB75B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0FE2-0FE3-4701-80C9-A4B6EF0B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10AE-841B-4015-95C3-A04A6E8C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BF06-AE51-4318-A2B6-08FCF23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6484-6C40-40B4-9F59-B8BB047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7B1-D8B3-4E0F-80D9-9F7C6594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679B-F7A3-4BFB-AD1D-D2D9D4F6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306B-38F8-4944-96A8-D0FF6DB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5932-8DD4-4010-89C1-22ACB741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009A-30E3-4150-8DF4-5F19466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25BA-E4FF-4FD0-8426-E99820C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4231-A1EB-4A70-A702-B3B2821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CE9A-98EA-4D27-BA3D-9B2E269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E0E4-F6C4-48D1-B0C0-7540E47A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F284-61CD-4374-9EE8-8522BA34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46AE-70DC-4AF2-8048-15A77344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E10-A4AD-43B8-81CC-54E9AA2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335E-D206-46DC-A025-536CD5B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6EC4-0F65-44F8-B1F9-BE6A2165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54DFD-9267-4AC7-AA40-2D3C5BF1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E6E4-7EC3-4DC4-8ACF-D30C943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DF29-A65F-4A74-A93A-0A53CC19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2010-9797-4F27-BAAD-59D8931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6DA1-38FF-48F8-BA8B-084A315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0A5C-4B11-4524-9EBA-00031DC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D32CF-ED99-4C67-AB76-9C76BA68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9D4D-7348-46FD-9BC4-9B2A509E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3BA-B5FF-4CD9-A74F-50497028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602A-D5CE-4295-B348-2BD0921F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493-95E9-4644-B559-64B1830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EBB-BAD1-4427-8A19-A236EE61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42A-CF29-4DE7-9F89-6EDEA59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7EA8-CFB9-4B03-899E-81765A200080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7073-47E3-446B-9126-A200A3C58A74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1F35-DC71-47F4-8CD2-90E77AFCCB2B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21DF-4611-43DC-8A43-333D25CEFFCC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3F7-C5FA-44BB-A7A0-8FF41104EBCA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85920" y="335736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Aparato visual de escurrimiento de flu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Placa orificio y Venturíme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IQ4801 -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Laboratorio de Ingeniería Químic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Experiencia 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588000" y="4929120"/>
            <a:ext cx="24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Jorge Cas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úl Qui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xiliar Exp. 3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odrigo Var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a) Aparato visual de escurrimiento de fluido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Observar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alibri"/>
              </a:rPr>
              <a:t>visualmente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los distintos regímenes de flujo que puede presentar un fluido (laminar, turbulento, transició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Comprobar y entender la relación entre el número de Reynolds y el régimen en el que se encuent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67080" y="3000240"/>
            <a:ext cx="388620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990720" y="642960"/>
            <a:ext cx="2350800" cy="5562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86440" y="1076400"/>
            <a:ext cx="2200320" cy="92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b) Placa Orificio y Venturímetro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Conocer distintos métodos de medición de caud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Reconocer cómo confeccionar una curva de calibr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3.- Caracterizar placa orificio y venturímetro, encontrando su coeficiente de descarga en función del número de Reynol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696464"/>
                </a:solidFill>
                <a:latin typeface="Calibri"/>
              </a:rPr>
              <a:t>Curva de Calibración de un Rotámetr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3480" cy="4375080"/>
          </a:xfrm>
          <a:prstGeom prst="rect">
            <a:avLst/>
          </a:prstGeom>
          <a:ln w="0">
            <a:noFill/>
          </a:ln>
        </p:spPr>
      </p:pic>
      <p:pic>
        <p:nvPicPr>
          <p:cNvPr id="241" name="6 Gráfico" descr=""/>
          <p:cNvPicPr/>
          <p:nvPr/>
        </p:nvPicPr>
        <p:blipFill>
          <a:blip r:embed="rId2"/>
          <a:stretch/>
        </p:blipFill>
        <p:spPr>
          <a:xfrm>
            <a:off x="3297240" y="1566720"/>
            <a:ext cx="5340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089160" cy="330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1438200" y="2421000"/>
            <a:ext cx="2413080" cy="3495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547640" y="59500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Placa Or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59280" y="5924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Venturí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771640" y="404640"/>
            <a:ext cx="3314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Calibri"/>
              </a:rPr>
              <a:t>Ejemplo: Placa Orifici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340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50:16Z</dcterms:created>
  <dc:creator>Quimica</dc:creator>
  <dc:description/>
  <dc:language>en-US</dc:language>
  <cp:lastModifiedBy>Rodrigo</cp:lastModifiedBy>
  <dcterms:modified xsi:type="dcterms:W3CDTF">2010-08-17T20:17:51Z</dcterms:modified>
  <cp:revision>10</cp:revision>
  <dc:subject/>
  <dc:title>Presentación de PowerPoint</dc:title>
</cp:coreProperties>
</file>