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57C-E811-4273-AC28-6CBFECA6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67A-6311-4F54-85C9-C3753208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2CD-FC40-48BD-8FB3-5865F55B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1A1-9563-425A-85CE-1B903CDB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8EC6-267E-4093-9F7A-41BE527A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7F5D-879F-481C-9F5A-89A3B85C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1AAB-51E3-44AB-820D-E5B70FF9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20E8-8D20-4777-99E4-FE8122C8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EB43-E751-48D9-826E-60A1C7B2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D6C0-9EC9-4492-A5E2-A1FA63A1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9FB0-205E-43E3-8CDB-D027ED63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90F-EB3D-47A5-91DE-983113E7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AC9E-FC66-4AEC-A7C6-35931CF6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D351-331E-4843-ACCF-BBEF51AE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53EA-BBB7-4228-8DCD-CED119D9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0F2B-C3F0-4FE5-8AF8-72145660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AD80-8045-414B-9527-24920868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4A105-16B3-46B1-A007-2EECD48C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0E928-29F4-4CB2-B238-898C7E39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F47A4-1A8F-4273-B13A-92183430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991A1-FEBB-4AB0-A3EC-C1962194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CAF6A-143A-4F79-B204-B439615E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101-1FFB-441F-A646-1EE713C5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1BF88-DEEB-4F9C-BDBC-D5F00D72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FC9FA-46FF-43DF-B8A7-B6F3C907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42C4E-F719-450D-95AB-D9E4F3A7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C1202-F4E9-46C5-9155-5521A433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3F0A6-9A99-4692-9E44-972DB851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1DE86-3CF3-4CBA-AE09-11CD3D74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D2FF3-0DEB-4DCC-8563-40456F23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73D74-40AB-41AD-BF77-7AD3A81B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7382D-975F-4106-8EEA-B1709504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07EBE-164D-477F-8AE5-CF2F5756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B4F-D22D-4960-9901-7D2CDACB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F5C3F-03D8-4E10-8AD4-F754A348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4BED0-A2B3-4ABD-B219-E75CDE9A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2791E-F5AC-48FA-BC6F-08E92C16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C6E41-121E-41B9-9D7A-B2783EDE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6AFD8-8796-4AF2-A9E4-1AD79EB3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1DDD1-E85C-46CE-8D2B-31773F5A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E7A6D-DCD6-4B51-94E6-8667CF33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A0E36-FD9A-4ED8-8AA0-1988FAFA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AE28C-CF44-45CA-9713-F9845A2F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4D0-9D69-4B1E-86E8-95EDD8A3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F0D-6B53-4EF5-825F-856C3FB8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B6E-75B6-4608-A494-76C006FC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40C-2131-4077-9A9D-F45E6B85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4E7-6D5F-4277-A1C0-3BE025C2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BBCE-57D3-4A30-A45F-C29EB4BEFDDA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1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3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4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5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6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0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1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42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3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83FC-28DC-46B6-B61D-59AFA66AA03E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705C-448D-4B58-B434-62D35602B0DD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E4B5-3DD2-4540-BC29-E0616EA8C944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Motobomba</a:t>
            </a:r>
            <a:endParaRPr b="0" lang="en-US" sz="4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8258040" cy="25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Experiencia N°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Francisco Contreras 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11 /10/201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3 Imagen" descr="Logo_FCFM.jpg"/>
          <p:cNvPicPr/>
          <p:nvPr/>
        </p:nvPicPr>
        <p:blipFill>
          <a:blip r:embed="rId1"/>
          <a:stretch/>
        </p:blipFill>
        <p:spPr>
          <a:xfrm>
            <a:off x="123840" y="227160"/>
            <a:ext cx="1447920" cy="928440"/>
          </a:xfrm>
          <a:prstGeom prst="rect">
            <a:avLst/>
          </a:prstGeom>
          <a:ln w="0">
            <a:noFill/>
          </a:ln>
        </p:spPr>
      </p:pic>
      <p:sp>
        <p:nvSpPr>
          <p:cNvPr id="217" name="4 CuadroTexto"/>
          <p:cNvSpPr/>
          <p:nvPr/>
        </p:nvSpPr>
        <p:spPr>
          <a:xfrm>
            <a:off x="1417680" y="142920"/>
            <a:ext cx="532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Departamento de Ingeniería Química y Bio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IQ4801 – Laboratorio de la Ingeniería Quím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Introducción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Operación fundamental en toda planta Químic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Función es entregar potencia a fluido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Tipos de Bomb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Desplazamiento Positivo: pistón, peristáltica, etc.</a:t>
            </a:r>
            <a:endParaRPr b="0" lang="en-US" sz="22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Turbomáquinas: </a:t>
            </a:r>
            <a:r>
              <a:rPr b="1" lang="es-CL" sz="2200" spc="-1" strike="noStrike" u="sng">
                <a:solidFill>
                  <a:srgbClr val="009dd9"/>
                </a:solidFill>
                <a:uFillTx/>
                <a:latin typeface="Georgia"/>
              </a:rPr>
              <a:t>centrífugas</a:t>
            </a: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l funcionamiento se describe a través de sus curvas características entregadas por fabricant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Bomba Centrífug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357800" y="1857240"/>
            <a:ext cx="4357440" cy="3581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sapiensman.com/ESDictionary/imagenes/bomba%20centrifuga.jpg"/>
          <p:cNvPicPr/>
          <p:nvPr/>
        </p:nvPicPr>
        <p:blipFill>
          <a:blip r:embed="rId2"/>
          <a:stretch/>
        </p:blipFill>
        <p:spPr>
          <a:xfrm>
            <a:off x="571680" y="2000160"/>
            <a:ext cx="33573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Cantidades relevant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Altura de Eleva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Potencia Efectiv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1828800" cy="866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1791000" cy="4478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2" descr=""/>
          <p:cNvPicPr/>
          <p:nvPr/>
        </p:nvPicPr>
        <p:blipFill>
          <a:blip r:embed="rId3"/>
          <a:stretch/>
        </p:blipFill>
        <p:spPr>
          <a:xfrm>
            <a:off x="3851280" y="5300640"/>
            <a:ext cx="952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Objetivo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499760"/>
            <a:ext cx="81154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Determinar curvas característic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Altura de elevación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Potencia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Eficiencia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Comparar resultados teóricos con experimental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ncontrar curvas características de una bomba con distinta velocidad utilizando coeficientes de semejanza dinámic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Curvas Característica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8" name="Picture 2" descr="http://www.gouldspumps.com/download_files/pump_fundamentals/sect_a8_fig05.gif"/>
          <p:cNvPicPr/>
          <p:nvPr/>
        </p:nvPicPr>
        <p:blipFill>
          <a:blip r:embed="rId1"/>
          <a:stretch/>
        </p:blipFill>
        <p:spPr>
          <a:xfrm>
            <a:off x="1415880" y="1916280"/>
            <a:ext cx="6210360" cy="3241440"/>
          </a:xfrm>
          <a:prstGeom prst="rect">
            <a:avLst/>
          </a:prstGeom>
          <a:ln w="0">
            <a:noFill/>
          </a:ln>
        </p:spPr>
      </p:pic>
      <p:sp>
        <p:nvSpPr>
          <p:cNvPr id="239" name="8 CuadroTexto"/>
          <p:cNvSpPr/>
          <p:nvPr/>
        </p:nvSpPr>
        <p:spPr>
          <a:xfrm>
            <a:off x="2068920" y="5373720"/>
            <a:ext cx="48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HEAD: Altura de Ele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B.H.P.: “</a:t>
            </a:r>
            <a:r>
              <a:rPr b="0" i="1" lang="es-CL" sz="1600" spc="-1" strike="noStrike">
                <a:solidFill>
                  <a:srgbClr val="000000"/>
                </a:solidFill>
                <a:latin typeface="Georgia"/>
              </a:rPr>
              <a:t>Break Horsepower</a:t>
            </a: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” Potencia Consum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EFF: Efi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Trebuchet MS"/>
              </a:rPr>
              <a:t>Coeficientes de Semejanza Dinámica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889520" y="1844640"/>
            <a:ext cx="1266840" cy="857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962600" y="2990880"/>
            <a:ext cx="1071360" cy="797040"/>
          </a:xfrm>
          <a:prstGeom prst="rect">
            <a:avLst/>
          </a:prstGeom>
          <a:ln w="0">
            <a:noFill/>
          </a:ln>
        </p:spPr>
      </p:pic>
      <p:sp>
        <p:nvSpPr>
          <p:cNvPr id="243" name="5 CuadroTexto"/>
          <p:cNvSpPr/>
          <p:nvPr/>
        </p:nvSpPr>
        <p:spPr>
          <a:xfrm>
            <a:off x="1945080" y="1982880"/>
            <a:ext cx="25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Carg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Manométr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6 Rectángulo"/>
          <p:cNvSpPr/>
          <p:nvPr/>
        </p:nvSpPr>
        <p:spPr>
          <a:xfrm>
            <a:off x="1954440" y="320688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7 Rectángulo"/>
          <p:cNvSpPr/>
          <p:nvPr/>
        </p:nvSpPr>
        <p:spPr>
          <a:xfrm>
            <a:off x="2013120" y="4430880"/>
            <a:ext cx="27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Po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(Efectiva o Consum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3"/>
          <a:stretch/>
        </p:blipFill>
        <p:spPr>
          <a:xfrm>
            <a:off x="4962600" y="4437000"/>
            <a:ext cx="115092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21:26:10Z</dcterms:created>
  <dc:creator>Pancho</dc:creator>
  <dc:description/>
  <dc:language>en-US</dc:language>
  <cp:lastModifiedBy>Pancho</cp:lastModifiedBy>
  <dcterms:modified xsi:type="dcterms:W3CDTF">2011-10-17T01:44:01Z</dcterms:modified>
  <cp:revision>17</cp:revision>
  <dc:subject/>
  <dc:title>Motobomba</dc:title>
</cp:coreProperties>
</file>