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EF1E-14CF-4A85-95A3-0B80C4725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CCF7-B89B-412B-B575-1FAA6355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64E8-45EC-4855-84DA-423A6C6FA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0E9C-3FA0-426B-96E1-CA9C41E5C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5F61-7E80-4CA0-8D44-75474F1E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B01E-43B8-41E0-B550-6A55E07A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3ACC-6EDE-46F0-BAFF-E721E888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1944-F731-42F0-AB76-574BB6C2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7D46-C2C4-4578-84A5-291D20D4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32CB-1194-4E52-940E-7228F7F2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D51F-80D7-49BF-97B6-7BC9A6DB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9E0A-4220-4EAB-A1C5-75BA1C68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4EAB-5C3D-49C0-85B1-E917952C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67D3-6606-4A8F-BCBC-2D7BC0C6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C788-DFC2-4DB8-9C45-5D31C246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5E95-6A8C-4A67-8D69-A5F13E0DC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55B4-0411-4D34-A2FB-11799AA8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340287-4FD4-44A6-8FB6-B3E091A8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F896E5-75B9-4BA6-A2F9-E0E34549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6DEC29-1DAC-4CD0-8D83-29FDD144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33A20F-F0EF-4E9F-B021-1834246C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383C47-0723-45FA-887A-843103AD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75DA-678C-42B6-B12D-AB00C152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F8CD65-1BAA-4D48-823A-C79BB9B9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884402-63F9-497F-AA04-0278A77F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AD4608-2C0C-4CFE-A269-01B9765F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C5058C-1674-4E70-ACE8-41C97269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657128-69F3-4AE2-9AD0-C5C7217D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FF26CC-A258-4A5B-896F-F758BED3C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4CA845-D656-4386-ABD9-C0239D6F9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8DB47-79A8-4344-8B41-6F9295114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B95ED-5FA7-45E2-B69C-2C73E8AE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5C431-5CFB-4EF2-83E0-7599A9B0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7362-4D89-4E3E-A7B0-E9FB854B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244F4-A3E2-4F30-8812-71BA4562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2BCC2-D279-4D04-AF01-F219A724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77799-C25E-4B9B-A035-223CB383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E132D-2BB9-45CA-8C24-43496A43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DDEEC-3E85-46A2-B175-61D40F85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54C19-3089-42C6-8043-1E4CF3B9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07CFE-AD4B-48DE-8E95-A301E745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F52FD-43A7-4A58-9087-E32B0ACA3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3A1DA-A13C-4A47-904B-9D424CE01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598B-82E9-4FAC-AEE2-FC6112BE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D426-22A7-41AB-97CF-90A059C1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600D-1F99-47AE-9555-D2F83216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84F2-837B-43F7-9A2F-8812DF74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A00B-3E47-4A5A-80ED-D211EF8F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5578-956A-434A-AA79-E5C75DA7B824}" type="slidenum">
              <a:rPr b="0" lang="es-E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9 Rectángulo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0 Rectángulo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1 Rectángulo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3 Rectángulo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4 Rectángulo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5 Rectángulo redondeado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6 Rectángulo redondeado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40 Rectángulo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41 Rectángulo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42 Rectángulo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43 Rectángulo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BA18-26D2-47EB-9B2D-3AEAC2735EED}" type="slidenum">
              <a:rPr b="0" lang="es-E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BFE4-3BBD-4496-92B6-5985D48BD3F3}" type="slidenum">
              <a:rPr b="0" lang="es-E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52FD-E4AA-4557-9F8C-98E0E5A0D27D}" type="slidenum">
              <a:rPr b="0" lang="es-E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rebuchet MS"/>
              </a:rPr>
              <a:t>Motobomba</a:t>
            </a:r>
            <a:endParaRPr b="0" lang="en-US" sz="44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6840" y="3900600"/>
            <a:ext cx="8258040" cy="25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4617b"/>
                </a:solidFill>
                <a:latin typeface="Georgia"/>
              </a:rPr>
              <a:t>Experiencia N°2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4617b"/>
                </a:solidFill>
                <a:latin typeface="Georgia"/>
              </a:rPr>
              <a:t>Francisco Contreras C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4617b"/>
                </a:solidFill>
                <a:latin typeface="Georgia"/>
              </a:rPr>
              <a:t>11 /10/2011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3 Imagen" descr="Logo_FCFM.jpg"/>
          <p:cNvPicPr/>
          <p:nvPr/>
        </p:nvPicPr>
        <p:blipFill>
          <a:blip r:embed="rId1"/>
          <a:stretch/>
        </p:blipFill>
        <p:spPr>
          <a:xfrm>
            <a:off x="123840" y="227160"/>
            <a:ext cx="1447920" cy="928440"/>
          </a:xfrm>
          <a:prstGeom prst="rect">
            <a:avLst/>
          </a:prstGeom>
          <a:ln w="0">
            <a:noFill/>
          </a:ln>
        </p:spPr>
      </p:pic>
      <p:sp>
        <p:nvSpPr>
          <p:cNvPr id="217" name="4 CuadroTexto"/>
          <p:cNvSpPr/>
          <p:nvPr/>
        </p:nvSpPr>
        <p:spPr>
          <a:xfrm>
            <a:off x="1417680" y="142920"/>
            <a:ext cx="5324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eorgia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eorgia"/>
              </a:rPr>
              <a:t>Facultad de Ciencias Físicas y Matemá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eorgia"/>
              </a:rPr>
              <a:t>Departamento de Ingeniería Química y Biotecnolo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eorgia"/>
              </a:rPr>
              <a:t>IQ4801 – Laboratorio de la Ingeniería Químic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Trebuchet MS"/>
              </a:rPr>
              <a:t>Introducción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50012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Operación fundamental en toda planta Química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Función es entregar potencia a fluido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Tipos de Bomba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9dd9"/>
                </a:solidFill>
                <a:latin typeface="Georgia"/>
              </a:rPr>
              <a:t>Desplazamiento Positivo: pistón, peristáltica, etc.</a:t>
            </a:r>
            <a:endParaRPr b="0" lang="en-US" sz="2200" spc="-1" strike="noStrike">
              <a:solidFill>
                <a:srgbClr val="009dd9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9dd9"/>
                </a:solidFill>
                <a:latin typeface="Georgia"/>
              </a:rPr>
              <a:t>Turbomáquinas: </a:t>
            </a:r>
            <a:r>
              <a:rPr b="1" lang="es-CL" sz="2200" spc="-1" strike="noStrike" u="sng">
                <a:solidFill>
                  <a:srgbClr val="009dd9"/>
                </a:solidFill>
                <a:uFillTx/>
                <a:latin typeface="Georgia"/>
              </a:rPr>
              <a:t>centrífugas</a:t>
            </a:r>
            <a:r>
              <a:rPr b="0" lang="es-CL" sz="2200" spc="-1" strike="noStrike">
                <a:solidFill>
                  <a:srgbClr val="009dd9"/>
                </a:solidFill>
                <a:latin typeface="Georgia"/>
              </a:rPr>
              <a:t>.</a:t>
            </a:r>
            <a:endParaRPr b="0" lang="en-US" sz="2200" spc="-1" strike="noStrike">
              <a:solidFill>
                <a:srgbClr val="009dd9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El funcionamiento se describe a través de sus curvas características entregadas por fabricant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Trebuchet MS"/>
              </a:rPr>
              <a:t>Bomba Centrífuga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4357800" y="1857240"/>
            <a:ext cx="4357440" cy="3581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http://www.sapiensman.com/ESDictionary/imagenes/bomba%20centrifuga.jpg"/>
          <p:cNvPicPr/>
          <p:nvPr/>
        </p:nvPicPr>
        <p:blipFill>
          <a:blip r:embed="rId2"/>
          <a:stretch/>
        </p:blipFill>
        <p:spPr>
          <a:xfrm>
            <a:off x="571680" y="2000160"/>
            <a:ext cx="335736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633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Trebuchet MS"/>
              </a:rPr>
              <a:t>Cantidades relevantes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77300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Altura de Elevació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Potencia Efectiv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Eficienc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1"/>
          <a:stretch/>
        </p:blipFill>
        <p:spPr>
          <a:xfrm>
            <a:off x="3419640" y="2349360"/>
            <a:ext cx="1828800" cy="8668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8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9" descr=""/>
          <p:cNvPicPr/>
          <p:nvPr/>
        </p:nvPicPr>
        <p:blipFill>
          <a:blip r:embed="rId2"/>
          <a:stretch/>
        </p:blipFill>
        <p:spPr>
          <a:xfrm>
            <a:off x="3492360" y="4149720"/>
            <a:ext cx="1791000" cy="44784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1"/>
          <p:cNvSpPr/>
          <p:nvPr/>
        </p:nvSpPr>
        <p:spPr>
          <a:xfrm>
            <a:off x="0" y="9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2" descr=""/>
          <p:cNvPicPr/>
          <p:nvPr/>
        </p:nvPicPr>
        <p:blipFill>
          <a:blip r:embed="rId3"/>
          <a:stretch/>
        </p:blipFill>
        <p:spPr>
          <a:xfrm>
            <a:off x="3851280" y="5300640"/>
            <a:ext cx="952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Trebuchet MS"/>
              </a:rPr>
              <a:t>Objetivos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6840" y="1499760"/>
            <a:ext cx="811548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Determinar curvas característica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dd9"/>
                </a:solidFill>
                <a:latin typeface="Georgia"/>
              </a:rPr>
              <a:t>Altura de elevación vs. Caudal.</a:t>
            </a:r>
            <a:endParaRPr b="0" lang="en-US" sz="2400" spc="-1" strike="noStrike">
              <a:solidFill>
                <a:srgbClr val="009dd9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dd9"/>
                </a:solidFill>
                <a:latin typeface="Georgia"/>
              </a:rPr>
              <a:t>Potencia vs. Caudal.</a:t>
            </a:r>
            <a:endParaRPr b="0" lang="en-US" sz="2400" spc="-1" strike="noStrike">
              <a:solidFill>
                <a:srgbClr val="009dd9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dd9"/>
                </a:solidFill>
                <a:latin typeface="Georgia"/>
              </a:rPr>
              <a:t>Eficiencia vs. Caudal.</a:t>
            </a:r>
            <a:endParaRPr b="0" lang="en-US" sz="2400" spc="-1" strike="noStrike">
              <a:solidFill>
                <a:srgbClr val="009dd9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Comparar resultados teóricos con experimentale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Encontrar curvas características de una bomba con distinta velocidad utilizando coeficientes de semejanza dinámica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Trebuchet MS"/>
              </a:rPr>
              <a:t>Curvas Características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38" name="Picture 2" descr="http://www.gouldspumps.com/download_files/pump_fundamentals/sect_a8_fig05.gif"/>
          <p:cNvPicPr/>
          <p:nvPr/>
        </p:nvPicPr>
        <p:blipFill>
          <a:blip r:embed="rId1"/>
          <a:stretch/>
        </p:blipFill>
        <p:spPr>
          <a:xfrm>
            <a:off x="1415880" y="1916280"/>
            <a:ext cx="6210360" cy="3241440"/>
          </a:xfrm>
          <a:prstGeom prst="rect">
            <a:avLst/>
          </a:prstGeom>
          <a:ln w="0">
            <a:noFill/>
          </a:ln>
        </p:spPr>
      </p:pic>
      <p:sp>
        <p:nvSpPr>
          <p:cNvPr id="239" name="8 CuadroTexto"/>
          <p:cNvSpPr/>
          <p:nvPr/>
        </p:nvSpPr>
        <p:spPr>
          <a:xfrm>
            <a:off x="2068920" y="5373720"/>
            <a:ext cx="483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Georgia"/>
              </a:rPr>
              <a:t>HEAD: Altura de Elev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Georgia"/>
              </a:rPr>
              <a:t>B.H.P.: “</a:t>
            </a:r>
            <a:r>
              <a:rPr b="0" i="1" lang="es-CL" sz="1600" spc="-1" strike="noStrike">
                <a:solidFill>
                  <a:srgbClr val="000000"/>
                </a:solidFill>
                <a:latin typeface="Georgia"/>
              </a:rPr>
              <a:t>Break Horsepower</a:t>
            </a:r>
            <a:r>
              <a:rPr b="0" lang="es-CL" sz="1600" spc="-1" strike="noStrike">
                <a:solidFill>
                  <a:srgbClr val="000000"/>
                </a:solidFill>
                <a:latin typeface="Georgia"/>
              </a:rPr>
              <a:t>” Potencia Consum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Georgia"/>
              </a:rPr>
              <a:t>EFF: Efici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633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4617b"/>
                </a:solidFill>
                <a:latin typeface="Trebuchet MS"/>
              </a:rPr>
              <a:t>Coeficientes de Semejanza Dinámica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4889520" y="1844640"/>
            <a:ext cx="1266840" cy="8571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2"/>
          <a:stretch/>
        </p:blipFill>
        <p:spPr>
          <a:xfrm>
            <a:off x="4962600" y="2990880"/>
            <a:ext cx="1071360" cy="797040"/>
          </a:xfrm>
          <a:prstGeom prst="rect">
            <a:avLst/>
          </a:prstGeom>
          <a:ln w="0">
            <a:noFill/>
          </a:ln>
        </p:spPr>
      </p:pic>
      <p:sp>
        <p:nvSpPr>
          <p:cNvPr id="243" name="5 CuadroTexto"/>
          <p:cNvSpPr/>
          <p:nvPr/>
        </p:nvSpPr>
        <p:spPr>
          <a:xfrm>
            <a:off x="1945080" y="1982880"/>
            <a:ext cx="258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Coeficiente de Carga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Manométr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6 Rectángulo"/>
          <p:cNvSpPr/>
          <p:nvPr/>
        </p:nvSpPr>
        <p:spPr>
          <a:xfrm>
            <a:off x="1954440" y="320688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Coeficiente de Fluj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7 Rectángulo"/>
          <p:cNvSpPr/>
          <p:nvPr/>
        </p:nvSpPr>
        <p:spPr>
          <a:xfrm>
            <a:off x="2013120" y="4430880"/>
            <a:ext cx="27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Coeficiente de Pot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(Efectiva o Consum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0" y="10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3"/>
          <a:stretch/>
        </p:blipFill>
        <p:spPr>
          <a:xfrm>
            <a:off x="4962600" y="4437000"/>
            <a:ext cx="115092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8T21:26:10Z</dcterms:created>
  <dc:creator>Pancho</dc:creator>
  <dc:description/>
  <dc:language>en-US</dc:language>
  <cp:lastModifiedBy>Pancho</cp:lastModifiedBy>
  <dcterms:modified xsi:type="dcterms:W3CDTF">2011-10-17T01:44:01Z</dcterms:modified>
  <cp:revision>17</cp:revision>
  <dc:subject/>
  <dc:title>Motobomba</dc:title>
</cp:coreProperties>
</file>