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BD6-5908-4BF0-A01E-C1C7A5BF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623-BEB9-4CBB-8716-9EF6FE94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B03-CC91-4963-91C8-B3845086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B46-1EFD-4B1E-8EBD-C7B8B040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41E-105D-4780-B953-E611BD4D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1CCB-A681-4C9C-A2F7-0C6B0658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5FDA-E07F-456A-AE9B-7D1566A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524F-0FBF-4650-9472-DEAF506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8E2B-4DE9-484F-AD5D-754A36A6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0676-C247-473B-A2D9-086D8D2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C7B6-46D3-42B4-A34C-F3F2D1A2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2E3-49BB-42FA-A2AA-16FB4FCB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6C77-90C2-4DB7-9020-DF33958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3CA6-BFDA-400D-86E0-EC00ACE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3243-F28E-424E-8E96-465F12AC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A500-893F-4669-A34A-13123EDE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C0AD-4C09-4085-A041-6465AA18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25526-A54A-43B1-9669-59C7D5F9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5B2BD-1C5F-433F-A128-9D6E54E3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67087-8696-4DEB-9E83-B6EB4F66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3C473-5AF7-4E69-AA51-556BE06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FBBA0-AEE6-4E3F-8F76-85B112D3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207-9613-41B5-84AA-2697219F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E7A85-648F-433E-B3E9-76C99CB5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8A80F-840A-4D53-894B-53C3053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08CEA-23CD-48B1-9396-5F5CDF0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7D596-853F-411D-BC15-FB05A6B9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932FD-3069-4B7C-946C-184EDFF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BCF94-28C0-4996-88DD-304FEDA1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42115-DEE3-49C0-B2C2-C0F983C6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B2C8-F11D-497F-B733-B52D8DC6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61F1-7927-423C-9568-BE5CEFC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397B-69B4-42BF-BA10-E21666CB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9EE-D797-4CE9-88E6-1FCC7534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9BC0-01B0-4C50-AF5D-5FF9B601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DB33-E777-48E1-A091-E68BC10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F962-7142-445A-BC82-EDC05B6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FB03-8052-4408-BBAD-9BDFE62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3B2A-156E-4BD1-B79B-28430AF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B2C6-BE59-4EFE-8BEC-BE93850D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31E7-6205-4C69-9B3B-39434C93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1E14-FCEF-4BAE-9C92-0F9BF691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7D63-7005-40B1-8522-7B0D9841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DA5-93C8-4D3D-8FF6-3D9E46A3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BCF-1D72-4EDC-B07F-F1762D19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F95-3593-418F-921A-E66BF54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B9F-FFD4-4487-B74C-B7D9FF46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56F-0A4E-4DA7-A6BB-75ACA6AD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43F0-20B1-4F40-BE43-64DF8FD6F0D8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6AC-D596-45B8-9962-95D060B96E73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91A-6C18-47DB-A79A-562AB6E7F27D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ED40-3AC5-4A21-8B26-AD4CD0874C4D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Motobomba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25804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Experiencia N°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Francisco Contreras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11 /10/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3 Imagen" descr="Logo_FCFM.jpg"/>
          <p:cNvPicPr/>
          <p:nvPr/>
        </p:nvPicPr>
        <p:blipFill>
          <a:blip r:embed="rId1"/>
          <a:stretch/>
        </p:blipFill>
        <p:spPr>
          <a:xfrm>
            <a:off x="123840" y="227160"/>
            <a:ext cx="1447920" cy="92844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1417680" y="1429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Departamento de Ingeniería 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IQ4801 – Laboratorio de la Ingeniería Quím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Introduc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Operación fundamental en toda planta Quí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Función es entregar potencia a fluid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Tipos de Bomb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Desplazamiento Positivo: pistón, peristáltica, etc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Turbomáquinas: </a:t>
            </a:r>
            <a:r>
              <a:rPr b="1" lang="es-CL" sz="2200" spc="-1" strike="noStrike" u="sng">
                <a:solidFill>
                  <a:srgbClr val="009dd9"/>
                </a:solidFill>
                <a:uFillTx/>
                <a:latin typeface="Georgia"/>
              </a:rPr>
              <a:t>centrífugas</a:t>
            </a: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l funcionamiento se describe a través de sus curvas características entregadas por fabrica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Bomba Centrífug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357440" cy="358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apiensman.com/ESDictionary/imagenes/bomba%20centrifuga.jpg"/>
          <p:cNvPicPr/>
          <p:nvPr/>
        </p:nvPicPr>
        <p:blipFill>
          <a:blip r:embed="rId2"/>
          <a:stretch/>
        </p:blipFill>
        <p:spPr>
          <a:xfrm>
            <a:off x="571680" y="2000160"/>
            <a:ext cx="3357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antidade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Altura de Ele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Potencia Efe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828800" cy="86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9100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3"/>
          <a:stretch/>
        </p:blipFill>
        <p:spPr>
          <a:xfrm>
            <a:off x="3851280" y="5300640"/>
            <a:ext cx="952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Objetivo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499760"/>
            <a:ext cx="81154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Determinar curvas característic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Altura de elevación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Pot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Efici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Comparar resultados teóricos con experimental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ncontrar curvas características de una bomba con distinta velocidad utilizando coeficientes de semejanza diná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urvas Característica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8" name="Picture 2" descr="http://www.gouldspumps.com/download_files/pump_fundamentals/sect_a8_fig05.gif"/>
          <p:cNvPicPr/>
          <p:nvPr/>
        </p:nvPicPr>
        <p:blipFill>
          <a:blip r:embed="rId1"/>
          <a:stretch/>
        </p:blipFill>
        <p:spPr>
          <a:xfrm>
            <a:off x="1415880" y="1916280"/>
            <a:ext cx="6210360" cy="3241440"/>
          </a:xfrm>
          <a:prstGeom prst="rect">
            <a:avLst/>
          </a:prstGeom>
          <a:ln w="0">
            <a:noFill/>
          </a:ln>
        </p:spPr>
      </p:pic>
      <p:sp>
        <p:nvSpPr>
          <p:cNvPr id="239" name="8 CuadroTexto"/>
          <p:cNvSpPr/>
          <p:nvPr/>
        </p:nvSpPr>
        <p:spPr>
          <a:xfrm>
            <a:off x="2068920" y="5373720"/>
            <a:ext cx="48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HEAD: Altura de Ele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B.H.P.: “</a:t>
            </a:r>
            <a:r>
              <a:rPr b="0" i="1" lang="es-CL" sz="1600" spc="-1" strike="noStrike">
                <a:solidFill>
                  <a:srgbClr val="000000"/>
                </a:solidFill>
                <a:latin typeface="Georgia"/>
              </a:rPr>
              <a:t>Break Horsepower</a:t>
            </a: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” Potencia Consu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EFF: Efi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Trebuchet MS"/>
              </a:rPr>
              <a:t>Coeficientes de Semejanza Dinámica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9520" y="1844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962600" y="2990880"/>
            <a:ext cx="1071360" cy="797040"/>
          </a:xfrm>
          <a:prstGeom prst="rect">
            <a:avLst/>
          </a:prstGeom>
          <a:ln w="0">
            <a:noFill/>
          </a:ln>
        </p:spPr>
      </p:pic>
      <p:sp>
        <p:nvSpPr>
          <p:cNvPr id="243" name="5 CuadroTexto"/>
          <p:cNvSpPr/>
          <p:nvPr/>
        </p:nvSpPr>
        <p:spPr>
          <a:xfrm>
            <a:off x="1945080" y="198288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Carg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Manomét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954440" y="32068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7 Rectángulo"/>
          <p:cNvSpPr/>
          <p:nvPr/>
        </p:nvSpPr>
        <p:spPr>
          <a:xfrm>
            <a:off x="2013120" y="443088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(Efectiva o Consum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4962600" y="4437000"/>
            <a:ext cx="1150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26:10Z</dcterms:created>
  <dc:creator>Pancho</dc:creator>
  <dc:description/>
  <dc:language>en-US</dc:language>
  <cp:lastModifiedBy>Pancho</cp:lastModifiedBy>
  <dcterms:modified xsi:type="dcterms:W3CDTF">2011-10-17T01:44:01Z</dcterms:modified>
  <cp:revision>17</cp:revision>
  <dc:subject/>
  <dc:title>Motobomba</dc:title>
</cp:coreProperties>
</file>