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56A-A8DF-4654-A32F-176E0836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7F3-9A28-4CB7-97BF-0A660B37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147-B45E-4990-B6F9-CF96C557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1FC-2B50-4724-B9FF-DFF6D121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8165-C008-4431-93A9-FB3CEC34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1632-6B2D-451C-9DE5-5214DB3F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21FC-4DF1-43FA-A6C4-60A57411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BF93-44C0-4856-B106-29DEE1A8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AD2A-DAED-4333-9451-E52118BD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2847-64C5-4D49-BD46-C61AA57B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05BB-971A-4C2D-8298-BD0D7DB2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982-7C44-475C-863B-C8483710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727B-949F-4CED-BBD4-EF6AB7A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B5CE-1F1F-4378-8BEC-6A66E9D0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EEDD-03C4-4959-8169-427BB8DD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7727-C1F1-4450-8D4D-889AC713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8B66-EE95-40A2-9A9B-45D2C25E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CB230-9A9D-48FB-9990-F31B01A8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AA827-FD74-455D-9B31-B619DB51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9F159-92C3-40C8-9F30-9F70DE67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1EA84-CEEE-474B-878E-E9346D92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C9E37-C3E4-4EB3-A680-F9ED214A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E2C-6084-4EBB-9C81-A1F45D50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FCFE9-54B2-46E7-96C5-6CA643CD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0C9F8-7777-4A91-8FCC-99B687C2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5C895-E162-4498-B7A3-3A14F64E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39D07-501D-4F2A-A39D-7C74F5D6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69EF3-387C-4012-B85A-29F07271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768EB-2273-4349-A588-4AFE2BF5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AE1A4-3496-4F62-A934-17B1F14C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594E9-0D0F-4B9B-A585-A2945946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4966D-093A-4E20-BABA-67BC3427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C05D-12A8-42F9-8122-AD084179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B57-A416-4E20-B206-AD80F6C0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90C47-4158-47E3-9F5A-3713E8F4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B359A-8F43-4C21-8EDA-0CAE000F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C251-47D1-4CDB-B4F2-00451929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17C3-3861-457C-9A39-DE68E779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BB037-309F-4CF7-9C1E-EEBDCC6F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C3F11-3B46-45FA-A445-1B2B8FFB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4E5E-B5EC-4A7D-AEDA-F5B53901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09DB-394D-49BE-BE69-14D95C27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A631-9687-4C99-94B2-D1A51BD2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1DC-AF9F-4FAB-9997-966CA479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9A0-F832-4976-920F-D518F8CA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C00-BC03-47B6-90CE-A75C6D47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71F-C18B-4645-83AE-5E0445E2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825-36B6-47D7-913E-5A200D26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2B84-D7DC-4EDF-BB51-56E2B7844BA0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0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1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2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3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79A6-B713-4B58-8052-4457D5B0071B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068E-9D1D-4A4A-9850-92E1DFDF3D0B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D310-4298-466D-8DE1-488CE7E6867B}" type="slidenum">
              <a:rPr b="0" lang="es-E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Motobomba</a:t>
            </a:r>
            <a:endParaRPr b="0" lang="en-US" sz="44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8258040" cy="25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Experiencia N°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Francisco Contreras 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4617b"/>
                </a:solidFill>
                <a:latin typeface="Georgia"/>
              </a:rPr>
              <a:t>11 /10/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3 Imagen" descr="Logo_FCFM.jpg"/>
          <p:cNvPicPr/>
          <p:nvPr/>
        </p:nvPicPr>
        <p:blipFill>
          <a:blip r:embed="rId1"/>
          <a:stretch/>
        </p:blipFill>
        <p:spPr>
          <a:xfrm>
            <a:off x="123840" y="227160"/>
            <a:ext cx="1447920" cy="928440"/>
          </a:xfrm>
          <a:prstGeom prst="rect">
            <a:avLst/>
          </a:prstGeom>
          <a:ln w="0">
            <a:noFill/>
          </a:ln>
        </p:spPr>
      </p:pic>
      <p:sp>
        <p:nvSpPr>
          <p:cNvPr id="217" name="4 CuadroTexto"/>
          <p:cNvSpPr/>
          <p:nvPr/>
        </p:nvSpPr>
        <p:spPr>
          <a:xfrm>
            <a:off x="1417680" y="142920"/>
            <a:ext cx="532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Facultad de Ciencias Físicas y Mate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Departamento de Ingeniería Química y Bio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eorgia"/>
              </a:rPr>
              <a:t>IQ4801 – Laboratorio de la Ingeniería Quím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Introduc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Operación fundamental en toda planta Quí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Función es entregar potencia a fluido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Tipos de Bomb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Desplazamiento Positivo: pistón, peristáltica, etc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Turbomáquinas: </a:t>
            </a:r>
            <a:r>
              <a:rPr b="1" lang="es-CL" sz="2200" spc="-1" strike="noStrike" u="sng">
                <a:solidFill>
                  <a:srgbClr val="009dd9"/>
                </a:solidFill>
                <a:uFillTx/>
                <a:latin typeface="Georgia"/>
              </a:rPr>
              <a:t>centrífugas</a:t>
            </a:r>
            <a:r>
              <a:rPr b="0" lang="es-CL" sz="2200" spc="-1" strike="noStrike">
                <a:solidFill>
                  <a:srgbClr val="009dd9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l funcionamiento se describe a través de sus curvas características entregadas por fabricant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Bomba Centrífug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357800" y="1857240"/>
            <a:ext cx="4357440" cy="3581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sapiensman.com/ESDictionary/imagenes/bomba%20centrifuga.jpg"/>
          <p:cNvPicPr/>
          <p:nvPr/>
        </p:nvPicPr>
        <p:blipFill>
          <a:blip r:embed="rId2"/>
          <a:stretch/>
        </p:blipFill>
        <p:spPr>
          <a:xfrm>
            <a:off x="571680" y="2000160"/>
            <a:ext cx="33573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antidade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Altura de Eleva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Potencia Efectiv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1828800" cy="866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91000" cy="4478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2" descr=""/>
          <p:cNvPicPr/>
          <p:nvPr/>
        </p:nvPicPr>
        <p:blipFill>
          <a:blip r:embed="rId3"/>
          <a:stretch/>
        </p:blipFill>
        <p:spPr>
          <a:xfrm>
            <a:off x="3851280" y="5300640"/>
            <a:ext cx="952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Objetivo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499760"/>
            <a:ext cx="81154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Determinar curvas característic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Altura de elevación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Pot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dd9"/>
                </a:solidFill>
                <a:latin typeface="Georgia"/>
              </a:rPr>
              <a:t>Eficiencia vs. Caudal.</a:t>
            </a:r>
            <a:endParaRPr b="0" lang="en-US" sz="24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Comparar resultados teóricos con experimental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eorgia"/>
              </a:rPr>
              <a:t>Encontrar curvas características de una bomba con distinta velocidad utilizando coeficientes de semejanza dinámic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Trebuchet MS"/>
              </a:rPr>
              <a:t>Curvas Característica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8" name="Picture 2" descr="http://www.gouldspumps.com/download_files/pump_fundamentals/sect_a8_fig05.gif"/>
          <p:cNvPicPr/>
          <p:nvPr/>
        </p:nvPicPr>
        <p:blipFill>
          <a:blip r:embed="rId1"/>
          <a:stretch/>
        </p:blipFill>
        <p:spPr>
          <a:xfrm>
            <a:off x="1415880" y="1916280"/>
            <a:ext cx="6210360" cy="3241440"/>
          </a:xfrm>
          <a:prstGeom prst="rect">
            <a:avLst/>
          </a:prstGeom>
          <a:ln w="0">
            <a:noFill/>
          </a:ln>
        </p:spPr>
      </p:pic>
      <p:sp>
        <p:nvSpPr>
          <p:cNvPr id="239" name="8 CuadroTexto"/>
          <p:cNvSpPr/>
          <p:nvPr/>
        </p:nvSpPr>
        <p:spPr>
          <a:xfrm>
            <a:off x="2068920" y="5373720"/>
            <a:ext cx="48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HEAD: Altura de Ele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B.H.P.: “</a:t>
            </a:r>
            <a:r>
              <a:rPr b="0" i="1" lang="es-CL" sz="1600" spc="-1" strike="noStrike">
                <a:solidFill>
                  <a:srgbClr val="000000"/>
                </a:solidFill>
                <a:latin typeface="Georgia"/>
              </a:rPr>
              <a:t>Break Horsepower</a:t>
            </a: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” Potencia Consum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Georgia"/>
              </a:rPr>
              <a:t>EFF: Efi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Trebuchet MS"/>
              </a:rPr>
              <a:t>Coeficientes de Semejanza Dinámica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889520" y="1844640"/>
            <a:ext cx="1266840" cy="857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962600" y="2990880"/>
            <a:ext cx="1071360" cy="797040"/>
          </a:xfrm>
          <a:prstGeom prst="rect">
            <a:avLst/>
          </a:prstGeom>
          <a:ln w="0">
            <a:noFill/>
          </a:ln>
        </p:spPr>
      </p:pic>
      <p:sp>
        <p:nvSpPr>
          <p:cNvPr id="243" name="5 CuadroTexto"/>
          <p:cNvSpPr/>
          <p:nvPr/>
        </p:nvSpPr>
        <p:spPr>
          <a:xfrm>
            <a:off x="1945080" y="1982880"/>
            <a:ext cx="25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Carg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Manométr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6 Rectángulo"/>
          <p:cNvSpPr/>
          <p:nvPr/>
        </p:nvSpPr>
        <p:spPr>
          <a:xfrm>
            <a:off x="1954440" y="320688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7 Rectángulo"/>
          <p:cNvSpPr/>
          <p:nvPr/>
        </p:nvSpPr>
        <p:spPr>
          <a:xfrm>
            <a:off x="2013120" y="4430880"/>
            <a:ext cx="27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Coeficiente de 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(Efectiva o Consum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3"/>
          <a:stretch/>
        </p:blipFill>
        <p:spPr>
          <a:xfrm>
            <a:off x="4962600" y="4437000"/>
            <a:ext cx="11509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21:26:10Z</dcterms:created>
  <dc:creator>Pancho</dc:creator>
  <dc:description/>
  <dc:language>en-US</dc:language>
  <cp:lastModifiedBy>Pancho</cp:lastModifiedBy>
  <dcterms:modified xsi:type="dcterms:W3CDTF">2011-10-17T01:44:01Z</dcterms:modified>
  <cp:revision>17</cp:revision>
  <dc:subject/>
  <dc:title>Motobomba</dc:title>
</cp:coreProperties>
</file>