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EAE4-0D2F-4163-A719-4125A974BC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9760" y="695160"/>
            <a:ext cx="4578480" cy="3434040"/>
          </a:xfrm>
          <a:prstGeom prst="rect">
            <a:avLst/>
          </a:prstGeom>
          <a:ln w="0">
            <a:noFill/>
          </a:ln>
        </p:spPr>
      </p:sp>
      <p:sp>
        <p:nvSpPr>
          <p:cNvPr id="156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390D91-DEEA-4187-9D79-FB2D757C34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2CE49D-C306-437B-92B3-ED20B570B9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C136ED-CAF6-4E3E-9023-955DE0CA2D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4B4692-8091-446D-B93A-77811E8246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D89EB6-0E2E-45F0-A6AF-CA93286A56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086A9E-8C5D-4DA3-83DD-E85132D273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655979-AEB9-4079-8E3D-4A6616F822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F6886E-DCEC-4BC3-B851-521F941265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2B9829-A461-4597-B4FC-9E614CB79D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7C14F6-E7F4-4D1D-87EF-39EA23C8DD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F8A2CC-BFCF-45CC-AC0B-C9F7E8771D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A79606-68DA-4762-8667-24D60DEFE7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DAD7-2251-4F24-8A2A-F2DF5F287E9B}"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261DC1BF-5FAF-4A9F-9295-69CD213D6D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1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6"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35" name=""/>
          <p:cNvGrpSpPr/>
          <p:nvPr/>
        </p:nvGrpSpPr>
        <p:grpSpPr>
          <a:xfrm>
            <a:off x="0" y="1371600"/>
            <a:ext cx="990720" cy="3279240"/>
            <a:chOff x="0" y="1371600"/>
            <a:chExt cx="990720" cy="3279240"/>
          </a:xfrm>
        </p:grpSpPr>
        <p:sp>
          <p:nvSpPr>
            <p:cNvPr id="63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5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5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7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7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7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7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8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8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1"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9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9A2EF2C-646E-4FC0-A1DC-23A9DE7D4A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9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0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0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0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19" name=""/>
          <p:cNvGrpSpPr/>
          <p:nvPr/>
        </p:nvGrpSpPr>
        <p:grpSpPr>
          <a:xfrm>
            <a:off x="0" y="1371600"/>
            <a:ext cx="990720" cy="3279240"/>
            <a:chOff x="0" y="1371600"/>
            <a:chExt cx="990720" cy="3279240"/>
          </a:xfrm>
        </p:grpSpPr>
        <p:sp>
          <p:nvSpPr>
            <p:cNvPr id="72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3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34"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3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5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5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5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75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6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8"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3"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76"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79"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780"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A6B61B8-9632-4B7E-8852-C5197877CB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9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06" name=""/>
          <p:cNvGrpSpPr/>
          <p:nvPr/>
        </p:nvGrpSpPr>
        <p:grpSpPr>
          <a:xfrm>
            <a:off x="0" y="1371600"/>
            <a:ext cx="990720" cy="3279240"/>
            <a:chOff x="0" y="1371600"/>
            <a:chExt cx="990720" cy="3279240"/>
          </a:xfrm>
        </p:grpSpPr>
        <p:sp>
          <p:nvSpPr>
            <p:cNvPr id="8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2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2"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2"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6"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4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4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4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84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51"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8"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6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3F1128C-C07B-426A-B2EF-454D04F76D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7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8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8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8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95" name=""/>
          <p:cNvGrpSpPr/>
          <p:nvPr/>
        </p:nvGrpSpPr>
        <p:grpSpPr>
          <a:xfrm>
            <a:off x="0" y="1371600"/>
            <a:ext cx="990720" cy="3279240"/>
            <a:chOff x="0" y="1371600"/>
            <a:chExt cx="990720" cy="3279240"/>
          </a:xfrm>
        </p:grpSpPr>
        <p:sp>
          <p:nvSpPr>
            <p:cNvPr id="89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9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0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1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1"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1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3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3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3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4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3"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4"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8"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7"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61" name=""/>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962"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33C0BBB-DCD0-4539-B54E-04F258F197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6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5"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7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7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7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7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87" name=""/>
          <p:cNvGrpSpPr/>
          <p:nvPr/>
        </p:nvGrpSpPr>
        <p:grpSpPr>
          <a:xfrm>
            <a:off x="0" y="1371600"/>
            <a:ext cx="990720" cy="3279240"/>
            <a:chOff x="0" y="1371600"/>
            <a:chExt cx="990720" cy="3279240"/>
          </a:xfrm>
        </p:grpSpPr>
        <p:sp>
          <p:nvSpPr>
            <p:cNvPr id="98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0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02"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3"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05"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0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7"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22"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23"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2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2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2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1"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32"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7"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5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54"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6" name=""/>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AA37C8E-6C4F-4707-9B83-00FB903212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81" name=""/>
          <p:cNvGrpSpPr/>
          <p:nvPr/>
        </p:nvGrpSpPr>
        <p:grpSpPr>
          <a:xfrm>
            <a:off x="0" y="1371600"/>
            <a:ext cx="990720" cy="3279240"/>
            <a:chOff x="0" y="1371600"/>
            <a:chExt cx="990720" cy="3279240"/>
          </a:xfrm>
        </p:grpSpPr>
        <p:sp>
          <p:nvSpPr>
            <p:cNvPr id="108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9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9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99"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9"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4"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7"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44"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6"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8" name=""/>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9"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0"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15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5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BE260DF-195D-4606-B5F2-BD3BD09D55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80" name=""/>
          <p:cNvGrpSpPr/>
          <p:nvPr/>
        </p:nvGrpSpPr>
        <p:grpSpPr>
          <a:xfrm>
            <a:off x="0" y="1371600"/>
            <a:ext cx="990720" cy="3279240"/>
            <a:chOff x="0" y="1371600"/>
            <a:chExt cx="990720" cy="3279240"/>
          </a:xfrm>
        </p:grpSpPr>
        <p:sp>
          <p:nvSpPr>
            <p:cNvPr id="11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9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0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0"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1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16"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1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8"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1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2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7"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43"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54"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255"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B73898C-0F6A-4721-9744-DF754B06F5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80" name=""/>
          <p:cNvGrpSpPr/>
          <p:nvPr/>
        </p:nvGrpSpPr>
        <p:grpSpPr>
          <a:xfrm>
            <a:off x="0" y="1371600"/>
            <a:ext cx="990720" cy="3279240"/>
            <a:chOff x="0" y="1371600"/>
            <a:chExt cx="990720" cy="3279240"/>
          </a:xfrm>
        </p:grpSpPr>
        <p:sp>
          <p:nvSpPr>
            <p:cNvPr id="12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9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1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1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1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1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2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7"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42"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4"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5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2"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E3FFBE8-4C1C-474D-9B21-EF2E8CFEE9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5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7"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0"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1"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2"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6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79" name=""/>
          <p:cNvGrpSpPr/>
          <p:nvPr/>
        </p:nvGrpSpPr>
        <p:grpSpPr>
          <a:xfrm>
            <a:off x="0" y="1371600"/>
            <a:ext cx="990720" cy="3279240"/>
            <a:chOff x="0" y="1371600"/>
            <a:chExt cx="990720" cy="3279240"/>
          </a:xfrm>
        </p:grpSpPr>
        <p:sp>
          <p:nvSpPr>
            <p:cNvPr id="13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94"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9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4"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6"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13"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14"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1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17"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2"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23"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7"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41"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3"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4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3"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56"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57"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D97C141-428F-4F4E-AF00-ACF9A106DE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5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0"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3"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7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7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7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7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8"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
          <p:cNvSpPr/>
          <p:nvPr/>
        </p:nvSpPr>
        <p:spPr>
          <a:xfrm>
            <a:off x="228600" y="51055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482" name=""/>
          <p:cNvGrpSpPr/>
          <p:nvPr/>
        </p:nvGrpSpPr>
        <p:grpSpPr>
          <a:xfrm>
            <a:off x="0" y="1371600"/>
            <a:ext cx="990720" cy="3279240"/>
            <a:chOff x="0" y="1371600"/>
            <a:chExt cx="990720" cy="3279240"/>
          </a:xfrm>
        </p:grpSpPr>
        <p:sp>
          <p:nvSpPr>
            <p:cNvPr id="148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8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9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9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8"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a:off x="228600" y="60199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paths from nodes 2 and 5 to t, and there are ways to speed up the last iterations.</a:t>
            </a:r>
            <a:endParaRPr b="0" lang="en-US" sz="2400" spc="-1" strike="noStrike">
              <a:solidFill>
                <a:srgbClr val="000066"/>
              </a:solidFill>
              <a:latin typeface="Times New Roman"/>
            </a:endParaRPr>
          </a:p>
        </p:txBody>
      </p:sp>
      <p:sp>
        <p:nvSpPr>
          <p:cNvPr id="15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43"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7"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58"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59"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AF558E7-367D-4105-AC1A-1223A5F845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73B658B-ED15-4F63-9985-B1DC417381F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36EED24-8A5D-4BC3-A4CA-0448D6B955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C527C51E-9701-4407-8535-B36820D7AF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9"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3"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4"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28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28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28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28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0E901A7-B338-464E-913E-780112C851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28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0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0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0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0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1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6" name=""/>
          <p:cNvGrpSpPr/>
          <p:nvPr/>
        </p:nvGrpSpPr>
        <p:grpSpPr>
          <a:xfrm>
            <a:off x="0" y="1371600"/>
            <a:ext cx="990720" cy="3279240"/>
            <a:chOff x="0" y="1371600"/>
            <a:chExt cx="990720" cy="3279240"/>
          </a:xfrm>
        </p:grpSpPr>
        <p:sp>
          <p:nvSpPr>
            <p:cNvPr id="31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1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3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3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3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6"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3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5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59"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6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362"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63" name=""/>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D197849-04F3-4F0A-8523-76B789C121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6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7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8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8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8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8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8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9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94" name=""/>
          <p:cNvGrpSpPr/>
          <p:nvPr/>
        </p:nvGrpSpPr>
        <p:grpSpPr>
          <a:xfrm>
            <a:off x="0" y="1371600"/>
            <a:ext cx="990720" cy="3279240"/>
            <a:chOff x="0" y="1371600"/>
            <a:chExt cx="990720" cy="3279240"/>
          </a:xfrm>
        </p:grpSpPr>
        <p:sp>
          <p:nvSpPr>
            <p:cNvPr id="3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13"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2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3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3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3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228600" y="57913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38"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42" name=""/>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4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F243746-85BD-48B1-861E-A26C34205D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4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6"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5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69"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70" name=""/>
          <p:cNvGrpSpPr/>
          <p:nvPr/>
        </p:nvGrpSpPr>
        <p:grpSpPr>
          <a:xfrm>
            <a:off x="0" y="1371600"/>
            <a:ext cx="990720" cy="3279240"/>
            <a:chOff x="0" y="1371600"/>
            <a:chExt cx="990720" cy="3279240"/>
          </a:xfrm>
        </p:grpSpPr>
        <p:sp>
          <p:nvSpPr>
            <p:cNvPr id="4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85"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8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9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0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0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0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1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4"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5"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1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1" name=""/>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9AE1F9A-D62F-4ABD-AF1B-86AB5ACA98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2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5"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3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548" name=""/>
          <p:cNvGrpSpPr/>
          <p:nvPr/>
        </p:nvGrpSpPr>
        <p:grpSpPr>
          <a:xfrm>
            <a:off x="0" y="1371600"/>
            <a:ext cx="990720" cy="3279240"/>
            <a:chOff x="0" y="1371600"/>
            <a:chExt cx="990720" cy="3279240"/>
          </a:xfrm>
        </p:grpSpPr>
        <p:sp>
          <p:nvSpPr>
            <p:cNvPr id="54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6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6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66"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8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8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8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8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9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7"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598" name=""/>
          <p:cNvGrpSpPr/>
          <p:nvPr/>
        </p:nvGrpSpPr>
        <p:grpSpPr>
          <a:xfrm>
            <a:off x="4114800" y="838080"/>
            <a:ext cx="2590920" cy="459720"/>
            <a:chOff x="4114800" y="838080"/>
            <a:chExt cx="2590920" cy="459720"/>
          </a:xfrm>
        </p:grpSpPr>
        <p:sp>
          <p:nvSpPr>
            <p:cNvPr id="599"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00"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01"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4C2C285-2CF7-4A34-B57C-4B53C1E325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19T13:27:43Z</dcterms:modified>
  <cp:revision>30</cp:revision>
  <dc:subject/>
  <dc:title>15.082        Spring 1998</dc:title>
</cp:coreProperties>
</file>