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DA06-0215-48FF-8E0A-7B81E057E79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ABB1-E2CC-4DBD-A31B-BA8C126C09F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1F2-5D85-4241-ABB7-6245EE9F7B8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37B8-B746-49D9-82CA-EFB2F0F2404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604A-C00E-4C10-92E9-0AFC3E9326D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299E-2783-43E8-947D-F1A64482B57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DA42-BDC6-4882-807A-51CA007158C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6791-9E8B-4212-AB3F-56E655C5248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613332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7115-3059-45F6-93AA-7399B1DC00E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8AF9-2CC0-4733-9018-2BE44AF68CB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C36D-6913-46AF-891B-4EDEE0C0601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47C-44DE-4AF1-A7A3-DFA95AAEE6F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2C4E-A358-4F6A-A7D9-6473515A56B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F8B4-B1A6-4CAA-85C1-8FDEDC5A370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596D-C120-4B5F-8158-638CB15F203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BB4F-59DE-42B8-BC94-BA88A827F76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BE4F-CD5F-4442-BC38-E05620756AA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BCB-4D6A-4ADE-882B-191DB513CDF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0349-012E-4BF8-8197-B04D2F89CD6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F5C6-CD8D-4A6F-9AA5-624395CFB93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CF9-5465-4F6F-B4AB-EACA7B5FAF2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6A2-1104-4582-AE57-EF5337A71F5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E8EF-5F5F-4799-880A-A45C5D1469D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8B17-4BC7-40FA-8477-C2A7812AD23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ADF1-F3E7-475A-9C35-F89687B107B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EBC9-24B8-41B0-82FE-BBDB27121F5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7450-C69A-49AA-9B06-47807798F06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3920-5301-4E4D-A1C1-3E13B9A28D1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467-9987-455D-A497-01290C4C599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F210-645B-41B1-AF5F-84D2539BABB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A43-EBDF-426B-AA26-C2A4E4A3F71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36ED-B1BC-456C-8267-2BAE882CD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1304-57DA-4BEB-987D-690FA2140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2D74-D1F9-4427-9ED5-44AF9F2A1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92CC-F6AF-4A51-8C00-831981495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BF497-6539-476E-9642-46CE75D72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CDBF-8FDC-4E24-849F-CC80C716F1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48B0-E411-497D-A9A5-F86353A870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574C3-FA16-4698-8CF0-560E712370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167C-1DA2-496A-96A7-DFA0D4F2BF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1258-DE3D-4385-8695-DB056AE8DB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3687-4D16-4656-B137-7B3BAAB03B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7764-9241-4503-900D-6DC24521D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A978-05D4-43E7-BC09-3ABF57A1C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C749-8E3C-438F-AA38-F85870154F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7190-0967-40A2-966B-0AF666D70A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7067-C73A-422B-80BA-47ECCBFE86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FE86-22A4-482C-BA28-A2B795734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9111-CC44-4A0A-97AE-02B1869B5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0065-77A2-4DBB-9197-72A1D2550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A67A-EA20-4403-A5D0-8DC73BB97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677B-7A4A-4921-9DEA-C74E0680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628F-2382-4A40-9134-281C50C23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EE83-93B5-49CA-AFDB-777304BA5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EC00-E784-4383-9DA2-90111BC21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D6A2-8D03-44BB-85B0-1612F96AF4D9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8B9D-2520-4462-97B7-1BFFB3A85D49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7E2-E223-43A5-B8A8-42F9AE93283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3007-7381-4572-AA43-3E9DEBD9A7D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1CC-CDE0-4979-8F52-97AD8D3145F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284" name="Text Box 11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AutoShape 18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6E4C-FCA8-4BFF-AE7B-245AACB044E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8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8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0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7DCE-0B50-4EA5-9434-736CAAF115B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5" name="Group 65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56" name="AutoShape 4"/>
            <p:cNvSpPr/>
            <p:nvPr/>
          </p:nvSpPr>
          <p:spPr>
            <a:xfrm>
              <a:off x="457200" y="16002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0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2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3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5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6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9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05" name="Line 57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Freeform 60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1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2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4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D40-8773-4CA6-B5EB-39FED6E391F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15" name="Rectangle 4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9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1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3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5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4122-70AC-4B01-8E49-E51268F0E26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3544-9BA6-4224-968E-D66A2990988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8F1C-9C35-4AF1-8A9D-6B674C391F6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D7AF-96D8-47F7-8A53-7A1ED82D6B1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>
            <a:stCxn id="482" idx="0"/>
            <a:endCxn id="480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1"/>
          <p:cNvCxnSpPr>
            <a:stCxn id="482" idx="2"/>
            <a:endCxn id="485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2"/>
          <p:cNvCxnSpPr>
            <a:stCxn id="485" idx="0"/>
            <a:endCxn id="482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3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489" name="Rectangle 14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4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5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6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AutoShape 27"/>
            <p:cNvCxnSpPr>
              <a:stCxn id="493" idx="3"/>
              <a:endCxn id="494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8"/>
            <p:cNvCxnSpPr>
              <a:stCxn id="494" idx="3"/>
              <a:endCxn id="495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9"/>
            <p:cNvCxnSpPr>
              <a:stCxn id="498" idx="3"/>
              <a:endCxn id="500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0"/>
            <p:cNvCxnSpPr>
              <a:stCxn id="506" idx="2"/>
              <a:endCxn id="501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31"/>
            <p:cNvCxnSpPr>
              <a:stCxn id="498" idx="1"/>
              <a:endCxn id="499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Rectangle 32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AutoShape 33"/>
            <p:cNvCxnSpPr>
              <a:stCxn id="495" idx="1"/>
              <a:endCxn id="498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0" name="Text Box 34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35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36"/>
            <p:cNvCxnSpPr>
              <a:stCxn id="500" idx="3"/>
              <a:endCxn id="506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AutoShape 37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40"/>
            <p:cNvCxnSpPr>
              <a:endCxn id="506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41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21" name="Rectangle 46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4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5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7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8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59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0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1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2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3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4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5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6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7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8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9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1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2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3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4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5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6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7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8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9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0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1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2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4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5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6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7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8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9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0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1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2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3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4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5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6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97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8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1E9B-2451-4C99-B087-5B44DF04C53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9"/>
          <p:cNvCxnSpPr>
            <a:stCxn id="579" idx="2"/>
            <a:endCxn id="580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10"/>
          <p:cNvCxnSpPr>
            <a:stCxn id="580" idx="0"/>
            <a:endCxn id="579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Rectangle 11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3"/>
          <p:cNvCxnSpPr>
            <a:stCxn id="580" idx="2"/>
            <a:endCxn id="583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AutoShape 14"/>
          <p:cNvCxnSpPr>
            <a:stCxn id="583" idx="2"/>
            <a:endCxn id="584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AutoShape 15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6EF-938C-4710-9170-13C50690CCC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893C-A8AA-443E-B3B1-518EF3C8FB1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F66-CC53-4163-816C-C5B845AA74F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D164-4EEB-45A6-B1E9-B94D635CE31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6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04" name="Oval 7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5" name="Object 8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9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9" name="Line 10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2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12" name="Line 13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9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0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1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2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33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33" name="Oval 34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4" name="Object 35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5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CE58-2DAC-4147-A3FE-3F2BC9B6215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6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8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9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10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1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12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14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6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8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5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9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7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Line 20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2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Line 23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8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9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0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1" name="Object 3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1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3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2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5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3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7" name="Object 33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BBB-C976-4034-AE76-420B4F08022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9154-FFA8-4ABE-8A5B-CC275D17F8C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9"/>
          <p:cNvCxnSpPr>
            <a:stCxn id="694" idx="2"/>
            <a:endCxn id="695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0"/>
          <p:cNvCxnSpPr>
            <a:stCxn id="695" idx="0"/>
            <a:endCxn id="694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Rectangle 11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12"/>
          <p:cNvCxnSpPr>
            <a:stCxn id="695" idx="2"/>
            <a:endCxn id="698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3"/>
          <p:cNvCxnSpPr>
            <a:stCxn id="698" idx="0"/>
            <a:endCxn id="695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AutoShape 1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2725-BF1F-4B96-BBDC-A4F0C799DAA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6F5-1CB9-414B-AF0F-C2495719476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Object 2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3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99B1-B542-4664-87F9-FD82161C7D9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Line 3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7A5-4807-4331-AF86-33C4DDD7051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7B49-DDC2-45B4-9FBF-79A0D400205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B5C-0AA9-40D1-8C55-8A288612480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2634-8F32-4A67-B180-B970100EEDD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58B3-3886-46DA-B082-803444D04A5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C33-E487-4597-A449-8E16834B42F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05CA-9FF1-4FE3-A53C-71E416E51F0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87C0-09F9-413F-88AC-6A07CC9A881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Camila  Barillas</cp:lastModifiedBy>
  <cp:lastPrinted>2002-12-20T00:24:57Z</cp:lastPrinted>
  <dcterms:modified xsi:type="dcterms:W3CDTF">2011-11-04T15:42:32Z</dcterms:modified>
  <cp:revision>1035</cp:revision>
  <dc:subject>versión 9 de Abril de 2004</dc:subject>
  <dc:title>Material BID OACOS</dc:title>
</cp:coreProperties>
</file>