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686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256-4F09-4C3F-9680-F7B3C4C1269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469-3A0C-450C-A0AB-D425C0C0E14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DA50-C25E-4D0E-AA05-68B32424752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32C5-D0A3-433A-B6D6-B9FDB11D950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7145-D320-459D-9EE7-ACC82E1BD2C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611-23EF-4FAF-97A3-3F359D8A194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09B4-6F95-408A-8DD1-6595C444D2C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44BF-09E9-4D54-A411-AC8507F2726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613332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7C8-56BA-420D-9341-E9BA091AED5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FB4-F6DA-4C9E-A67B-32B0B93FD24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DABC-B181-4273-AF7E-B808F9A26F3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F01-B7D3-4B26-9376-D798918CBCF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3A9-DC5D-4F04-8EB7-50B86BCB3214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E837-F905-4FFE-A279-47095E920C5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FC20-49BB-401F-AF98-B8E9C6D8D46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BA56-3A4E-4771-BEBD-9D50AF4F03B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C5F-24A5-4C7F-B8B9-9AB75931524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607C-65E0-41BE-BFDB-8D4655EFAEB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D99E-834D-491F-BF7B-7FA16319C7E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6976-0D5B-4330-92A9-30DC2451ED9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337-3713-494B-B141-E511C21F873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2D2-C8E0-4D3F-BB7F-059FDBF1194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F6BC-828A-4214-9520-1B9F7B7D6E0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0E4C-3079-43B0-84F8-B7121AEE3EA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141-04DD-428C-97D3-A549DF2EC32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E3A-D6F5-4241-80E4-4A79483BE40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34CA-C571-489A-AA8A-F926D33B1D0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C59F-89C3-423F-B26B-8BD320EEF88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589-8590-45A7-881F-0CFC7AED8E8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DC5A-A5B4-4D37-B1EE-2649DAC632F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B684-E49C-4890-960C-BFB3C85A6CB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AB50-9A31-4146-9ADA-2AF30BB9D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7E13-3459-47B6-8F52-4029B8674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E920-3A42-4603-A3B9-B81307810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2686-DAAE-4013-8E86-D05A0ED9B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D807-DD3D-4911-B3BC-CD9742791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877E-EF79-48A0-A5BF-011F462DA0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A3B5-0E23-46DD-9AE4-A4CDEF7135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D4A6-D043-4992-8ACA-1C49EFE7C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680D-9E7D-44FF-B52C-CC30E8E2C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864E-169B-47AF-91B4-2951527F3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C6CD-AA63-4684-A942-2BE9B31C8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39A8-F8CB-4153-818E-B24AC004D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4399-AEC8-43F7-B015-BE418138F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DDCC-F015-4F66-B3C0-518C35C567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9471-9BDC-418A-8BA8-A1B92198D6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F6BD-C627-43BC-8C57-6F78B6EF10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7C6C-38AF-47CF-AB03-05264A0B5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48C2-D264-463D-913F-C222105C6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55C5-0FEC-4830-8753-3320C5F5D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617C-A7A1-44E9-827D-AAD263FC3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8B7F-890B-47A1-A710-B3B3C4209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C236-3671-44C2-A773-F322B0FBA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5A57-BB41-4CCB-A4C9-83D341E1D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CC4B-B892-4FC3-91C9-4F0806AAB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F0E-6698-4966-A91D-BB3FD82198B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E858-D0C6-4A40-8DE2-3C8487E02F1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E72-C4E6-47B6-893B-9E53A5C1E3F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55E0-3C63-4590-A1FC-91AA6DF600C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518-F5D7-43E5-B6B5-B8A6EEAD810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284" name="Text Box 11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AutoShape 18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E7AF-0D00-417B-AB73-CCF9C628B4C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2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3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8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8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0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0AA-64C6-481D-8A21-F0B65247A97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5" name="Group 65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56" name="AutoShape 4"/>
            <p:cNvSpPr/>
            <p:nvPr/>
          </p:nvSpPr>
          <p:spPr>
            <a:xfrm>
              <a:off x="457200" y="16002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1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8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8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2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3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9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0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1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2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3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4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5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7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0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2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3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4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5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6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59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05" name="Line 57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8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Freeform 60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1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2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4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80B-83F8-4D96-BE29-A872E75526F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15" name="Rectangle 4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9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8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9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0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4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0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1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3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6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7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9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1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2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53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5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345A-2BCB-4A58-8AC8-C6C972DDED5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C675-BA5D-4081-928D-D30EE046E759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1DD-C335-4C33-8E1D-A04B69E8BD5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DA6-0128-47F1-AE22-69E6B9EB9F9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6"/>
          <p:cNvCxnSpPr>
            <a:stCxn id="482" idx="0"/>
            <a:endCxn id="480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7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1"/>
          <p:cNvCxnSpPr>
            <a:stCxn id="482" idx="2"/>
            <a:endCxn id="485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2"/>
          <p:cNvCxnSpPr>
            <a:stCxn id="485" idx="0"/>
            <a:endCxn id="482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3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489" name="Rectangle 14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5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3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4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5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6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2" name="AutoShape 27"/>
            <p:cNvCxnSpPr>
              <a:stCxn id="493" idx="3"/>
              <a:endCxn id="494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8"/>
            <p:cNvCxnSpPr>
              <a:stCxn id="494" idx="3"/>
              <a:endCxn id="495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9"/>
            <p:cNvCxnSpPr>
              <a:stCxn id="498" idx="3"/>
              <a:endCxn id="500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30"/>
            <p:cNvCxnSpPr>
              <a:stCxn id="506" idx="2"/>
              <a:endCxn id="501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31"/>
            <p:cNvCxnSpPr>
              <a:stCxn id="498" idx="1"/>
              <a:endCxn id="499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8" name="Rectangle 32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AutoShape 33"/>
            <p:cNvCxnSpPr>
              <a:stCxn id="495" idx="1"/>
              <a:endCxn id="498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0" name="Text Box 34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35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36"/>
            <p:cNvCxnSpPr>
              <a:stCxn id="500" idx="3"/>
              <a:endCxn id="506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AutoShape 37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AutoShape 40"/>
            <p:cNvCxnSpPr>
              <a:endCxn id="506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" name="Text Box 41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3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AutoShape 4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5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21" name="Rectangle 46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4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55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7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8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59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0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1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2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3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4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5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6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7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68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9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1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2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73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4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5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6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7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78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9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0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1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2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3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4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5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6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7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8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89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0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1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2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3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4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5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96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97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98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99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0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1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082-9351-4E0D-917E-F5EE7BA3486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AutoShape 9"/>
          <p:cNvCxnSpPr>
            <a:stCxn id="579" idx="2"/>
            <a:endCxn id="580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AutoShape 10"/>
          <p:cNvCxnSpPr>
            <a:stCxn id="580" idx="0"/>
            <a:endCxn id="579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Rectangle 11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3"/>
          <p:cNvCxnSpPr>
            <a:stCxn id="580" idx="2"/>
            <a:endCxn id="583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AutoShape 14"/>
          <p:cNvCxnSpPr>
            <a:stCxn id="583" idx="2"/>
            <a:endCxn id="584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AutoShape 15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BDB6-1BE0-435D-840D-43DCC4ED2CA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56FF-9ADA-4753-AFD7-F33F1E86D9B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DF5D-7C83-4D80-8A17-B7C33E11BB3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3692-61F8-4A66-8C52-E0A42AFD25F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6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04" name="Oval 7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5" name="Object 8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9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9" name="Line 10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2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12" name="Line 13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8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9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0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31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2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33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33" name="Oval 34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4" name="Object 35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5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77F3-C42F-466B-9CA4-516BE71092C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6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8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9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10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1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12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14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6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8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5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19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7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Line 20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1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2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Line 23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4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5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7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8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29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0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1" name="Object 3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1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3" name="Object 31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2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5" name="Object 3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3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7" name="Object 33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4C0-8384-4CFB-B6E9-687EF801951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A45F-C161-4EEB-B95F-C12DDBFA36D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AutoShape 9"/>
          <p:cNvCxnSpPr>
            <a:stCxn id="694" idx="2"/>
            <a:endCxn id="695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AutoShape 10"/>
          <p:cNvCxnSpPr>
            <a:stCxn id="695" idx="0"/>
            <a:endCxn id="694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Rectangle 11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AutoShape 12"/>
          <p:cNvCxnSpPr>
            <a:stCxn id="695" idx="2"/>
            <a:endCxn id="698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3"/>
          <p:cNvCxnSpPr>
            <a:stCxn id="698" idx="0"/>
            <a:endCxn id="695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AutoShape 1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3547-62AC-44FB-B888-323F77F102D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D181-E1C0-4BB2-BA67-97260224BA2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Object 2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3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D5F-5B2C-44BC-93D9-FD25B8708979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12" name="Line 3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EE3C-38B7-447E-AD62-5F3CCEB2A8F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9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0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4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5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6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7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8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9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5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6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7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8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9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1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2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3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4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5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381-ADDF-4C75-87CB-002460D1B65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8DBC-72A2-4C12-96E0-2435CBA994B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-243000"/>
            <a:ext cx="829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0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5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2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3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4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1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2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3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4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5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7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8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2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4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D20-9513-4BAB-9467-58B6F478434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400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2" descr=""/>
          <p:cNvPicPr/>
          <p:nvPr/>
        </p:nvPicPr>
        <p:blipFill>
          <a:blip r:embed="rId1"/>
          <a:stretch/>
        </p:blipFill>
        <p:spPr>
          <a:xfrm>
            <a:off x="112680" y="1147680"/>
            <a:ext cx="891864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2D35-BC8A-4368-8D7B-2A2F95DCD0B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D6E2-A51E-4C9D-9DBE-D13A0AD5330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416-6595-43D2-BFE1-80D90E5B4D7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E850-4196-45A7-A221-5885EC6EBE2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Camila  Barillas</cp:lastModifiedBy>
  <cp:lastPrinted>2002-12-20T00:24:57Z</cp:lastPrinted>
  <dcterms:modified xsi:type="dcterms:W3CDTF">2011-11-04T15:42:32Z</dcterms:modified>
  <cp:revision>1035</cp:revision>
  <dc:subject>versión 9 de Abril de 2004</dc:subject>
  <dc:title>Material BID OACOS</dc:title>
</cp:coreProperties>
</file>