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8686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7802-66EA-4D96-A0AC-A98FA609037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61E8-82DF-4B2D-B683-852E41D763B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374-0659-4ADF-9A79-200444FCE68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95F0-9DF4-45C5-AEF2-88F6DD39A71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0A8A-6418-4F25-8FF8-BFE52AF036C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1D80-45A1-4F3E-858C-61719DDD046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A02F-AE36-4C7F-A1E9-46025F2DC92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8B53-D1A5-4726-B00B-7AD3D5F0BDC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613332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E7C4-53AD-4547-B0E6-DBC1A4A94BA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8B19-CE12-4560-AD4C-087D9F2CF7E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FD10-03ED-4D5A-BE3B-37E81902319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8D68-7D66-4F5E-B5DC-229FAD6442A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64F-CFD9-4DAA-8AD9-0842BA54965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C77B-5007-405F-860A-A6AF68AD581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9C9E-A029-478D-B0C7-F5062BDE64E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7F3-540F-4557-8CD9-2B4AB730156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285-5BD5-4D40-91E5-8EA488E423F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6592-5761-48A3-8311-BFAD1470DCA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9207-5CEF-4EA2-B0B2-A23184A4840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966-1201-427F-A482-225D58145CD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688-3656-4D61-83EB-7C1EBE4E029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BF3A-306D-48AA-B113-74B7405471B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02C-6683-40E8-AD79-750B0D3844F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C6CC-2FEA-4229-B937-B97195DBC3D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9B6E-F967-4B10-9A70-F0A5CD3FD31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7565-24AE-46F8-BB76-CADEAD208ED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5705-B35E-4867-A4F3-88671975E1B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1D59-D349-4D6A-B997-CD8D8D1EA5C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202-A2A1-435F-A355-43069B802F7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221D-64BF-49F8-B37B-C6060E8BDC6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C441-45AD-4D08-B3B6-B103E4EA2E7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37F8-8AF7-488A-9624-F59451C10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B026-6AEB-4097-ACC7-5A8DDAB14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A57D-9E76-4AC5-AF72-69CE94BC4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8CFE-37D5-46E2-A32F-0D16E239D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056D-1EF8-4A4D-932F-4D0CBDF20A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43B3-6C7C-4A94-8251-122198F59C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4D2F-80D8-4F86-8800-9CB793B837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C70A-A6AD-4B0F-9E14-ECC97B845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7DD7-9C99-43C1-BA58-9C85E7AFF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EFF0-0253-43CE-A0EC-34A3FF8D43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9537-6130-446C-B446-1F1D03866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D20F-C567-492B-86AF-60C346BED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A467-B18E-45B4-B746-E2809E1464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1BC3-784F-42B7-9B00-ECC8AE05B6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0366-1133-4D46-9F3A-F70646F957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4F06-299B-4225-86BD-2250437518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71A7-34E6-423A-93D6-B471C6751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CC09-577E-404C-9701-C0EA62653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3305-085E-44E1-911C-DBC35559C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14BA-2DC5-418F-9B6B-E7BA60C5C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15E7-16F8-46B3-AC13-E52DD73AA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2A18-F799-4D96-B518-428EB446E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B8D8-94D9-4D2E-9916-06A59BDFB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EB03-98A9-43D2-AF27-7E91D0FF1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2DEE-6C1A-44C1-81FB-E9DC5B18D75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EB38-1E39-4D4E-AB2F-B4FCEBDA6C3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5F70-6EED-4068-946A-7DEAE5B1161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4CCE-3C90-4997-B27B-C5346E6C3C2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A67E-1198-48F1-895B-8911E2AE4DC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284" name="Text Box 11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AutoShape 18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24E1-7906-451C-8EE9-D1BCEEABFA8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0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2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6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3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5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7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8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0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1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3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5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6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7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8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9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0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1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A35D-4CBD-4E3C-B6F8-52ED929E45B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5" name="Group 65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56" name="AutoShape 4"/>
            <p:cNvSpPr/>
            <p:nvPr/>
          </p:nvSpPr>
          <p:spPr>
            <a:xfrm>
              <a:off x="457200" y="16002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9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1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8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9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7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8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9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2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3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6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9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0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1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2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3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4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5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7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8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0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1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2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3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4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5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56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59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05" name="Line 57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8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Freeform 60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1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2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4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53D-06DB-4AE8-948D-3645D042E9A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15" name="Rectangle 4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7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9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7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8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9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0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4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0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41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3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44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6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7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8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9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1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2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53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54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5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6692-C79A-4F35-B938-E63126D2573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01D5-97EC-45D6-8B3F-13318213DE7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758-5427-4771-B55E-4998AF7A620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D549-2268-4EE4-9F96-42B64A98ADD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6"/>
          <p:cNvCxnSpPr>
            <a:stCxn id="482" idx="0"/>
            <a:endCxn id="480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ectangle 7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1"/>
          <p:cNvCxnSpPr>
            <a:stCxn id="482" idx="2"/>
            <a:endCxn id="485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AutoShape 12"/>
          <p:cNvCxnSpPr>
            <a:stCxn id="485" idx="0"/>
            <a:endCxn id="482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8" name="Group 13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489" name="Rectangle 14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5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7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8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9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0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1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3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4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5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6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2" name="AutoShape 27"/>
            <p:cNvCxnSpPr>
              <a:stCxn id="493" idx="3"/>
              <a:endCxn id="494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28"/>
            <p:cNvCxnSpPr>
              <a:stCxn id="494" idx="3"/>
              <a:endCxn id="495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9"/>
            <p:cNvCxnSpPr>
              <a:stCxn id="498" idx="3"/>
              <a:endCxn id="500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30"/>
            <p:cNvCxnSpPr>
              <a:stCxn id="506" idx="2"/>
              <a:endCxn id="501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AutoShape 31"/>
            <p:cNvCxnSpPr>
              <a:stCxn id="498" idx="1"/>
              <a:endCxn id="499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8" name="Rectangle 32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AutoShape 33"/>
            <p:cNvCxnSpPr>
              <a:stCxn id="495" idx="1"/>
              <a:endCxn id="498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0" name="Text Box 34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35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AutoShape 36"/>
            <p:cNvCxnSpPr>
              <a:stCxn id="500" idx="3"/>
              <a:endCxn id="506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AutoShape 37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38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AutoShape 40"/>
            <p:cNvCxnSpPr>
              <a:endCxn id="506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6" name="Text Box 41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3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AutoShape 4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5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21" name="Rectangle 46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4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55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7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8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59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60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1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62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3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4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5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6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7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68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69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1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2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73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4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5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6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7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78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9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0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1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2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3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4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5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6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7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8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89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0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1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2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93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4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95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96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97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98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99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0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1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A4B-E3C6-4553-B8BA-AD493D89D0D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AutoShape 9"/>
          <p:cNvCxnSpPr>
            <a:stCxn id="579" idx="2"/>
            <a:endCxn id="580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AutoShape 10"/>
          <p:cNvCxnSpPr>
            <a:stCxn id="580" idx="0"/>
            <a:endCxn id="579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Rectangle 11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3"/>
          <p:cNvCxnSpPr>
            <a:stCxn id="580" idx="2"/>
            <a:endCxn id="583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AutoShape 14"/>
          <p:cNvCxnSpPr>
            <a:stCxn id="583" idx="2"/>
            <a:endCxn id="584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AutoShape 15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014A-6B8F-40F2-8A18-9FB8C2B6713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4166-D5CB-4926-AAD1-063C08173B0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B352-6C37-47FF-B2C0-0CE3D10A1ED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B021-B55A-4586-9669-2088FF3CC17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6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04" name="Oval 7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5" name="Object 8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Object 9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9" name="Line 10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2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12" name="Line 13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4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0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3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8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9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0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31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32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33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33" name="Oval 34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4" name="Object 35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5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4FC8-BE35-40FF-B8C1-906983CEE49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0" name="Object 5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6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Object 7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8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9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10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1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12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Object 14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5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9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6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1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7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3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18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5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19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7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Line 20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1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22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1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Line 23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4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5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6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7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8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Object 29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9" name="Object 2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0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1" name="Object 3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1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3" name="Object 31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2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85" name="Object 3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3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87" name="Object 33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1D60-E8C5-4109-91DD-EAB19F2B086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DFB0-F178-478D-95BE-0152667FEFD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AutoShape 9"/>
          <p:cNvCxnSpPr>
            <a:stCxn id="694" idx="2"/>
            <a:endCxn id="695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AutoShape 10"/>
          <p:cNvCxnSpPr>
            <a:stCxn id="695" idx="0"/>
            <a:endCxn id="694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Rectangle 11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AutoShape 12"/>
          <p:cNvCxnSpPr>
            <a:stCxn id="695" idx="2"/>
            <a:endCxn id="698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3"/>
          <p:cNvCxnSpPr>
            <a:stCxn id="698" idx="0"/>
            <a:endCxn id="695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AutoShape 1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50E4-ED65-409D-A065-B27D4D217C6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DA9-E313-437D-8865-80CE4A72F50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Object 2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3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D876-A0AB-4ABA-B835-D0B840B8496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12" name="Line 3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6CCC-CC6E-4CB1-AFC5-4DE1FD2CA14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8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9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0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4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5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6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7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8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9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1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3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4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5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6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7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8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9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0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1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2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3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4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5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E3C4-9241-4C05-97CB-8C6C006CA1A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1E1E-95B2-4067-ABEB-028F07E3A20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-243000"/>
            <a:ext cx="8299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0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5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2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3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4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5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7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9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0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1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2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3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4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5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7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8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2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3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4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03D-2AA5-4776-A021-316EB490B90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400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2" descr=""/>
          <p:cNvPicPr/>
          <p:nvPr/>
        </p:nvPicPr>
        <p:blipFill>
          <a:blip r:embed="rId1"/>
          <a:stretch/>
        </p:blipFill>
        <p:spPr>
          <a:xfrm>
            <a:off x="112680" y="1147680"/>
            <a:ext cx="891864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4C83-9FE1-443B-91C7-52ECCF97968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09C-0527-451A-B5C4-B1C18DC3371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567-2323-40B1-BD2F-30FCFA5A900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9FEF-96CB-4DA1-B393-4B5686A0CF7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Camila  Barillas</cp:lastModifiedBy>
  <cp:lastPrinted>2002-12-20T00:24:57Z</cp:lastPrinted>
  <dcterms:modified xsi:type="dcterms:W3CDTF">2011-11-04T15:42:32Z</dcterms:modified>
  <cp:revision>1035</cp:revision>
  <dc:subject>versión 9 de Abril de 2004</dc:subject>
  <dc:title>Material BID OACOS</dc:title>
</cp:coreProperties>
</file>