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CBFF-6DB7-4EF9-92BA-7B40EA847DB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947D6-CC96-4510-A2F8-380A3DC598DE}"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4251E-A5E2-4B0E-A365-E4575333839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987D-04C0-43C2-B6B9-D7B96E5BA0EC}"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930FC3-DD1E-4E3D-B822-C54CAB964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C2605-FC95-4DD6-974B-0CE833FDF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0FD4F-B45B-4A9A-A68D-2FEACB89938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26AEE8-FAEF-4F6E-99F4-B5123D0C6D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7DF6DCF-354D-4CA1-A036-DE7C2172FD5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9B25AE-2CF5-418C-81EF-79ADADE500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6AD591-B19B-4BAE-97EB-A838724B0D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6B3F33-C543-4C8C-AE81-30CF7B0488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B810F22-7DB5-4CA4-83C7-D37696290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2266ED3-B523-453A-A24A-A5D9E563AB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71C89E-6A0E-4103-B571-6353CD9A0E2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E60842A-85A8-4DD9-B648-D605AD05477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2794F3-B9E1-4995-A33C-B4D905D99B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6FB6E3A-2320-45C0-A52F-1F08CF13F9E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F91CDC-743D-408A-885A-D313B725F62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931095-0DF2-4080-9CC2-492B0D3990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C02CA19-4508-40AB-902D-363E5A88D0B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071DFC4-596F-4323-A8CE-88B05FE590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13FEE4-DB62-4BEF-9076-6568A94A54A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5B3438-E4E8-41FE-B537-EF7B5D2BED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CD70C0-BA7C-44E2-89DB-85D35A20BFE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070B5C9-19AA-4AC7-BF10-58E6FD12D12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69E987-9813-44D9-9044-5425DD27D2F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8C89AD-4CE5-444A-9141-E40E876B8E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488218D-5137-47AD-AEE2-CC36DE6863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CF4C840-34E0-4F73-A132-00A23210C96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93B9A4A-BBC9-48C6-ABD3-9EFA2925674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8195EE-55E3-4206-A20C-9C78A0A8C60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1BB2963-C3DD-472D-A8D3-71D0991260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E00E860-3003-486E-8B3B-1DC20DC17B3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80FF7E-2C0B-4ADD-B797-43C227280B8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3A9F15-E182-47FE-8527-AB8C1CB16AA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18FF83-7257-492D-834F-9A1C392DDD5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41DAB97-C8F5-44C6-8A32-61ED52CC979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1BD2A7-F450-4B87-AC70-6A2CAAD8FE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65D4F84-EB03-46C6-984C-8AE6B6B5F3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C28CEA6-9525-4FAC-A686-6DDF942E167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4B589C3-36BA-447D-A40E-E5BA0AD47B1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545CBEA-4A34-4919-AE3D-A3AC5AA42EA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5A544CF-37DC-44A5-BA13-D332246DF86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F9C7958-BBE2-46A4-85A3-3481F87B0C9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0F360AF-8DB8-4B3A-AEDB-5AB8DBCC0C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46318E6-4A97-4CDE-A7A2-80E6E276091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F2B04E1-1D51-4273-B097-0395DAFBA17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C98F36-3159-440C-8C8E-D5E9578E486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160DA2-510B-4046-A738-D3120C658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D8C64E3-2E21-49C6-B05A-D586D9DE3F2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144886E-E75D-4C1C-96F8-25F01E7E36B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03A8FE6-75D5-414C-BD5F-14329A1C9CB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CE202CA-1E1D-4EAB-8354-A5600AAC377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94C291-7655-4E9F-969E-47E3DFDBB19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3F33C2-6B54-4EDB-A409-42A9F00094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C53F2-3C36-4EFB-A620-033CEB06E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8EA1A3-7B98-4D09-A6AB-E9B0B9DA3C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7D3776-D8FC-4079-9A02-0EFDB9D6F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801F4-199C-4AE6-8BA4-199A9F49A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9E1B2-139D-4A16-ABFE-A779FE37A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DE576-FA08-4C13-A758-1503F5960F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44334-8E12-4EF7-8012-5AEB7B2CB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E2B471-C465-4ADB-BB7D-40BE4C39CF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8E8AFB-382B-4BF8-AC56-7D08DFB418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920445-E344-4877-8F89-23034C3D3A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728528-319B-4669-B456-4E9702834C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E3F602-248B-4D10-ACD9-C314E80842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0A4C9E-B92F-405F-B7E0-A17EA75FFE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CD475-6850-47E4-8F5C-E742CA4F88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468AC-4814-465D-9CE3-18A564F19F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12509D-50E4-4248-B70B-517C9DBDB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572DC3-2D11-4CA5-A29A-B2ED5E3DF0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CB65AA-2FF1-494C-BE2B-77F5E1FD7A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EE8448-4C58-4502-AF1B-D6233A87A2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4900C9-2658-4A99-AF41-8D7F8AADBC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246C8B-CEFA-4675-9C1E-F716AC85AE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D17B25-9B10-4E3F-A95D-6253C1530B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CA58B90-4BE8-4C32-8670-19E97F6C06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9599CA-27B5-41BB-A2A6-566DD864F33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7DEA01-F8CD-4982-B0A7-58D61640B9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5C9E29-60DE-464B-8BBB-36FCDE1037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5C73E-8969-4294-81DF-76EA0E6CB5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8F3E80-FD3B-42FF-B3A3-51A56F975F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D8E76-388C-4E5D-ADC2-60634A0C0D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9F309E-7440-44DF-B386-F0C8245489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DA43C8-521E-494C-822D-6EFB192934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0872A-29FE-43A1-A8DF-A884DFE10F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D3695-6795-4B72-B475-A88997601F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7CB35D-472C-4030-B04E-54F29D009E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D77260-900D-49BC-A566-29ABBE88522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61E900-35DE-4D66-ABDA-CA1DDB8EDA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27EA76-225B-44A7-A0DC-E1D452CC13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10F17-58E0-44ED-9546-3E23CA7CA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0A3A42-7769-4931-A13C-12ADCB3924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86AAB5-ECA4-488F-9A79-8AB5A38D20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17F207-665C-4A04-AC1C-6FBFC82F20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1CF975-0CA9-488A-BFEF-44FE8849A5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791B12-8C3A-4CB9-8F0A-D0323E31EB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6FB185-98D0-4FF4-9BA2-5EB3EA03AC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CD76E0-5143-47C5-8D20-5E3BEC7C5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ED71F31-BA7E-48C3-9458-78D783DDA3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D88A16-9FAB-42C0-8EA8-F0C304C7320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8816495-8866-4E19-844C-95ECF34671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58A509-BDF4-490D-AB47-C98C1C750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ACEEE1-6FDD-48A1-BC27-53E8EC4466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202C99E-144F-4572-AE74-A0B44ABE71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A3438-7214-43F5-B683-1864F6A6479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1904B7-62C2-4010-96FF-C27F5AA466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432439-EC0E-4F2A-AB92-CDEF384810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62393D-9763-4EA1-AF4D-AF749D3C252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D4D4A7-8901-4460-ADE1-4226260CAA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24938B-0DFE-4F97-B5E5-01260DC8F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08822-CACA-4BC5-A0F3-0F265EF6B4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431F6-9580-42D6-ACC9-0823DF2440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5A4B28-FCD8-4AC2-A701-E9848E8AA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66CF2E-A132-4B2C-83A0-ECAA8D80C6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429898-589E-40D3-8C17-16E080EDBD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3437F5-8868-4928-B32A-D390E85EE92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6AE5E25-7164-4C0B-9A3E-64253082A4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131F4D-C276-4BDD-8C24-43C83203E7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AAEDFD-3CAA-4771-9EF4-312E9FF92A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8123DB-9A0F-4194-A9E7-93F1B836EB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E5A045-4B40-49E9-AEFB-A776D2D2E0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85CA69-9B5B-492A-B541-DFA22222BD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40FD11-8B2F-4894-89FE-4A9DAA731A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7EF68-74D9-43C3-AE0F-35FDC9E02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70AACD-73B7-43B6-9471-CC3F3AD56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01AA272-64A0-430F-8086-71D6BD4AA5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3C8814-BA54-4AF8-A7F2-A62C15147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36851D-A5C1-49CB-9167-1FEE9B3A32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04F5385-E017-4295-8330-24AFACE7C2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16F5AF-5DFE-436C-ADE5-F945C6898B5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8AB10D-53BC-43EA-ADD4-EC30FF7F7C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CD9C6-4D82-48D6-85D4-D5421E95853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30B713-81BE-436F-9F83-6545065CFD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019EF6-6B3C-42D7-83B8-0E5BCF8015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B10AF-29DE-4C0C-9EF3-AE7511CD3D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898D7E3-3F68-4EBF-9BBB-D7791BAB81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5A4BCC-02C2-41B2-8B8A-CFDECACCBD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807CC0-0C45-410D-84F1-7A054AA7B0C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3733FC-3CFF-4C6E-B440-A23EE6C26F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FDA621-C323-4BC7-A075-A99CCE55AD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F65AA38-CF8A-4F0A-9FEA-D81FD3A00B2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83E4E7-DCEE-42BF-8659-588BAB5459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9D285A2-D852-4BF6-8729-37C59A835A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3276C68-9AE1-4046-B56F-94202298EB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7F7187-6FB4-4F75-A09C-8665972F6BC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3BE2C-350E-414A-9DA0-88D950B5551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6E68-F4C1-447D-B5D6-01184DCC54E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5A656-38CF-4AE9-A4E4-AEA88A19929E}"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5875-2588-4112-99CA-1CA1D7BE3BD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B905A-4E90-45C6-9082-DCD4B91F0D41}"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0E73-DA6C-4854-BBA3-A00EFFA3AD6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328DD-F641-4A30-B6F8-A9D8C021ADDB}"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A99B3-8302-4FDF-A3F6-AD0BE2F1A61B}"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2F3D6-D1FB-4392-968C-C45C7376E0A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21FB9-C8F9-4645-9CE0-336502DC084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D8CC7-C5A1-46EA-9D28-AB370E68257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26250-50FD-4701-B59C-17D1E7F85F9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70D37-697E-47AD-A941-1791EBCA6EB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D2F3C-AD12-4A43-B632-A4F0D775438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783C6-CBA3-4963-85AF-EEB0252109C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5B8A-7FAF-4B35-B855-1DC318089D6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B6F03-A706-4CAF-AE4B-B2579957F48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A2BC2-F858-4206-9468-595149C09B59}"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0E4B3-AFAB-4A81-9C62-3F0E359CCE7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42E90-ED66-474F-89D8-841CEC301BE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E11D-7CD2-46D4-8795-6199376F0C49}"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834AF-5C75-4520-AB04-0C406949D09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DB9F-AB44-4F6C-883C-566A5B156E94}"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54254-6BDD-4E29-99B4-4334B7FB264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0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Septiembre,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9" name=""/>
          <p:cNvSpPr txBox="1"/>
          <p:nvPr/>
        </p:nvSpPr>
        <p:spPr>
          <a:xfrm>
            <a:off x="250560" y="1268280"/>
            <a:ext cx="8713800" cy="5400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3333"/>
                </a:solidFill>
                <a:latin typeface="Arial"/>
              </a:rPr>
              <a:t>Etapas del análisi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Categorización- Clasificación (pre-análisi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Fiabilidad y validez (exhaustividad, exclusión mútua, Homogeneidad, pertinencia, fidelidad/objetividad, productividad fin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Descripción – inferencia – interpret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Interpretación – consolidación teóric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2" name=""/>
          <p:cNvSpPr txBox="1"/>
          <p:nvPr/>
        </p:nvSpPr>
        <p:spPr>
          <a:xfrm>
            <a:off x="324000" y="1905120"/>
            <a:ext cx="8496000" cy="4836960"/>
          </a:xfrm>
          <a:prstGeom prst="rect">
            <a:avLst/>
          </a:prstGeom>
          <a:noFill/>
          <a:ln w="0">
            <a:noFill/>
          </a:ln>
        </p:spPr>
        <p:txBody>
          <a:bodyPr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ir adecuadamente el ordenamiento formal del estudio de caso (Escuela de postgrado y Facultad). Ver instrucciones al respecto.</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nerle especial atención al </a:t>
            </a:r>
            <a:r>
              <a:rPr b="0" lang="es-CL" sz="2400" spc="-1" strike="noStrike">
                <a:solidFill>
                  <a:srgbClr val="ff0000"/>
                </a:solidFill>
                <a:latin typeface="Arial"/>
              </a:rPr>
              <a:t>resumen del estudio de caso </a:t>
            </a:r>
            <a:r>
              <a:rPr b="0" lang="es-CL" sz="2400" spc="-1" strike="noStrike">
                <a:solidFill>
                  <a:srgbClr val="000000"/>
                </a:solidFill>
                <a:latin typeface="Arial"/>
              </a:rPr>
              <a:t>(ver examen de grado). </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n ayudar las indicaciones entrega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dea es que sea un “gancho” o invite a otros a leer estudio de caso</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ugieren más de una revisión</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ctura en voz alta</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a:t>
            </a:r>
            <a:r>
              <a:rPr b="0" lang="es-CL" sz="2400" spc="-1" strike="noStrike">
                <a:solidFill>
                  <a:srgbClr val="ff0000"/>
                </a:solidFill>
                <a:latin typeface="Arial"/>
              </a:rPr>
              <a:t>índice</a:t>
            </a:r>
            <a:r>
              <a:rPr b="0" lang="es-CL" sz="2400" spc="-1" strike="noStrike">
                <a:solidFill>
                  <a:srgbClr val="000000"/>
                </a:solidFill>
                <a:latin typeface="Arial"/>
              </a:rPr>
              <a:t> y </a:t>
            </a:r>
            <a:r>
              <a:rPr b="0" lang="es-CL" sz="2400" spc="-1" strike="noStrike">
                <a:solidFill>
                  <a:srgbClr val="ff0000"/>
                </a:solidFill>
                <a:latin typeface="Arial"/>
              </a:rPr>
              <a:t>ordenamiento</a:t>
            </a:r>
            <a:r>
              <a:rPr b="0" lang="es-CL" sz="2400" spc="-1" strike="noStrike">
                <a:solidFill>
                  <a:srgbClr val="000000"/>
                </a:solidFill>
                <a:latin typeface="Arial"/>
              </a:rPr>
              <a:t> del estudio. Un trabajo preciso es un buen indicador.</a:t>
            </a:r>
            <a:endParaRPr b="0" lang="en-US" sz="2400" spc="-1" strike="noStrike">
              <a:solidFill>
                <a:srgbClr val="000000"/>
              </a:solidFill>
              <a:latin typeface="Arial"/>
            </a:endParaRPr>
          </a:p>
          <a:p>
            <a:pPr lvl="1" marL="720720" indent="-27720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4" name=""/>
          <p:cNvSpPr txBox="1"/>
          <p:nvPr/>
        </p:nvSpPr>
        <p:spPr>
          <a:xfrm>
            <a:off x="178920" y="1905120"/>
            <a:ext cx="8713800" cy="483696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empre hay uno o dos capítulos centrales, éstos son el “</a:t>
            </a:r>
            <a:r>
              <a:rPr b="0" lang="es-CL" sz="2400" spc="-1" strike="noStrike">
                <a:solidFill>
                  <a:srgbClr val="ff0000"/>
                </a:solidFill>
                <a:latin typeface="Arial"/>
              </a:rPr>
              <a:t>valor agregado</a:t>
            </a:r>
            <a:r>
              <a:rPr b="0" lang="es-CL" sz="2400" spc="-1" strike="noStrike">
                <a:solidFill>
                  <a:srgbClr val="000000"/>
                </a:solidFill>
                <a:latin typeface="Arial"/>
              </a:rPr>
              <a:t>” del estudio de caso y por tanto donde hay que poner mucha energí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telar los “equilibrios” de las secciones y la “amabilidad” con el lect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si el estudio de caso tendrá secciones de conclusiones /recomendaciones separadas o una sol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s conclusiones</a:t>
            </a:r>
            <a:r>
              <a:rPr b="0" lang="es-CL" sz="2400" spc="-1" strike="noStrike">
                <a:solidFill>
                  <a:srgbClr val="000000"/>
                </a:solidFill>
                <a:latin typeface="Arial"/>
              </a:rPr>
              <a:t>, siempre volver a los objetivos y/o las eventuales hipótesis que haya tenido el estudio. ¿contesta sus pregunt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clusiones también es el espacio </a:t>
            </a:r>
            <a:r>
              <a:rPr b="0" lang="es-CL" sz="2400" spc="-1" strike="noStrike">
                <a:solidFill>
                  <a:srgbClr val="ff0000"/>
                </a:solidFill>
                <a:latin typeface="Arial"/>
              </a:rPr>
              <a:t>donde el autor se expresa</a:t>
            </a:r>
            <a:r>
              <a:rPr b="0" lang="es-CL" sz="2400" spc="-1" strike="noStrike">
                <a:solidFill>
                  <a:srgbClr val="000000"/>
                </a:solidFill>
                <a:latin typeface="Arial"/>
              </a:rPr>
              <a:t> con mayor fuerza (versus análisis de evid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6" name=""/>
          <p:cNvSpPr txBox="1"/>
          <p:nvPr/>
        </p:nvSpPr>
        <p:spPr>
          <a:xfrm>
            <a:off x="250920" y="1904760"/>
            <a:ext cx="8642160" cy="47638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tiempo/energía/entusiasmo en las secciones finales (muchas veces se finaliza a la rápi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la bibliografía que esté completa y correctamente señalada.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r el rol y aporte de los </a:t>
            </a:r>
            <a:r>
              <a:rPr b="0" lang="es-CL" sz="2400" spc="-1" strike="noStrike">
                <a:solidFill>
                  <a:srgbClr val="ff0000"/>
                </a:solidFill>
                <a:latin typeface="Arial"/>
              </a:rPr>
              <a:t>anexos</a:t>
            </a:r>
            <a:r>
              <a:rPr b="0" lang="es-CL" sz="2400" spc="-1" strike="noStrike">
                <a:solidFill>
                  <a:srgbClr val="000000"/>
                </a:solidFill>
                <a:latin typeface="Arial"/>
              </a:rPr>
              <a:t>, mucho de lo que se ha trabajado no es necesario que vaya en los anex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SÍ</a:t>
            </a:r>
            <a:r>
              <a:rPr b="0" lang="es-CL" sz="2400" spc="-1" strike="noStrike">
                <a:solidFill>
                  <a:srgbClr val="000000"/>
                </a:solidFill>
                <a:latin typeface="Arial"/>
              </a:rPr>
              <a:t> es pertinente que esté en los anex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utas de entrevista</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tados metodológicos específic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alle de lesgislaciones /normativa, relevante para entender temas del estudio de ca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Detalles administrativos</a:t>
            </a:r>
            <a:endParaRPr b="0" lang="en-US" sz="4200" spc="-1" strike="noStrike">
              <a:solidFill>
                <a:srgbClr val="000000"/>
              </a:solidFill>
              <a:latin typeface="Arial"/>
            </a:endParaRPr>
          </a:p>
        </p:txBody>
      </p:sp>
      <p:sp>
        <p:nvSpPr>
          <p:cNvPr id="548" name=""/>
          <p:cNvSpPr txBox="1"/>
          <p:nvPr/>
        </p:nvSpPr>
        <p:spPr>
          <a:xfrm>
            <a:off x="539640" y="1413000"/>
            <a:ext cx="8353440" cy="475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ÁRGENES</a:t>
            </a:r>
            <a:br>
              <a:rPr sz="1800"/>
            </a:br>
            <a:r>
              <a:rPr b="0" lang="es-CL" sz="1800" spc="-1" strike="noStrike">
                <a:solidFill>
                  <a:srgbClr val="000000"/>
                </a:solidFill>
                <a:latin typeface="Arial"/>
              </a:rPr>
              <a:t>3mm izquierdo</a:t>
            </a:r>
            <a:br>
              <a:rPr sz="1800"/>
            </a:br>
            <a:r>
              <a:rPr b="0" lang="es-CL" sz="1800" spc="-1" strike="noStrike">
                <a:solidFill>
                  <a:srgbClr val="000000"/>
                </a:solidFill>
                <a:latin typeface="Arial"/>
              </a:rPr>
              <a:t>2mm derecho, superior e inferi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PACIADO, TAMAÑO Y TIPO DE LETRA</a:t>
            </a:r>
            <a:br>
              <a:rPr sz="1800"/>
            </a:br>
            <a:r>
              <a:rPr b="0" lang="es-CL" sz="1800" spc="-1" strike="noStrike">
                <a:solidFill>
                  <a:srgbClr val="000000"/>
                </a:solidFill>
                <a:latin typeface="Arial"/>
              </a:rPr>
              <a:t>No existen criterios rígidos sobre tamaño, tipo de letra y espaciado, pero se recomienda lo siguiente:</a:t>
            </a:r>
            <a:br>
              <a:rPr sz="1800"/>
            </a:br>
            <a:r>
              <a:rPr b="0" lang="es-CL" sz="1800" spc="-1" strike="noStrike">
                <a:solidFill>
                  <a:srgbClr val="000000"/>
                </a:solidFill>
                <a:latin typeface="Arial"/>
              </a:rPr>
              <a:t>- Utilizar espaciado entre sencillo y 1.5</a:t>
            </a:r>
            <a:br>
              <a:rPr sz="1800"/>
            </a:br>
            <a:r>
              <a:rPr b="0" lang="es-CL" sz="1800" spc="-1" strike="noStrike">
                <a:solidFill>
                  <a:srgbClr val="000000"/>
                </a:solidFill>
                <a:latin typeface="Arial"/>
              </a:rPr>
              <a:t>- Resumen con espacio simple</a:t>
            </a:r>
            <a:br>
              <a:rPr sz="1800"/>
            </a:br>
            <a:r>
              <a:rPr b="0" lang="es-CL" sz="1800" spc="-1" strike="noStrike">
                <a:solidFill>
                  <a:srgbClr val="000000"/>
                </a:solidFill>
                <a:latin typeface="Arial"/>
              </a:rPr>
              <a:t>- Letras Calibri, Arial o similar.</a:t>
            </a:r>
            <a:br>
              <a:rPr sz="1800"/>
            </a:br>
            <a:r>
              <a:rPr b="0" lang="es-CL" sz="1800" spc="-1" strike="noStrike">
                <a:solidFill>
                  <a:srgbClr val="000000"/>
                </a:solidFill>
                <a:latin typeface="Arial"/>
              </a:rPr>
              <a:t>- Tamaño de letra 12 u 1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ECAUCIONES</a:t>
            </a:r>
            <a:br>
              <a:rPr sz="1800"/>
            </a:br>
            <a:r>
              <a:rPr b="0" lang="es-CL" sz="1800" spc="-1" strike="noStrike">
                <a:solidFill>
                  <a:srgbClr val="000000"/>
                </a:solidFill>
                <a:latin typeface="Arial"/>
              </a:rPr>
              <a:t>- No se pueden utilizar encabezados ni pies de página con gráfica o nombre del estudio.</a:t>
            </a:r>
            <a:br>
              <a:rPr sz="1800"/>
            </a:br>
            <a:r>
              <a:rPr b="0" lang="es-CL" sz="1800" spc="-1" strike="noStrike">
                <a:solidFill>
                  <a:srgbClr val="000000"/>
                </a:solidFill>
                <a:latin typeface="Arial"/>
              </a:rPr>
              <a:t>- No se pueden imprimir ambos lados de las hojas en la version final de empaste de la tesi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90440"/>
            <a:ext cx="81392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En qué consiste el Examen de Grado?</a:t>
            </a:r>
            <a:endParaRPr b="0" lang="en-US" sz="4200" spc="-1" strike="noStrike">
              <a:solidFill>
                <a:srgbClr val="000000"/>
              </a:solidFill>
              <a:latin typeface="Arial"/>
            </a:endParaRPr>
          </a:p>
        </p:txBody>
      </p:sp>
      <p:sp>
        <p:nvSpPr>
          <p:cNvPr id="550" name=""/>
          <p:cNvSpPr txBox="1"/>
          <p:nvPr/>
        </p:nvSpPr>
        <p:spPr>
          <a:xfrm>
            <a:off x="250920" y="1905120"/>
            <a:ext cx="82836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Calibri"/>
              </a:rPr>
              <a:t>El examen de grado es una instancia de defensa del estudio de caso y no una presentación (no hay ppt) pues los profesores de comisión ya conocen el trabajo del alumno(a). Dura aproximadamente 50 minutos o 1 hora.</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000000"/>
                </a:solidFill>
                <a:latin typeface="Arial"/>
                <a:ea typeface="Calibri"/>
              </a:rPr>
              <a:t>Sólo asisten al examen el (la) alumno(a), los profesores de comisión, la directora de Estudios de caso y/o algunas de las autoridades del Magister (Director, Subdirectora o Jefe de Estudios).</a:t>
            </a:r>
            <a:br>
              <a:rPr sz="2000"/>
            </a:br>
            <a:br>
              <a:rPr sz="2000"/>
            </a:b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79280" y="260280"/>
            <a:ext cx="8964720" cy="612144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ea typeface="Calibri"/>
              </a:rPr>
              <a:t>El examen tiene algunos momento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2000" spc="-1" strike="noStrike">
                <a:solidFill>
                  <a:srgbClr val="000000"/>
                </a:solidFill>
                <a:latin typeface="Arial"/>
                <a:ea typeface="Calibri"/>
              </a:rPr>
              <a:t>1) La primera es una instancia formal donde el alumno lee en voz alta el resumen del estudio de caso y los profesores hacen comentarios y correciones de forma y de fondo a dicho resumen. </a:t>
            </a:r>
            <a:r>
              <a:rPr b="0" lang="es-CL" sz="2000" spc="-1" strike="noStrike">
                <a:solidFill>
                  <a:srgbClr val="5d5d5d"/>
                </a:solidFill>
                <a:latin typeface="Arial"/>
                <a:ea typeface="Calibri"/>
              </a:rPr>
              <a:t>El resumen es lo único que se puede modificar del estudio de caso. En caso que el resumen tenga modificaciones, estas deben ser entregadas en un máximo de 24 horas.</a:t>
            </a:r>
            <a:br>
              <a:rPr sz="2000"/>
            </a:br>
            <a:r>
              <a:rPr b="0" lang="es-CL" sz="2000" spc="-1" strike="noStrike">
                <a:solidFill>
                  <a:srgbClr val="000000"/>
                </a:solidFill>
                <a:latin typeface="Arial"/>
                <a:ea typeface="Calibri"/>
              </a:rPr>
              <a:t>2) El segundo momento del examen consiste en las preguntas y comentarios que los profesores de comisión tengan respecto del estudio de caso y las respuestas y reflexiones que el alumno(a) realice.</a:t>
            </a:r>
            <a:br>
              <a:rPr sz="2000"/>
            </a:br>
            <a:r>
              <a:rPr b="0" lang="es-CL" sz="2000" spc="-1" strike="noStrike">
                <a:solidFill>
                  <a:srgbClr val="000000"/>
                </a:solidFill>
                <a:latin typeface="Arial"/>
                <a:ea typeface="Calibri"/>
              </a:rPr>
              <a:t>3) Una vez que culmina la defensa, el alumno se retira de la sala para que los profesores de comisión se pongan de acuerdo sobre la calificación del alumno. En el MGPP las calificaciones surgen por consenso.</a:t>
            </a:r>
            <a:br>
              <a:rPr sz="2000"/>
            </a:br>
            <a:r>
              <a:rPr b="0" lang="es-CL" sz="2000" spc="-1" strike="noStrike">
                <a:solidFill>
                  <a:srgbClr val="000000"/>
                </a:solidFill>
                <a:latin typeface="Arial"/>
                <a:ea typeface="Calibri"/>
              </a:rPr>
              <a:t>4) Luego el alumno ingresa nuevamente a la sala, se le informa de su calificación final y culmina el examen de grado con el alumno(a) ya con el grado de MG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90440"/>
            <a:ext cx="82836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dvertencias</a:t>
            </a:r>
            <a:endParaRPr b="0" lang="en-US" sz="4200" spc="-1" strike="noStrike">
              <a:solidFill>
                <a:srgbClr val="000000"/>
              </a:solidFill>
              <a:latin typeface="Arial"/>
            </a:endParaRPr>
          </a:p>
        </p:txBody>
      </p:sp>
      <p:sp>
        <p:nvSpPr>
          <p:cNvPr id="553" name=""/>
          <p:cNvSpPr txBox="1"/>
          <p:nvPr/>
        </p:nvSpPr>
        <p:spPr>
          <a:xfrm>
            <a:off x="323640" y="1341000"/>
            <a:ext cx="8569080" cy="53276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guardar adecuadamente la entrega del informe final de acuerdo a los tiempos de los profesores de comisión (posibles viajes, etc.) La recomendación es cumplir fecha fijada y </a:t>
            </a:r>
            <a:r>
              <a:rPr b="0" lang="es-CL" sz="2400" spc="-1" strike="noStrike">
                <a:solidFill>
                  <a:srgbClr val="ff0000"/>
                </a:solidFill>
                <a:latin typeface="Arial"/>
              </a:rPr>
              <a:t>anunciar</a:t>
            </a:r>
            <a:r>
              <a:rPr b="0" lang="es-CL" sz="2400" spc="-1" strike="noStrike">
                <a:solidFill>
                  <a:srgbClr val="000000"/>
                </a:solidFill>
                <a:latin typeface="Arial"/>
              </a:rPr>
              <a:t> o recordar la entrega con antel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unirse con los profesores para recibir los comentarios finales. No sólo la retroalimentación por e-mai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es de octubre se debe entregar loa mayor parte de la documentación requerida para el proceso de titulación (</a:t>
            </a:r>
            <a:r>
              <a:rPr b="0" lang="es-CL" sz="2400" spc="-1" strike="noStrike">
                <a:solidFill>
                  <a:srgbClr val="8b8b8b"/>
                </a:solidFill>
                <a:latin typeface="Arial"/>
              </a:rPr>
              <a:t>más detalles más adelante</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 posible rendir el examen de grado si es que hay alguna documentación pendiente, incluido temas de pago.</a:t>
            </a:r>
            <a:endParaRPr b="0" lang="en-US" sz="2400" spc="-1" strike="noStrike">
              <a:solidFill>
                <a:srgbClr val="000000"/>
              </a:solidFill>
              <a:latin typeface="Arial"/>
            </a:endParaRPr>
          </a:p>
        </p:txBody>
      </p:sp>
      <p:sp>
        <p:nvSpPr>
          <p:cNvPr id="554" name="Line 4"/>
          <p:cNvSpPr/>
          <p:nvPr/>
        </p:nvSpPr>
        <p:spPr>
          <a:xfrm>
            <a:off x="0" y="61657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5" name="Line 4"/>
          <p:cNvSpPr/>
          <p:nvPr/>
        </p:nvSpPr>
        <p:spPr>
          <a:xfrm>
            <a:off x="-36360" y="58849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90% que se avecin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2"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14" name="PlaceHolder 2"/>
          <p:cNvSpPr>
            <a:spLocks noGrp="1"/>
          </p:cNvSpPr>
          <p:nvPr>
            <p:ph/>
          </p:nvPr>
        </p:nvSpPr>
        <p:spPr>
          <a:xfrm>
            <a:off x="1042560" y="1196640"/>
            <a:ext cx="7705800" cy="5327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M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Fin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Inscripción del tema de tesis ante escuela de postgr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os días de JUNI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8b8b8b"/>
                </a:solidFill>
                <a:latin typeface="Arial"/>
              </a:rPr>
              <a:t>Primera semana de AGOST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recomendada: </a:t>
            </a:r>
            <a:r>
              <a:rPr b="0" lang="es-ES" sz="2100" spc="-1" strike="noStrike">
                <a:solidFill>
                  <a:srgbClr val="ff0000"/>
                </a:solidFill>
                <a:latin typeface="Arial"/>
              </a:rPr>
              <a:t>1 de noviembre (hay tiempo para correcciones e intercambios entre profesores y alumno/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Final</a:t>
            </a:r>
            <a:r>
              <a:rPr b="0" lang="es-ES" sz="2100" spc="-1" strike="noStrike">
                <a:solidFill>
                  <a:srgbClr val="ff0000"/>
                </a:solidFill>
                <a:latin typeface="Arial"/>
              </a:rPr>
              <a:t>: Mediados de NOVIEMBRE (fecha por confirmar para que no se tope con semana de pruebas)</a:t>
            </a:r>
            <a:endParaRPr b="0" lang="en-US" sz="2100" spc="-1" strike="noStrike">
              <a:solidFill>
                <a:srgbClr val="000000"/>
              </a:solidFill>
              <a:latin typeface="Arial"/>
            </a:endParaRPr>
          </a:p>
          <a:p>
            <a:pPr lvl="1" marL="743040" indent="-285840">
              <a:lnSpc>
                <a:spcPct val="80000"/>
              </a:lnSpc>
              <a:spcBef>
                <a:spcPts val="70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d0d0d"/>
                </a:solidFill>
                <a:latin typeface="Arial"/>
              </a:rPr>
              <a:t>Versión final para comentarios y solicitud de Examen de Grado</a:t>
            </a: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26 al 29 de DICIEMBRE DE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1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Informe preliminar-final o informe final para comentarios (denominado del 90%)</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8"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9" name="Rectangle 5"/>
          <p:cNvSpPr/>
          <p:nvPr/>
        </p:nvSpPr>
        <p:spPr>
          <a:xfrm>
            <a:off x="395280" y="5950080"/>
            <a:ext cx="720108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0"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Text Box 7"/>
          <p:cNvSpPr/>
          <p:nvPr/>
        </p:nvSpPr>
        <p:spPr>
          <a:xfrm>
            <a:off x="7451640" y="5445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90%</a:t>
            </a:r>
            <a:endParaRPr b="0" lang="en-US" sz="1800" spc="-1" strike="noStrike">
              <a:solidFill>
                <a:srgbClr val="336666"/>
              </a:solidFill>
              <a:latin typeface="Arial"/>
            </a:endParaRPr>
          </a:p>
        </p:txBody>
      </p:sp>
      <p:sp>
        <p:nvSpPr>
          <p:cNvPr id="522"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24"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borrador final del estudio de caso para comentarios de los 3 profesores de comisió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corporan comentarios y recomendaciones que hayan surgido en el informe y presentación del 60%</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dacción en pasado (es un trabajo terminado, ya no en cur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ibliografía completa</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laridad de cuáles serán los anexos (no es necesario que vayan en este informe)</a:t>
            </a:r>
            <a:endParaRPr b="0" lang="en-US" sz="2400" spc="-1" strike="noStrike">
              <a:solidFill>
                <a:srgbClr val="000000"/>
              </a:solidFill>
              <a:latin typeface="Arial"/>
            </a:endParaRPr>
          </a:p>
        </p:txBody>
      </p:sp>
      <p:sp>
        <p:nvSpPr>
          <p:cNvPr id="525"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27"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de Contenido como “la técnica destinada an formular, a partir de ciertos datos, inferencias reproducibles y válidas que puedan aplicarse a un contexto” (Krippendorff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investigador en una triple perspectiva: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os datos tal y como se comunican al analista.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ontexto de los dato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 forma en que el conocimiento del analista obliga a dividir la realidad.</a:t>
            </a:r>
            <a:endParaRPr b="0" lang="en-US" sz="2800" spc="-1" strike="noStrike">
              <a:solidFill>
                <a:srgbClr val="000000"/>
              </a:solidFill>
              <a:latin typeface="Arial"/>
            </a:endParaRPr>
          </a:p>
        </p:txBody>
      </p:sp>
      <p:sp>
        <p:nvSpPr>
          <p:cNvPr id="528"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pic>
        <p:nvPicPr>
          <p:cNvPr id="530" name="Picture 2" descr=""/>
          <p:cNvPicPr/>
          <p:nvPr/>
        </p:nvPicPr>
        <p:blipFill>
          <a:blip r:embed="rId1"/>
          <a:stretch/>
        </p:blipFill>
        <p:spPr>
          <a:xfrm>
            <a:off x="0" y="2214720"/>
            <a:ext cx="9144000" cy="4309920"/>
          </a:xfrm>
          <a:prstGeom prst="rect">
            <a:avLst/>
          </a:prstGeom>
          <a:ln w="0">
            <a:noFill/>
          </a:ln>
        </p:spPr>
      </p:pic>
      <p:sp>
        <p:nvSpPr>
          <p:cNvPr id="531"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3"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iesg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acar la palabra/frase de su contexto.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rbitrariedad subjetiva en la categorización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torgar primacía a lo cuantitativo sobre lo cualitativo en la interpretación de los resultad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6"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ategorización /identificación de nudos /análisis tiene ciertas </a:t>
            </a:r>
            <a:r>
              <a:rPr b="0" lang="es-CL" sz="3000" spc="-1" strike="noStrike">
                <a:solidFill>
                  <a:srgbClr val="ff0000"/>
                </a:solidFill>
                <a:latin typeface="Arial"/>
              </a:rPr>
              <a:t>REGL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presencia o ausencia de un determinado códi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frecuencia co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Intensidad (grados e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ntingencia (aparecen dos o más códigos en una unidad de context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l orden en que aparecen los códig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densidad (por palabras en relación al tot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9-26T16:10:03Z</dcterms:modified>
  <cp:revision>101</cp:revision>
  <dc:subject/>
  <dc:title>TALLER INTRODUCTORIO  ESTUDIOS DE CASO</dc:title>
</cp:coreProperties>
</file>