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212C-8517-4000-98A5-502FCCF75E0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620DC-9E4E-4171-AB70-2CB974130D9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F1EF-0BCD-47AE-A1B8-1672B9C3B5C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5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230C-2E9A-41C6-B33D-EED842371F6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3EAC9-874D-4FCC-90B0-BF8C38189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8549F-EF30-46DA-89C7-B272179DD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258E9E-8B51-47F5-AEC9-12B1D44CD3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CE90CF-FF5F-4A3A-B0B9-4F9A73DC46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31E18B-646A-4020-BFE9-5846BCD57D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55D7F2-5888-4175-8535-1D551847BB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F22052-5121-4B6A-BD4B-5528BFA99D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44AE98-BB5D-4B08-9866-72E3CC39BC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DF71BA-E97C-4623-B282-E7DFAD44E9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C3AD92-CEA2-4D54-958A-539313F764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7A7183-87C3-4FF5-9079-EF6D2D549D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EBEA267-42F3-4477-B8AF-F0DEC10759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3AE28-E78C-42E6-B884-7AF937D22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60C8839-18C5-4F0B-8E48-C26FD8A467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1FB64E-E4A9-48BB-900A-DFF8E4459F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91B7E4-2701-437D-90F1-99D990B440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A5D0BA-90F8-4F06-8436-4636802AAC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C6F301-4A4F-45F1-9D0C-5B113DC991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1B5F38-8F8F-4E23-BEFD-4C4F7D9784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6BED75-E8B3-459E-AC9F-735B1B237C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AA7119-C709-4DA0-8C1E-37D11F8775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F3656B-9229-4B0F-B54D-056CCBBDB6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7503132-96DC-47D4-972D-5940838A3DB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688EE-9A75-441F-8533-1895BA1ED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C2B3CF7-6265-4995-888B-71E9D38F908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83F59E9-62E1-4E83-8DA8-E6C91B43EE9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57148D-F660-4EA9-8F7A-296A6C25F3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5DF00A-20C9-41EC-AF14-8A827DC33A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D853588-EB6D-4BAF-9A6A-144330648B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D98404-E8AF-46C7-9589-2AEAF1A296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5FC17E-3580-4D65-BC37-97213EC078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C2E7FA-1BD0-4D89-B88A-717BD61FA8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EDBBC7-F46C-472C-B393-4FE3DAC2B0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2791D3-09C7-4860-91FB-52F61CC13A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8EEBB4-2DE0-4EF0-AE19-DC0B3DA2DE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DDF7A7-0D55-48D4-954D-1E43F9D3AD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E16B502-1635-4958-8A99-C34BDE830FC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5ECC6E8-4F65-409B-8645-021477C605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4D157BB-7349-400A-ACEB-E39E7509CD1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669E65-129E-49F1-A994-102A96F0AD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E55B4F-E9C3-4798-8079-F99DF11E0B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FA897ED-5B70-4EB3-B8D3-D365DA4EBAA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4A8AC51-B74B-4601-8C92-19F3AC12F6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634AE1-9DCE-4E92-A952-51F5256928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479DF7-45B0-4F61-A645-9EDA8F34AD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05563-81D3-4000-8B21-8BC46BBAA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322635-3F5F-44A0-90CD-77DF1EED30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F9A63C-515B-4C66-8F03-D1BFAFFFD4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AB6B56-DF06-4174-8487-C2C165A12F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719267F-709D-43A9-AC38-A70B5FA8924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61B65EE-A22C-4407-9B48-0D240DEED40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FE5E2-D35D-4321-A58D-DCB428AB2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C1798-E682-444F-9AC0-32016D944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FC75D-D2B3-4BA0-A7B2-D639D24CA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88EA2-3744-4BFC-A644-D36F71B56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8D7E8-272B-4C42-A0C2-B7CD5075A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20708-DE97-4CFB-AD6A-E020864B3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0CD59-42A5-4007-A755-74A5F6290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C6F0F-4867-427F-884D-6E3F7A173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179B0-29E3-45B9-A2B4-80C9D1173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743C32-719D-453B-8C49-D2B2612DC7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667EF7-44FB-4E53-9B94-9DE6370A46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B2B6F5-2490-4A04-AB6B-D2D321893F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9B7770-B302-4C38-91DD-495AB6A436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77E6DC-1C48-4363-8712-0978A2F633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9C5E98-A60B-4D27-BCA9-0756D4F2B0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BAD77A-1B31-46B0-89C2-BCCD7C2188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D808F-1250-4C29-9F7D-D3FD2DD69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27B46C-C114-4DC3-9806-A02E823C54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D400D-5C21-40BA-A0EF-0325DFDC5A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11AD1B-5A2E-40C5-ABBF-3434B6EADE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DB0E56-C9A4-4431-94DA-F25468F060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6FC346-F75F-478F-B5FF-93A0816B00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DD0355-8119-4681-BC74-DABDCB178D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F4502C-437D-4DD7-9C1E-8E1B4C6A74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EEB854-7074-485B-A811-6A8CFC81BC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559190-28A5-4D9C-8EC1-FF4EB16804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2266B9-3EEE-4C76-926A-7FAF9D03BA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8A4E5-2AF0-43A4-B3C2-1D28C37A5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46C577-9274-40DD-9D57-C213C7AAA8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DC95E5-685A-4A7C-AA38-CA46BB24D1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3780AE-C106-4588-883A-7F8C0964B9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8FAFCC-921D-479A-AF68-FF9B6941E9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3B1CD-67B2-4535-8F19-6C4E1FAD85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D9F849-66C1-4CD8-8AF7-6AB21EE72B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34B525-D526-4E1A-AD6D-FD4A8B8930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3F0FDA-B0C0-450B-AB5E-3C96936EAB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40622B-1213-4A2F-974B-9C8F429EB7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38015A-110F-4201-BF1B-ADBA7BBBE7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38C5F-0446-4866-A2AA-72D15872C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5522C3-2C02-4912-9513-7C8DBD32B1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C2BEE4-3B12-45D9-AFED-710EBFD300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B2C429-6682-4DE8-875C-D40B7C2525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DF2469-2F77-4DF8-990D-F0B3DCA473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8E69CE-BE48-4A80-8F7E-7F54495010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EE981F-9E9D-498C-977A-16BC230B38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CF7890-E70E-4749-9CEB-970AB97D05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E1B0E0-FE01-4F8B-B75A-D37EA88425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A20388-9E85-4356-BE03-F6605D440E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6D01C5-7A7E-4C1B-81E3-E6C123AB48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CCE17-0EF1-4D1A-A5E7-0209E52C7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0FEAC7-DC55-4832-97FE-86B6643F7E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EDB3A3-3117-4F7E-8A3C-8E2BA12328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505264-9918-4770-90A3-30B864EBBC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CBE146-5749-41E9-96FD-4BC3288743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F9F013-6E0E-475C-A1D7-416A4740ED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E91B15-40D4-41AF-B687-B6E1759813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85CC5A-A5FD-4532-819D-94527F7056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3B92A6-3A48-4B2F-BC08-EB86F9A298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6FC182-004D-4497-951E-B6A9717251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83DFED-2D4B-4975-9ADB-5C7480833E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DAAB6-98A9-4942-9B7F-47F9AC9FA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CE4FDC-ADBD-467F-AC45-71D990D109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48D843-BDF3-4F36-B21B-40CC25DCB4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8CABDD-E2E0-4DA6-992B-B303529857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B26EFE-078E-434F-9C02-D38CEA30EB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309551-F8C0-4E14-8218-92CE3AFBA6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567B0D-8E92-4671-8CB5-6129D02B29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D14F15-0EDA-4192-8C39-C643A91882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528706-7A36-4338-8CB4-29B98C7EE6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B1D0C9-E5B9-4A03-A697-BB05229F33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F4C2F0-931A-43D0-821D-1EF21932F0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0E71B-1907-4286-8A82-20C4B3AC1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A6CD74-9F0C-4434-843C-0DFCFDDFF5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CFAE93-9172-468D-B9A6-E3C3A0DF86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D58FBB-EA82-405A-9DF7-A8E8B67B43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D86ACE-6F4F-493E-BFE6-E196C25BFB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CC7E72-FA39-4BD2-8139-ACEF720AEC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5592D2-55E4-4A3F-8C7D-D1A6241B9C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814437-0307-487E-ACB2-DD33C002D8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596F18-76F6-4742-B835-B647432020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CFDE74-42DC-4E2A-B71D-93D8B9C8CE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B887AF-4529-4EC0-9954-A06A5F17A8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5B4C4-67FC-47D4-B370-294B53F06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453B33-4A0A-467C-96FB-AB00D2DC78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807B5A-3424-4666-BDA3-F6C8C09EC0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F61543-1524-4446-A270-BE6B44158D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AAE661-5AB1-4A2D-A31C-8D2ED40691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FFBD0B-5BD2-45B0-919B-31679C6688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EE8283-11EF-46B9-9DE7-A5E0A769B7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6A2EAC-F064-4B21-A690-8FDAC50C7B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05754F-08F8-4954-9446-4BE29953DA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AC9770-75E9-47CD-A29A-D832D48732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65AEBC-AF3A-4F99-A5D6-CE43F0B7CFA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6D9E2-F9E1-4451-87F0-04BFED69AB2E}"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69D6-F352-479F-95FB-7FB2BC48A0B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5053D-2249-4B22-A3AC-E5931912B5CD}"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D8C1-BD5B-4E93-B81B-292E0E3AC14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EC05-AA90-4105-B364-2E7B79EE9D83}"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CA6A-6E5C-436D-91DE-6416F301820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B78C-7681-4E18-BBEE-A10C8CF1341A}" type="datetime">
              <a:rPr b="0" lang="es-ES" sz="1000" spc="-1" strike="noStrike">
                <a:solidFill>
                  <a:srgbClr val="336666"/>
                </a:solidFill>
                <a:latin typeface="Times New Roman"/>
              </a:rPr>
              <a:t>30/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522A5-FE2D-4D8B-9A4D-263B03704B2C}"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78DAE-7C8D-46B6-8620-74A3C08210E3}"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9ED2-7D8F-400E-97C8-1ABD6948BCF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0F17-1FF1-4528-B146-0250888AB408}"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E30C-978F-4912-A14F-BCF6DDECE45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B513-E4F3-4763-AF75-DEDE0835B6FB}"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FA07-4816-4720-9041-906AB579FB4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A815-0684-4D81-9393-8533E6CCBA0C}"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590CF-CCC2-4D93-8AB6-2121B74730E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D7DA-5CB1-46CF-8968-10A463EB2DC8}"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84DC-AF62-4589-BA6C-589921B916B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4815-82F7-473B-8381-AF5618625852}"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52B2-9E0E-481E-803A-F4FA5342505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25786-8DAC-4F55-8A34-49B2CB73D214}"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728D-EECF-4356-AF12-61A8548BFE3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A75FA-86A3-47EA-A436-B6450243F8C0}"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825C9-103F-4F6C-A7DB-D1CB1DF0B51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250560" y="1371600"/>
            <a:ext cx="8713800" cy="1752480"/>
          </a:xfrm>
          <a:prstGeom prst="rect">
            <a:avLst/>
          </a:prstGeom>
          <a:solidFill>
            <a:srgbClr val="d5d5d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Calibri"/>
              </a:rPr>
              <a:t>TALLER DE </a:t>
            </a:r>
            <a:br>
              <a:rPr sz="4800"/>
            </a:br>
            <a:r>
              <a:rPr b="0" lang="es-CL" sz="4800" spc="-1" strike="noStrike">
                <a:solidFill>
                  <a:srgbClr val="336666"/>
                </a:solidFill>
                <a:latin typeface="Calibri"/>
              </a:rPr>
              <a:t>ESTUDIOS DE CASO</a:t>
            </a:r>
            <a:endParaRPr b="0" lang="en-US" sz="4800" spc="-1" strike="noStrike">
              <a:solidFill>
                <a:srgbClr val="000000"/>
              </a:solidFill>
              <a:latin typeface="Arial"/>
            </a:endParaRPr>
          </a:p>
        </p:txBody>
      </p:sp>
      <p:sp>
        <p:nvSpPr>
          <p:cNvPr id="50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alibri"/>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Septiembre,  </a:t>
            </a:r>
            <a:r>
              <a:rPr b="0" lang="es-CL" sz="2000" spc="-1" strike="noStrike">
                <a:solidFill>
                  <a:srgbClr val="ff0000"/>
                </a:solidFill>
                <a:latin typeface="Calibri"/>
              </a:rPr>
              <a:t>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nálisis de contenido</a:t>
            </a:r>
            <a:endParaRPr b="0" lang="en-US" sz="4200" spc="-1" strike="noStrike">
              <a:solidFill>
                <a:srgbClr val="000000"/>
              </a:solidFill>
              <a:latin typeface="Arial"/>
            </a:endParaRPr>
          </a:p>
        </p:txBody>
      </p:sp>
      <p:sp>
        <p:nvSpPr>
          <p:cNvPr id="539" name=""/>
          <p:cNvSpPr txBox="1"/>
          <p:nvPr/>
        </p:nvSpPr>
        <p:spPr>
          <a:xfrm>
            <a:off x="250560" y="1268280"/>
            <a:ext cx="8713800" cy="54007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3333"/>
                </a:solidFill>
                <a:latin typeface="Arial"/>
              </a:rPr>
              <a:t>Etapas del análisi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Arial"/>
              </a:rPr>
              <a:t>Categorización- Clasificación (pre-análisi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Arial"/>
              </a:rPr>
              <a:t>Fiabilidad y validez (exhaustividad, exclusión mútua, Homogeneidad, pertinencia, fidelidad/objetividad, productividad fin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Arial"/>
              </a:rPr>
              <a:t>Descripción – inferencia – interpretación</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Arial"/>
              </a:rPr>
              <a:t>Interpretación – consolidación teóric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Line 4"/>
          <p:cNvSpPr/>
          <p:nvPr/>
        </p:nvSpPr>
        <p:spPr>
          <a:xfrm>
            <a:off x="0" y="40464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lgunas precisiones..</a:t>
            </a:r>
            <a:endParaRPr b="0" lang="en-US" sz="4200" spc="-1" strike="noStrike">
              <a:solidFill>
                <a:srgbClr val="000000"/>
              </a:solidFill>
              <a:latin typeface="Arial"/>
            </a:endParaRPr>
          </a:p>
        </p:txBody>
      </p:sp>
      <p:sp>
        <p:nvSpPr>
          <p:cNvPr id="542" name=""/>
          <p:cNvSpPr txBox="1"/>
          <p:nvPr/>
        </p:nvSpPr>
        <p:spPr>
          <a:xfrm>
            <a:off x="324000" y="1905120"/>
            <a:ext cx="8496000" cy="4836960"/>
          </a:xfrm>
          <a:prstGeom prst="rect">
            <a:avLst/>
          </a:prstGeom>
          <a:noFill/>
          <a:ln w="0">
            <a:noFill/>
          </a:ln>
        </p:spPr>
        <p:txBody>
          <a:bodyPr anchor="t">
            <a:normAutofit fontScale="97000"/>
          </a:bodyPr>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uir adecuadamente el ordenamiento formal del estudio de caso (Escuela de postgrado y Facultad). Ver instrucciones al respecto.</a:t>
            </a: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nerle especial atención al </a:t>
            </a:r>
            <a:r>
              <a:rPr b="0" lang="es-CL" sz="2400" spc="-1" strike="noStrike">
                <a:solidFill>
                  <a:srgbClr val="ff0000"/>
                </a:solidFill>
                <a:latin typeface="Arial"/>
              </a:rPr>
              <a:t>resumen del estudio de caso </a:t>
            </a:r>
            <a:r>
              <a:rPr b="0" lang="es-CL" sz="2400" spc="-1" strike="noStrike">
                <a:solidFill>
                  <a:srgbClr val="000000"/>
                </a:solidFill>
                <a:latin typeface="Arial"/>
              </a:rPr>
              <a:t>(ver examen de grado). </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ueden ayudar las indicaciones entregada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idea es que sea un “gancho” o invite a otros a leer estudio de caso</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sugieren más de una revisión</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ctura en voz alta</a:t>
            </a: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visar </a:t>
            </a:r>
            <a:r>
              <a:rPr b="0" lang="es-CL" sz="2400" spc="-1" strike="noStrike">
                <a:solidFill>
                  <a:srgbClr val="ff0000"/>
                </a:solidFill>
                <a:latin typeface="Arial"/>
              </a:rPr>
              <a:t>índice</a:t>
            </a:r>
            <a:r>
              <a:rPr b="0" lang="es-CL" sz="2400" spc="-1" strike="noStrike">
                <a:solidFill>
                  <a:srgbClr val="000000"/>
                </a:solidFill>
                <a:latin typeface="Arial"/>
              </a:rPr>
              <a:t> y </a:t>
            </a:r>
            <a:r>
              <a:rPr b="0" lang="es-CL" sz="2400" spc="-1" strike="noStrike">
                <a:solidFill>
                  <a:srgbClr val="ff0000"/>
                </a:solidFill>
                <a:latin typeface="Arial"/>
              </a:rPr>
              <a:t>ordenamiento</a:t>
            </a:r>
            <a:r>
              <a:rPr b="0" lang="es-CL" sz="2400" spc="-1" strike="noStrike">
                <a:solidFill>
                  <a:srgbClr val="000000"/>
                </a:solidFill>
                <a:latin typeface="Arial"/>
              </a:rPr>
              <a:t> del estudio. Un trabajo preciso es un buen indicador.</a:t>
            </a:r>
            <a:endParaRPr b="0" lang="en-US" sz="2400" spc="-1" strike="noStrike">
              <a:solidFill>
                <a:srgbClr val="000000"/>
              </a:solidFill>
              <a:latin typeface="Arial"/>
            </a:endParaRPr>
          </a:p>
          <a:p>
            <a:pPr lvl="1" marL="720720" indent="-277200">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lgunas precisiones..</a:t>
            </a:r>
            <a:endParaRPr b="0" lang="en-US" sz="4200" spc="-1" strike="noStrike">
              <a:solidFill>
                <a:srgbClr val="000000"/>
              </a:solidFill>
              <a:latin typeface="Arial"/>
            </a:endParaRPr>
          </a:p>
        </p:txBody>
      </p:sp>
      <p:sp>
        <p:nvSpPr>
          <p:cNvPr id="544" name=""/>
          <p:cNvSpPr txBox="1"/>
          <p:nvPr/>
        </p:nvSpPr>
        <p:spPr>
          <a:xfrm>
            <a:off x="178920" y="1905120"/>
            <a:ext cx="8713800" cy="483696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empre hay uno o dos capítulos centrales, éstos son el “</a:t>
            </a:r>
            <a:r>
              <a:rPr b="0" lang="es-CL" sz="2400" spc="-1" strike="noStrike">
                <a:solidFill>
                  <a:srgbClr val="ff0000"/>
                </a:solidFill>
                <a:latin typeface="Arial"/>
              </a:rPr>
              <a:t>valor agregado</a:t>
            </a:r>
            <a:r>
              <a:rPr b="0" lang="es-CL" sz="2400" spc="-1" strike="noStrike">
                <a:solidFill>
                  <a:srgbClr val="000000"/>
                </a:solidFill>
                <a:latin typeface="Arial"/>
              </a:rPr>
              <a:t>” del estudio de caso y por tanto donde hay que poner mucha energí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utelar los “equilibrios” de las secciones y la “amabilidad” con el lecto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r si el estudio de caso tendrá secciones de conclusiones /recomendaciones separadas o una sol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las conclusiones</a:t>
            </a:r>
            <a:r>
              <a:rPr b="0" lang="es-CL" sz="2400" spc="-1" strike="noStrike">
                <a:solidFill>
                  <a:srgbClr val="000000"/>
                </a:solidFill>
                <a:latin typeface="Arial"/>
              </a:rPr>
              <a:t>, siempre volver a los objetivos y/o las eventuales hipótesis que haya tenido el estudio. ¿contesta sus pregunta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conclusiones también es el espacio </a:t>
            </a:r>
            <a:r>
              <a:rPr b="0" lang="es-CL" sz="2400" spc="-1" strike="noStrike">
                <a:solidFill>
                  <a:srgbClr val="ff0000"/>
                </a:solidFill>
                <a:latin typeface="Arial"/>
              </a:rPr>
              <a:t>donde el autor se expresa</a:t>
            </a:r>
            <a:r>
              <a:rPr b="0" lang="es-CL" sz="2400" spc="-1" strike="noStrike">
                <a:solidFill>
                  <a:srgbClr val="000000"/>
                </a:solidFill>
                <a:latin typeface="Arial"/>
              </a:rPr>
              <a:t> con mayor fuerza (versus análisis de evid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lgunas precisiones..</a:t>
            </a:r>
            <a:endParaRPr b="0" lang="en-US" sz="4200" spc="-1" strike="noStrike">
              <a:solidFill>
                <a:srgbClr val="000000"/>
              </a:solidFill>
              <a:latin typeface="Arial"/>
            </a:endParaRPr>
          </a:p>
        </p:txBody>
      </p:sp>
      <p:sp>
        <p:nvSpPr>
          <p:cNvPr id="546" name=""/>
          <p:cNvSpPr txBox="1"/>
          <p:nvPr/>
        </p:nvSpPr>
        <p:spPr>
          <a:xfrm>
            <a:off x="250920" y="1904760"/>
            <a:ext cx="8642160" cy="476388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vertir tiempo/energía/entusiasmo en las secciones finales (muchas veces se finaliza a la rápid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visar la bibliografía que esté completa y correctamente señalada.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aluar el rol y aporte de los </a:t>
            </a:r>
            <a:r>
              <a:rPr b="0" lang="es-CL" sz="2400" spc="-1" strike="noStrike">
                <a:solidFill>
                  <a:srgbClr val="ff0000"/>
                </a:solidFill>
                <a:latin typeface="Arial"/>
              </a:rPr>
              <a:t>anexos</a:t>
            </a:r>
            <a:r>
              <a:rPr b="0" lang="es-CL" sz="2400" spc="-1" strike="noStrike">
                <a:solidFill>
                  <a:srgbClr val="000000"/>
                </a:solidFill>
                <a:latin typeface="Arial"/>
              </a:rPr>
              <a:t>, mucho de lo que se ha trabajado no es necesario que vaya en los anex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SÍ</a:t>
            </a:r>
            <a:r>
              <a:rPr b="0" lang="es-CL" sz="2400" spc="-1" strike="noStrike">
                <a:solidFill>
                  <a:srgbClr val="000000"/>
                </a:solidFill>
                <a:latin typeface="Arial"/>
              </a:rPr>
              <a:t> es pertinente que esté en los anexo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utas de entrevista</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artados metodológicos específico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talle de lesgislaciones /normativa, relevante para entender temas del estudio de caso</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Detalles administrativos</a:t>
            </a:r>
            <a:endParaRPr b="0" lang="en-US" sz="4200" spc="-1" strike="noStrike">
              <a:solidFill>
                <a:srgbClr val="000000"/>
              </a:solidFill>
              <a:latin typeface="Arial"/>
            </a:endParaRPr>
          </a:p>
        </p:txBody>
      </p:sp>
      <p:sp>
        <p:nvSpPr>
          <p:cNvPr id="548" name=""/>
          <p:cNvSpPr txBox="1"/>
          <p:nvPr/>
        </p:nvSpPr>
        <p:spPr>
          <a:xfrm>
            <a:off x="539640" y="1413000"/>
            <a:ext cx="8353440" cy="4752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ÁRGENES</a:t>
            </a:r>
            <a:br>
              <a:rPr sz="1800"/>
            </a:br>
            <a:r>
              <a:rPr b="0" lang="es-CL" sz="1800" spc="-1" strike="noStrike">
                <a:solidFill>
                  <a:srgbClr val="000000"/>
                </a:solidFill>
                <a:latin typeface="Arial"/>
              </a:rPr>
              <a:t>3mm izquierdo</a:t>
            </a:r>
            <a:br>
              <a:rPr sz="1800"/>
            </a:br>
            <a:r>
              <a:rPr b="0" lang="es-CL" sz="1800" spc="-1" strike="noStrike">
                <a:solidFill>
                  <a:srgbClr val="000000"/>
                </a:solidFill>
                <a:latin typeface="Arial"/>
              </a:rPr>
              <a:t>2mm derecho, superior e inferio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PACIADO, TAMAÑO Y TIPO DE LETRA</a:t>
            </a:r>
            <a:br>
              <a:rPr sz="1800"/>
            </a:br>
            <a:r>
              <a:rPr b="0" lang="es-CL" sz="1800" spc="-1" strike="noStrike">
                <a:solidFill>
                  <a:srgbClr val="000000"/>
                </a:solidFill>
                <a:latin typeface="Arial"/>
              </a:rPr>
              <a:t>No existen criterios rígidos sobre tamaño, tipo de letra y espaciado, pero se recomienda lo siguiente:</a:t>
            </a:r>
            <a:br>
              <a:rPr sz="1800"/>
            </a:br>
            <a:r>
              <a:rPr b="0" lang="es-CL" sz="1800" spc="-1" strike="noStrike">
                <a:solidFill>
                  <a:srgbClr val="000000"/>
                </a:solidFill>
                <a:latin typeface="Arial"/>
              </a:rPr>
              <a:t>- Utilizar espaciado entre sencillo y 1.5</a:t>
            </a:r>
            <a:br>
              <a:rPr sz="1800"/>
            </a:br>
            <a:r>
              <a:rPr b="0" lang="es-CL" sz="1800" spc="-1" strike="noStrike">
                <a:solidFill>
                  <a:srgbClr val="000000"/>
                </a:solidFill>
                <a:latin typeface="Arial"/>
              </a:rPr>
              <a:t>- Resumen con espacio simple</a:t>
            </a:r>
            <a:br>
              <a:rPr sz="1800"/>
            </a:br>
            <a:r>
              <a:rPr b="0" lang="es-CL" sz="1800" spc="-1" strike="noStrike">
                <a:solidFill>
                  <a:srgbClr val="000000"/>
                </a:solidFill>
                <a:latin typeface="Arial"/>
              </a:rPr>
              <a:t>- Letras Calibri, Arial o similar.</a:t>
            </a:r>
            <a:br>
              <a:rPr sz="1800"/>
            </a:br>
            <a:r>
              <a:rPr b="0" lang="es-CL" sz="1800" spc="-1" strike="noStrike">
                <a:solidFill>
                  <a:srgbClr val="000000"/>
                </a:solidFill>
                <a:latin typeface="Arial"/>
              </a:rPr>
              <a:t>- Tamaño de letra 12 u 1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RECAUCIONES</a:t>
            </a:r>
            <a:br>
              <a:rPr sz="1800"/>
            </a:br>
            <a:r>
              <a:rPr b="0" lang="es-CL" sz="1800" spc="-1" strike="noStrike">
                <a:solidFill>
                  <a:srgbClr val="000000"/>
                </a:solidFill>
                <a:latin typeface="Arial"/>
              </a:rPr>
              <a:t>- No se pueden utilizar encabezados ni pies de página con gráfica o nombre del estudio.</a:t>
            </a:r>
            <a:br>
              <a:rPr sz="1800"/>
            </a:br>
            <a:r>
              <a:rPr b="0" lang="es-CL" sz="1800" spc="-1" strike="noStrike">
                <a:solidFill>
                  <a:srgbClr val="000000"/>
                </a:solidFill>
                <a:latin typeface="Arial"/>
              </a:rPr>
              <a:t>- No se pueden imprimir ambos lados de las hojas en la version final de empaste de la tesis.</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94920" y="190440"/>
            <a:ext cx="81392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En qué consiste el Examen de Grado?</a:t>
            </a:r>
            <a:endParaRPr b="0" lang="en-US" sz="4200" spc="-1" strike="noStrike">
              <a:solidFill>
                <a:srgbClr val="000000"/>
              </a:solidFill>
              <a:latin typeface="Arial"/>
            </a:endParaRPr>
          </a:p>
        </p:txBody>
      </p:sp>
      <p:sp>
        <p:nvSpPr>
          <p:cNvPr id="550" name=""/>
          <p:cNvSpPr txBox="1"/>
          <p:nvPr/>
        </p:nvSpPr>
        <p:spPr>
          <a:xfrm>
            <a:off x="250920" y="1905120"/>
            <a:ext cx="828360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Calibri"/>
              </a:rPr>
              <a:t>El examen de grado es una instancia de defensa del estudio de caso y no una presentación (no hay ppt) pues los profesores de comisión ya conocen el trabajo del alumno(a). Dura aproximadamente 50 minutos o 1 hora.</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000000"/>
                </a:solidFill>
                <a:latin typeface="Arial"/>
                <a:ea typeface="Calibri"/>
              </a:rPr>
              <a:t>Sólo asisten al examen el (la) alumno(a), los profesores de comisión, la directora de Estudios de caso y/o algunas de las autoridades del Magister (Director, Subdirectora o Jefe de Estudios).</a:t>
            </a:r>
            <a:br>
              <a:rPr sz="2000"/>
            </a:br>
            <a:br>
              <a:rPr sz="2000"/>
            </a:br>
            <a:endParaRPr b="0" lang="en-US" sz="24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179280" y="260280"/>
            <a:ext cx="8964720" cy="612144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ea typeface="Calibri"/>
              </a:rPr>
              <a:t>El examen tiene algunos momentos: </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CL" sz="2000" spc="-1" strike="noStrike">
                <a:solidFill>
                  <a:srgbClr val="000000"/>
                </a:solidFill>
                <a:latin typeface="Arial"/>
                <a:ea typeface="Calibri"/>
              </a:rPr>
              <a:t>1) La primera es una instancia formal donde el alumno lee en voz alta el resumen del estudio de caso y los profesores hacen comentarios y correciones de forma y de fondo a dicho resumen. </a:t>
            </a:r>
            <a:r>
              <a:rPr b="0" lang="es-CL" sz="2000" spc="-1" strike="noStrike">
                <a:solidFill>
                  <a:srgbClr val="5d5d5d"/>
                </a:solidFill>
                <a:latin typeface="Arial"/>
                <a:ea typeface="Calibri"/>
              </a:rPr>
              <a:t>El resumen es lo único que se puede modificar del estudio de caso. En caso que el resumen tenga modificaciones, estas deben ser entregadas en un máximo de 24 horas.</a:t>
            </a:r>
            <a:br>
              <a:rPr sz="2000"/>
            </a:br>
            <a:r>
              <a:rPr b="0" lang="es-CL" sz="2000" spc="-1" strike="noStrike">
                <a:solidFill>
                  <a:srgbClr val="000000"/>
                </a:solidFill>
                <a:latin typeface="Arial"/>
                <a:ea typeface="Calibri"/>
              </a:rPr>
              <a:t>2) El segundo momento del examen consiste en las preguntas y comentarios que los profesores de comisión tengan respecto del estudio de caso y las respuestas y reflexiones que el alumno(a) realice.</a:t>
            </a:r>
            <a:br>
              <a:rPr sz="2000"/>
            </a:br>
            <a:r>
              <a:rPr b="0" lang="es-CL" sz="2000" spc="-1" strike="noStrike">
                <a:solidFill>
                  <a:srgbClr val="000000"/>
                </a:solidFill>
                <a:latin typeface="Arial"/>
                <a:ea typeface="Calibri"/>
              </a:rPr>
              <a:t>3) Una vez que culmina la defensa, el alumno se retira de la sala para que los profesores de comisión se pongan de acuerdo sobre la calificación del alumno. En el MGPP las calificaciones surgen por consenso.</a:t>
            </a:r>
            <a:br>
              <a:rPr sz="2000"/>
            </a:br>
            <a:r>
              <a:rPr b="0" lang="es-CL" sz="2000" spc="-1" strike="noStrike">
                <a:solidFill>
                  <a:srgbClr val="000000"/>
                </a:solidFill>
                <a:latin typeface="Arial"/>
                <a:ea typeface="Calibri"/>
              </a:rPr>
              <a:t>4) Luego el alumno ingresa nuevamente a la sala, se le informa de su calificación final y culmina el examen de grado con el alumno(a) ya con el grado de MGP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50920" y="190440"/>
            <a:ext cx="828360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dvertencias</a:t>
            </a:r>
            <a:endParaRPr b="0" lang="en-US" sz="4200" spc="-1" strike="noStrike">
              <a:solidFill>
                <a:srgbClr val="000000"/>
              </a:solidFill>
              <a:latin typeface="Arial"/>
            </a:endParaRPr>
          </a:p>
        </p:txBody>
      </p:sp>
      <p:sp>
        <p:nvSpPr>
          <p:cNvPr id="553" name=""/>
          <p:cNvSpPr txBox="1"/>
          <p:nvPr/>
        </p:nvSpPr>
        <p:spPr>
          <a:xfrm>
            <a:off x="323640" y="1341000"/>
            <a:ext cx="8569080" cy="532764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guardar adecuadamente la entrega del informe final de acuerdo a los tiempos de los profesores de comisión (posibles viajes, etc.) La recomendación es cumplir fecha fijada y </a:t>
            </a:r>
            <a:r>
              <a:rPr b="0" lang="es-CL" sz="2400" spc="-1" strike="noStrike">
                <a:solidFill>
                  <a:srgbClr val="ff0000"/>
                </a:solidFill>
                <a:latin typeface="Arial"/>
              </a:rPr>
              <a:t>anunciar</a:t>
            </a:r>
            <a:r>
              <a:rPr b="0" lang="es-CL" sz="2400" spc="-1" strike="noStrike">
                <a:solidFill>
                  <a:srgbClr val="000000"/>
                </a:solidFill>
                <a:latin typeface="Arial"/>
              </a:rPr>
              <a:t> o recordar la entrega con antelació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unirse con los profesores para recibir los comentarios finales. No sólo la retroalimentación por e-mai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nes de octubre se debe entregar loa mayor parte de la documentación requerida para el proceso de titulación (</a:t>
            </a:r>
            <a:r>
              <a:rPr b="0" lang="es-CL" sz="2400" spc="-1" strike="noStrike">
                <a:solidFill>
                  <a:srgbClr val="8b8b8b"/>
                </a:solidFill>
                <a:latin typeface="Arial"/>
              </a:rPr>
              <a:t>más detalles más adelante</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es posible rendir el examen de grado si es que hay alguna documentación pendiente, incluido temas de pago.</a:t>
            </a:r>
            <a:endParaRPr b="0" lang="en-US" sz="2400" spc="-1" strike="noStrike">
              <a:solidFill>
                <a:srgbClr val="000000"/>
              </a:solidFill>
              <a:latin typeface="Arial"/>
            </a:endParaRPr>
          </a:p>
        </p:txBody>
      </p:sp>
      <p:sp>
        <p:nvSpPr>
          <p:cNvPr id="554" name="Line 4"/>
          <p:cNvSpPr/>
          <p:nvPr/>
        </p:nvSpPr>
        <p:spPr>
          <a:xfrm>
            <a:off x="0" y="616572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5" name="Line 4"/>
          <p:cNvSpPr/>
          <p:nvPr/>
        </p:nvSpPr>
        <p:spPr>
          <a:xfrm>
            <a:off x="-36360" y="588492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Objetivos de esta sesión</a:t>
            </a: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evisar la calendarización de los estudios de cas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tregar lineamientos sobre el informe 90% que se avecina</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Line 4"/>
          <p:cNvSpPr/>
          <p:nvPr/>
        </p:nvSpPr>
        <p:spPr>
          <a:xfrm>
            <a:off x="1357200" y="18572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12" name="Line 4"/>
          <p:cNvSpPr/>
          <p:nvPr/>
        </p:nvSpPr>
        <p:spPr>
          <a:xfrm>
            <a:off x="1357200" y="16430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LENDARIO</a:t>
            </a:r>
            <a:endParaRPr b="0" lang="en-US" sz="4200" spc="-1" strike="noStrike">
              <a:solidFill>
                <a:srgbClr val="000000"/>
              </a:solidFill>
              <a:latin typeface="Arial"/>
            </a:endParaRPr>
          </a:p>
        </p:txBody>
      </p:sp>
      <p:sp>
        <p:nvSpPr>
          <p:cNvPr id="514" name="PlaceHolder 2"/>
          <p:cNvSpPr>
            <a:spLocks noGrp="1"/>
          </p:cNvSpPr>
          <p:nvPr>
            <p:ph/>
          </p:nvPr>
        </p:nvSpPr>
        <p:spPr>
          <a:xfrm>
            <a:off x="1042560" y="1196640"/>
            <a:ext cx="7705800" cy="5327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MES DE MARZ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Revisión de los borradores de propuestas de Estudios de caso para enviar a la escuela de postgrado y escoger profesor guí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Fines de marz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Inscripción del tema de tesis ante escuela de postgr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Primeros días de JUNI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Primer informe de avance (3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8b8b8b"/>
                </a:solidFill>
                <a:latin typeface="Arial"/>
              </a:rPr>
              <a:t>Primera semana de AGOSTO </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Presentación oral y 2do Informe (6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Fecha recomendada: </a:t>
            </a:r>
            <a:r>
              <a:rPr b="0" lang="es-ES" sz="2100" spc="-1" strike="noStrike">
                <a:solidFill>
                  <a:srgbClr val="ff0000"/>
                </a:solidFill>
                <a:latin typeface="Arial"/>
              </a:rPr>
              <a:t>1 de noviembre (hay tiempo para correcciones e intercambios entre profesores y alumno/a)</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Fecha Final</a:t>
            </a:r>
            <a:r>
              <a:rPr b="0" lang="es-ES" sz="2100" spc="-1" strike="noStrike">
                <a:solidFill>
                  <a:srgbClr val="ff0000"/>
                </a:solidFill>
                <a:latin typeface="Arial"/>
              </a:rPr>
              <a:t>: Mediados de NOVIEMBRE (fecha por confirmar para que no se tope con semana de pruebas)</a:t>
            </a:r>
            <a:endParaRPr b="0" lang="en-US" sz="2100" spc="-1" strike="noStrike">
              <a:solidFill>
                <a:srgbClr val="000000"/>
              </a:solidFill>
              <a:latin typeface="Arial"/>
            </a:endParaRPr>
          </a:p>
          <a:p>
            <a:pPr lvl="1" marL="743040" indent="-285840">
              <a:lnSpc>
                <a:spcPct val="80000"/>
              </a:lnSpc>
              <a:spcBef>
                <a:spcPts val="700"/>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d0d0d"/>
                </a:solidFill>
                <a:latin typeface="Arial"/>
              </a:rPr>
              <a:t>Versión final para comentarios y solicitud de Examen de Grado</a:t>
            </a: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26 al 29 de DICIEMBRE DE 2011</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amen de grado del Estudio de Caso</a:t>
            </a:r>
            <a:endParaRPr b="0" lang="en-US" sz="2000" spc="-1" strike="noStrike">
              <a:solidFill>
                <a:srgbClr val="000000"/>
              </a:solidFill>
              <a:latin typeface="Arial"/>
            </a:endParaRPr>
          </a:p>
        </p:txBody>
      </p:sp>
      <p:sp>
        <p:nvSpPr>
          <p:cNvPr id="515" name="AutoShape 4"/>
          <p:cNvSpPr/>
          <p:nvPr/>
        </p:nvSpPr>
        <p:spPr>
          <a:xfrm>
            <a:off x="468360" y="1628640"/>
            <a:ext cx="485640" cy="4942080"/>
          </a:xfrm>
          <a:prstGeom prst="downArrow">
            <a:avLst>
              <a:gd name="adj1" fmla="val 50000"/>
              <a:gd name="adj2" fmla="val 254411"/>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90%</a:t>
            </a:r>
            <a:endParaRPr b="0" lang="en-US" sz="4200" spc="-1" strike="noStrike">
              <a:solidFill>
                <a:srgbClr val="000000"/>
              </a:solidFill>
              <a:latin typeface="Arial"/>
            </a:endParaRPr>
          </a:p>
        </p:txBody>
      </p:sp>
      <p:sp>
        <p:nvSpPr>
          <p:cNvPr id="517"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Informe preliminar-final o informe final para comentarios (denominado del 90%)</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8"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9" name="Rectangle 5"/>
          <p:cNvSpPr/>
          <p:nvPr/>
        </p:nvSpPr>
        <p:spPr>
          <a:xfrm>
            <a:off x="395280" y="5950080"/>
            <a:ext cx="720108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0"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1" name="Text Box 7"/>
          <p:cNvSpPr/>
          <p:nvPr/>
        </p:nvSpPr>
        <p:spPr>
          <a:xfrm>
            <a:off x="7451640" y="544500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90%</a:t>
            </a:r>
            <a:endParaRPr b="0" lang="en-US" sz="1800" spc="-1" strike="noStrike">
              <a:solidFill>
                <a:srgbClr val="336666"/>
              </a:solidFill>
              <a:latin typeface="Arial"/>
            </a:endParaRPr>
          </a:p>
        </p:txBody>
      </p:sp>
      <p:sp>
        <p:nvSpPr>
          <p:cNvPr id="522"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90%</a:t>
            </a:r>
            <a:endParaRPr b="0" lang="en-US" sz="4200" spc="-1" strike="noStrike">
              <a:solidFill>
                <a:srgbClr val="000000"/>
              </a:solidFill>
              <a:latin typeface="Arial"/>
            </a:endParaRPr>
          </a:p>
        </p:txBody>
      </p:sp>
      <p:sp>
        <p:nvSpPr>
          <p:cNvPr id="524" name=""/>
          <p:cNvSpPr txBox="1"/>
          <p:nvPr/>
        </p:nvSpPr>
        <p:spPr>
          <a:xfrm>
            <a:off x="1523880" y="1905120"/>
            <a:ext cx="7010640" cy="466704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el borrador final del estudio de caso para comentarios de los 3 profesores de comisión.</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incorporan comentarios y recomendaciones que hayan surgido en el informe y presentación del 60%</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dacción en pasado (es un trabajo terminado, ya no en curso)</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Bibliografía completa</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Claridad de cuáles serán los anexos (no es necesario que vayan en este informe)</a:t>
            </a:r>
            <a:endParaRPr b="0" lang="en-US" sz="2400" spc="-1" strike="noStrike">
              <a:solidFill>
                <a:srgbClr val="000000"/>
              </a:solidFill>
              <a:latin typeface="Arial"/>
            </a:endParaRPr>
          </a:p>
        </p:txBody>
      </p:sp>
      <p:sp>
        <p:nvSpPr>
          <p:cNvPr id="525"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nálisis de contenido</a:t>
            </a:r>
            <a:endParaRPr b="0" lang="en-US" sz="4200" spc="-1" strike="noStrike">
              <a:solidFill>
                <a:srgbClr val="000000"/>
              </a:solidFill>
              <a:latin typeface="Arial"/>
            </a:endParaRPr>
          </a:p>
        </p:txBody>
      </p:sp>
      <p:sp>
        <p:nvSpPr>
          <p:cNvPr id="527" name=""/>
          <p:cNvSpPr txBox="1"/>
          <p:nvPr/>
        </p:nvSpPr>
        <p:spPr>
          <a:xfrm>
            <a:off x="250560" y="1413000"/>
            <a:ext cx="8713800" cy="5256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Análisis de Contenido como “la técnica destinada an formular, a partir de ciertos datos, inferencias reproducibles y válidas que puedan aplicarse a un contexto” (Krippendorff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investigador en una triple perspectiva: </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Los datos tal y como se comunican al analista.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El contexto de los datos.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La forma en que el conocimiento del analista obliga a dividir la realidad.</a:t>
            </a:r>
            <a:endParaRPr b="0" lang="en-US" sz="2800" spc="-1" strike="noStrike">
              <a:solidFill>
                <a:srgbClr val="000000"/>
              </a:solidFill>
              <a:latin typeface="Arial"/>
            </a:endParaRPr>
          </a:p>
        </p:txBody>
      </p:sp>
      <p:sp>
        <p:nvSpPr>
          <p:cNvPr id="528" name="Line 4"/>
          <p:cNvSpPr/>
          <p:nvPr/>
        </p:nvSpPr>
        <p:spPr>
          <a:xfrm>
            <a:off x="0" y="40464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nálisis de contenido</a:t>
            </a:r>
            <a:endParaRPr b="0" lang="en-US" sz="4200" spc="-1" strike="noStrike">
              <a:solidFill>
                <a:srgbClr val="000000"/>
              </a:solidFill>
              <a:latin typeface="Arial"/>
            </a:endParaRPr>
          </a:p>
        </p:txBody>
      </p:sp>
      <p:pic>
        <p:nvPicPr>
          <p:cNvPr id="530" name="Picture 2" descr=""/>
          <p:cNvPicPr/>
          <p:nvPr/>
        </p:nvPicPr>
        <p:blipFill>
          <a:blip r:embed="rId1"/>
          <a:stretch/>
        </p:blipFill>
        <p:spPr>
          <a:xfrm>
            <a:off x="0" y="2214720"/>
            <a:ext cx="9144000" cy="4309920"/>
          </a:xfrm>
          <a:prstGeom prst="rect">
            <a:avLst/>
          </a:prstGeom>
          <a:ln w="0">
            <a:noFill/>
          </a:ln>
        </p:spPr>
      </p:pic>
      <p:sp>
        <p:nvSpPr>
          <p:cNvPr id="531" name="Line 4"/>
          <p:cNvSpPr/>
          <p:nvPr/>
        </p:nvSpPr>
        <p:spPr>
          <a:xfrm>
            <a:off x="0" y="40464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nálisis de contenido</a:t>
            </a:r>
            <a:endParaRPr b="0" lang="en-US" sz="4200" spc="-1" strike="noStrike">
              <a:solidFill>
                <a:srgbClr val="000000"/>
              </a:solidFill>
              <a:latin typeface="Arial"/>
            </a:endParaRPr>
          </a:p>
        </p:txBody>
      </p:sp>
      <p:sp>
        <p:nvSpPr>
          <p:cNvPr id="533" name=""/>
          <p:cNvSpPr txBox="1"/>
          <p:nvPr/>
        </p:nvSpPr>
        <p:spPr>
          <a:xfrm>
            <a:off x="250560" y="1413000"/>
            <a:ext cx="8713800" cy="5256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iesg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Sacar la palabra/frase de su contexto.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Arbitrariedad subjetiva en la categorización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torgar primacía a lo cuantitativo sobre lo cualitativo en la interpretación de los resultado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Line 4"/>
          <p:cNvSpPr/>
          <p:nvPr/>
        </p:nvSpPr>
        <p:spPr>
          <a:xfrm>
            <a:off x="0" y="40464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nálisis de contenido</a:t>
            </a:r>
            <a:endParaRPr b="0" lang="en-US" sz="4200" spc="-1" strike="noStrike">
              <a:solidFill>
                <a:srgbClr val="000000"/>
              </a:solidFill>
              <a:latin typeface="Arial"/>
            </a:endParaRPr>
          </a:p>
        </p:txBody>
      </p:sp>
      <p:sp>
        <p:nvSpPr>
          <p:cNvPr id="536" name=""/>
          <p:cNvSpPr txBox="1"/>
          <p:nvPr/>
        </p:nvSpPr>
        <p:spPr>
          <a:xfrm>
            <a:off x="250560" y="1413000"/>
            <a:ext cx="8713800" cy="5256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ategorización /identificación de nudos /análisis tiene ciertas </a:t>
            </a:r>
            <a:r>
              <a:rPr b="0" lang="es-CL" sz="3000" spc="-1" strike="noStrike">
                <a:solidFill>
                  <a:srgbClr val="ff0000"/>
                </a:solidFill>
                <a:latin typeface="Arial"/>
              </a:rPr>
              <a:t>REGLA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La presencia o ausencia de un determinado código</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La frecuencia con que aparece</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Intensidad (grados en que aparece)</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Contingencia (aparecen dos o más códigos en una unidad de contexto)</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El orden en que aparecen los código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La densidad (por palabras en relación al tot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ine 4"/>
          <p:cNvSpPr/>
          <p:nvPr/>
        </p:nvSpPr>
        <p:spPr>
          <a:xfrm>
            <a:off x="0" y="40464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 Angelica Pavez</cp:lastModifiedBy>
  <dcterms:modified xsi:type="dcterms:W3CDTF">2011-09-26T16:10:03Z</dcterms:modified>
  <cp:revision>101</cp:revision>
  <dc:subject/>
  <dc:title>TALLER INTRODUCTORIO  ESTUDIOS DE CASO</dc:title>
</cp:coreProperties>
</file>