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1226-CAF0-48F5-AA27-405F6B39F21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6DCA-089A-4E97-8AFE-F1C6E0733AA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4040-F493-47E3-9AD3-3133BB8687B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4AD9-5E99-4F6E-B603-F70AB172DB6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D70C-DB7C-4B1E-B396-0DB907A0DBF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8D50-1DB3-40D8-BBFD-BBC7485B5EF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8755-B423-421E-A388-213111E8143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541F-A352-4081-A37E-F57EFD13821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A145-A19E-4447-AAC3-AB8B02A9DFA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5446-6013-4E40-A7E8-A7417A2F5ED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F854-B39A-48AD-8E56-554DBF754FD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FD8D-798C-49F4-B35C-17F4C2C0B3E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7715-1838-4359-830D-9727DEBE76F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F698-4952-474F-B6B7-B4FC93241A4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3970-3D03-4B9B-940E-050BBD88877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071C-AC5D-4FE6-B66B-FE9907B7AAF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9B3D-C03D-4A28-97D0-40D66F21436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C768-F9EA-48A5-B8BF-7049D7D00E2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750A-9A6A-4D68-AF14-FF8573476EA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8D05-5BF4-4C2E-B490-A09B7831F50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A8ED-99C2-4877-8D6D-B71C6917602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104D8-46E6-475F-ABDE-D91A2A6DA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EBC56-7A0B-433A-84F0-576C81C1F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545B8-139C-4DAD-8301-032CFD7854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BD815-3943-4289-B053-19B9D25E5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BB8CEC-383F-4CD5-B4D8-D9D3B7DD53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6A76E-775A-493F-8B49-8B57091BFA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8CD12B-5D37-4DB8-81FC-5152FEEADF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F3CF9-502F-49BE-98EC-B902B0E9D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352E7-52D2-438A-9D83-D3C926965B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FF369B-1868-49FD-A3E4-35DBBFD33D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2E0B37-6ADD-4AEA-BD5F-4D6D6599BF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B97A9E-4C46-4054-8B19-59648A51BE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4748C-25B3-4A20-B14C-AC7AE47CE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8B2F2C-FD90-46F6-806D-6FDFC18825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3CE9A9-A996-4AFB-B309-7F5978ECA5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7694E6-BF53-4C54-A8F3-A3B46D8B5B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01D957-BA18-41F1-B699-A88F305022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3621A4-5E40-4567-A7B7-5A71633D4A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E209C6-9000-42D6-8512-83A7C25B8C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8CA5CA-9E1E-41BD-9D87-3D159A644C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BE3EE1-7037-4776-AA7C-10CA655D4F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1066E1-14FB-4B55-8EE5-860459254E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55F05A-22A8-4558-BAA5-4D2D85DFEF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79521-93DA-49B2-B8BB-92CEB7EB5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440072-D058-4908-93D6-47CE970A3E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6A2DAA-E63E-462D-A7B2-C3DA153435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036F1A-CA70-43B1-8605-995D6FF4A4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9D5263-0901-4E54-9F42-073AD869DE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1C108C-B018-499C-A62C-0DCF1BC6C2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1F7979-C44A-4C14-8886-5DC8B03C9C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CCE388-0405-4CD2-8F44-F438819B98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9A10AA-4953-4D24-B52F-4CCE4CD7F5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685D62-A9DB-43CB-9A64-1FC7CB3C97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38BF74-27DC-43F4-A4CF-3A4E2F0EF7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BAB42-F7B4-41C8-9D06-1D70F2A15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FA2AE4-395E-456C-86D2-2C046A9B22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6014A2-7A61-435A-A874-F0A26E3FA1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BCE78E-12B9-4807-9405-2189166994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C3C2A3-1157-4A26-97FC-7C26A3DDC0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F8B8F5-E59E-48F5-8103-0D98A7FECB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93040E-91A6-43A9-BA27-41BEC4B7A4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0EA4E0-59AA-4751-B5BF-994A95F1B7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AD2D2C-0C87-4A34-8A8A-9EE57CB061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D674C0-4832-4E14-A74C-F8340AB951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8B3C53-B82A-4368-97BF-10C5A6CD15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5905E-4416-48A4-BC9A-E592C7184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3A06E8-FE35-489E-A5D4-6E23E87B23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61C447-DFBC-4BA7-B465-A0178CD599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F7CA6B-D7C2-4377-80D4-EBBC2087AD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C816D0-B7BA-4245-BAE6-55A6C11630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0A14D9-2467-4C3C-A67B-F94244B1690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8C1627-2A04-48A1-A4A3-71E42018235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8EF1E3-9C4A-4594-8ACF-2B17844B19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5AA497-B9E7-47CD-90C5-0FDC371232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7645EB-F274-490F-B51E-142D028DCF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C72E71-BC18-448C-8EF7-27C40B1166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D6019-0228-4395-8141-76520DB6B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AC0965-A9E8-4A33-B054-2B5587F366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97B8D0-E7E3-4657-AFBE-4EF75F2693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4F6006-D3D2-4DD6-A4CD-F3BE2DB142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845E60-5B54-4D72-8FA0-554FD01A5A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CC7E626-3BC4-47BE-B835-D72BF4A9EE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8DCE61C-8DE5-4921-99E4-8BBEE91210D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B4B6F5-C7CB-4F51-ADB7-9BF80E27B5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00FF50F-CDDF-4F66-A4C4-28F1F43B93F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B42996-7DBF-4073-B70F-68C368CBF5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4E9C1C-794C-47F4-AE56-06D4465770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6F114-F84C-453F-9ECB-56B2FDFB2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7EBBC7-94AC-4ABB-82F2-ED495162AB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70553EB-C844-4AEA-8E9E-93CE8BDE47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EFA1B5-215D-4ACD-8307-41FFE9C64F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EFE9C0-F292-452E-86E7-247C311153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DA42FA-78DC-47F1-B3E5-98E6FE3B1D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4050D7-4E01-41EB-BD9B-DDBF425177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A61B03-4386-4F01-8464-3DA96BA74FF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863B48E-641F-4230-A8E7-9CA6AB3DA9B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F34E248-3EB3-498C-99F6-2A91AC516ED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DB3AC-4036-4E48-9680-48F4EB0AB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E2E7A-14BA-49FB-9B49-CE8A7C725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52A30-3EF8-4CE4-8F10-4732FE7B4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962FC-3310-46F5-95B6-376410967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E2D69-5279-40AA-88E4-FC3479C31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FBAA1-D873-4279-977E-51A339F7D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0F117-D7F5-444F-9800-6EEB22DC8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C9D35-5BB7-4494-84E5-221E99BFF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4199D-AD6A-47CA-82EE-A4E2CD446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67DF7C-7500-43EC-A1A1-A79D8D9303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6F1B3-2AFA-4B66-903D-6FFED69F7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09838-4636-4AD2-85E7-D91050988B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E23598-A092-4E3B-AF6F-0DD79047A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9B2066-B42F-4F44-810E-BC1C5F62C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1BE36-84C9-42FC-A698-62DF7EC6C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E4744-D16A-4252-95EC-C213FC779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DEB0D-5640-4EDA-AC50-94928DBF3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A12DE-7858-47F6-AE71-012C8B275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460A3-2E9D-4240-92BF-01EBCD7A6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14AEA-A2FA-4986-9BE9-4EBD9ADDE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858554-9C79-4A40-ADBA-232DB3921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02D959-4016-4410-9E76-77D7399C4B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AD4BE0-6C73-434C-97C6-15036DC0F3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1F2EE9-6676-49A4-A98F-54481F46E5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1B8129-E8F3-4E9D-B8E4-33BECE8B2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DAAE-08AE-40EC-8390-CD9EDD58A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41296F-D133-458C-9037-ED3FA8F39D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985491-DD56-472F-A568-5D357AB35E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C97866-204E-4E6F-A926-48DAF9AA84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6CE97-83B3-4993-9E6B-0C8F9A0FF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CA6CB-6160-4C4E-86B9-7B0E41E3B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BF589-A904-430F-A853-48171FD46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ADF60-10FD-4742-8866-C4BD304BE5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7ACA47-5B54-436C-9677-CE3611BF8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07A7E8-7F40-4BA6-ABE0-D64E2B887B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F26DE0-5100-423B-8027-B99F828351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65226-F123-4D01-B433-EEFBD8854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D8CC7D-7CBA-4B34-9BA3-468D52484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CE9BF-714A-4158-A9BC-7EB7E1FCD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4EA43F-5EAD-4F0D-BD53-C99F27CE5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4193BD-86FB-4106-90E2-07B38BAEE4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E7E9D-E903-47D0-8220-53C4E82FC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EF472B-A4EB-47EA-850B-F700AC0FC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C2B15-D29D-40F7-9FAC-851877A1B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21AD8-C7C4-4060-B209-DF6B6B2DC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E3503E-153E-4E3F-9717-E2822144A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F875C1-6924-4C66-BEEC-E2D0A39A3C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92630-F011-45BD-B5BC-03C711664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C1272F-0804-4BD9-9327-8D7506E7F1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48680F-7CEF-48D1-A78D-0502480B3B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47C358-5A6E-4346-9281-3A512CF817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30B317-A472-4F30-BBE0-61F217DF95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171008-28A9-4C3C-943E-86B52F24C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D44A00-8597-46BA-B08A-93860453DE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D8BB9A-2F24-482A-988D-BFB1A3D42E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2F605-D00F-4327-8E85-037A6F8E4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8483B-F4CE-4921-BDDC-B0923D7C1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E9360-7052-4C6C-AC3A-D4C96BD70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435FD-0399-4D6D-9F23-5A747FDAA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0312F1-0595-478F-822E-B977B0C69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F395F6-7DD4-46E7-A6A0-45A387168F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7F013E-E543-44E5-979B-0EF9B0D000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32087D-D416-4C3C-85A6-489DE8E39A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8AFF7C-4E9A-40F0-B84B-D1D7F62DD3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9D93C-5668-470A-8A02-1B4203EDE5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060901-A8A9-4E87-9252-C24F09EF44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686D8E-C239-4CF0-AC77-60732CBAC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81FD4F-64C6-4C83-9279-78F26BFE5E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051C8-D2A8-4E1C-92F6-969E2E037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4D9A-1A90-4FCC-A2CF-CFACC7E1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274F3-0ABA-4642-8D60-1F7D101D99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8FB83-C7C6-4D97-BAC9-8A6D003474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202F4B-E95B-48AF-9739-BBA746C2A9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FF9D4D-E623-44CB-9F5F-DFCCC76A0D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9C577F-65BF-4C40-B675-BD190C3C2A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9937A5-A572-48C1-AC05-47254DC014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04B73A-2A2D-4EE9-AB54-C8BF034C78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DE8FC1-BD1D-454A-AF3C-E3D5F0333C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450001-9E7C-45DA-9A2F-67219F9969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4BE59A-2B98-4A6D-B521-D3046B2FD8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ECFC9-049F-42F0-899A-73C5E3600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064F1-EE27-4B85-AB90-AB0C8D0A1E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94E10-985D-411B-BB94-02074634C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F5725A-4DFE-42B5-82C0-2D85A2EFA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D75D16-6448-4DAA-B3FD-CDE9A96820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F1613-F619-47A5-97AE-B331150892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F091AB-D602-4FC2-ADAB-205F760AF1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41D1DA-6119-458D-9A21-3C344BA716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8A3629-9897-43E1-8045-6AB7DDD474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697204-FF0D-4198-B4E0-9BDB52A410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54318D-95F7-4160-B3D9-6FB483F6CC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DD3F-ED6B-46E1-AD44-0E242DA9141B}"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BE14-C306-4DE7-8D88-98A66536AD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3FFD-94D9-4248-BF69-35F83CE9F00E}"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666F-3315-478C-BE36-F74559FA531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F915-691D-46ED-9FA7-AF5C2CBAE01F}"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6ECF-6852-4F17-BC75-3BB605DA6BB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3373-AF57-4684-9728-9C49CC8836C4}"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84DB-EB8B-481A-99BC-E7F2AD3E6CC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0901-A3C6-4875-A84D-6F68A4FDDD12}"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FC2F-7962-47F0-BE68-10680B5E649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4F47-BAEF-499F-A62B-A5AE4F55A059}" type="datetime">
              <a:rPr b="0" lang="es-ES" sz="1000" spc="-1" strike="noStrike">
                <a:solidFill>
                  <a:srgbClr val="336666"/>
                </a:solidFill>
                <a:latin typeface="Times New Roman"/>
              </a:rPr>
              <a:t>31/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44D4-63E9-4398-A183-DC854ADCB18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458B-B71A-4F43-965E-D6B030D89695}"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BB99-593B-49F8-ACAB-24718106E99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31A7-801E-4881-A76F-11D85BF08AA8}"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97EC-226D-4198-89C9-D3BF6671E9E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3964-A816-4C42-AD55-988745BFE487}"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B35B-9AD4-4BC6-8904-3DC9CE914BE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8EAB-76CB-4BAE-B1BF-D45736263212}"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8CE2-54AC-4C98-9055-59F022EC2C4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0016-6B74-4612-9F09-146E0071E569}"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7E5A-5AE5-4796-9F94-54F20E3F636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EC49-34AD-4D5B-9B02-FB998DE4B524}"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D584-BD99-41A3-940A-4C6221A388C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3A9C-DBEC-42B7-A1D0-99D1ED9734FC}"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40DF-1A86-405D-B73E-D1C4F6D7C21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C119-42E3-4670-BFBD-FAD9823D2A81}"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4837-ECA9-450E-A3DF-33D984F2365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59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647"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649"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1"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3"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6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6"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57"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658"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9"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60"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661"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2"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0">
                                            <p:txEl>
                                              <p:pRg st="0" end="0"/>
                                            </p:txEl>
                                          </p:spTgt>
                                        </p:tgtEl>
                                        <p:attrNameLst>
                                          <p:attrName>style.visibility</p:attrName>
                                        </p:attrNameLst>
                                      </p:cBhvr>
                                      <p:to>
                                        <p:strVal val="visible"/>
                                      </p:to>
                                    </p:set>
                                    <p:anim calcmode="lin" valueType="num">
                                      <p:cBhvr additive="base">
                                        <p:cTn id="7"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0">
                                            <p:txEl>
                                              <p:pRg st="2" end="2"/>
                                            </p:txEl>
                                          </p:spTgt>
                                        </p:tgtEl>
                                        <p:attrNameLst>
                                          <p:attrName>style.visibility</p:attrName>
                                        </p:attrNameLst>
                                      </p:cBhvr>
                                      <p:to>
                                        <p:strVal val="visible"/>
                                      </p:to>
                                    </p:set>
                                    <p:anim calcmode="lin" valueType="num">
                                      <p:cBhvr additive="base">
                                        <p:cTn id="1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0">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61"/>
                                        </p:tgtEl>
                                        <p:attrNameLst>
                                          <p:attrName>style.visibility</p:attrName>
                                        </p:attrNameLst>
                                      </p:cBhvr>
                                      <p:to>
                                        <p:strVal val="visible"/>
                                      </p:to>
                                    </p:set>
                                    <p:anim calcmode="lin" valueType="num">
                                      <p:cBhvr additive="base">
                                        <p:cTn id="17" dur="500" fill="hold"/>
                                        <p:tgtEl>
                                          <p:spTgt spid="661"/>
                                        </p:tgtEl>
                                        <p:attrNameLst>
                                          <p:attrName>ppt_x</p:attrName>
                                        </p:attrNameLst>
                                      </p:cBhvr>
                                      <p:tavLst>
                                        <p:tav tm="0">
                                          <p:val>
                                            <p:strVal val="#ppt_x"/>
                                          </p:val>
                                        </p:tav>
                                        <p:tav tm="100000">
                                          <p:val>
                                            <p:strVal val="#ppt_x"/>
                                          </p:val>
                                        </p:tav>
                                      </p:tavLst>
                                    </p:anim>
                                    <p:anim calcmode="lin" valueType="num">
                                      <p:cBhvr additive="base">
                                        <p:cTn id="18"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60">
                                            <p:txEl>
                                              <p:pRg st="4" end="4"/>
                                            </p:txEl>
                                          </p:spTgt>
                                        </p:tgtEl>
                                        <p:attrNameLst>
                                          <p:attrName>style.visibility</p:attrName>
                                        </p:attrNameLst>
                                      </p:cBhvr>
                                      <p:to>
                                        <p:strVal val="visible"/>
                                      </p:to>
                                    </p:set>
                                    <p:anim calcmode="lin" valueType="num">
                                      <p:cBhvr additive="base">
                                        <p:cTn id="23"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6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62"/>
                                        </p:tgtEl>
                                        <p:attrNameLst>
                                          <p:attrName>style.visibility</p:attrName>
                                        </p:attrNameLst>
                                      </p:cBhvr>
                                      <p:to>
                                        <p:strVal val="visible"/>
                                      </p:to>
                                    </p:set>
                                    <p:anim calcmode="lin" valueType="num">
                                      <p:cBhvr additive="base">
                                        <p:cTn id="27" dur="500" fill="hold"/>
                                        <p:tgtEl>
                                          <p:spTgt spid="662"/>
                                        </p:tgtEl>
                                        <p:attrNameLst>
                                          <p:attrName>ppt_x</p:attrName>
                                        </p:attrNameLst>
                                      </p:cBhvr>
                                      <p:tavLst>
                                        <p:tav tm="0">
                                          <p:val>
                                            <p:strVal val="#ppt_x"/>
                                          </p:val>
                                        </p:tav>
                                        <p:tav tm="100000">
                                          <p:val>
                                            <p:strVal val="#ppt_x"/>
                                          </p:val>
                                        </p:tav>
                                      </p:tavLst>
                                    </p:anim>
                                    <p:anim calcmode="lin" valueType="num">
                                      <p:cBhvr additive="base">
                                        <p:cTn id="28"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60">
                                            <p:txEl>
                                              <p:pRg st="6" end="6"/>
                                            </p:txEl>
                                          </p:spTgt>
                                        </p:tgtEl>
                                        <p:attrNameLst>
                                          <p:attrName>style.visibility</p:attrName>
                                        </p:attrNameLst>
                                      </p:cBhvr>
                                      <p:to>
                                        <p:strVal val="visible"/>
                                      </p:to>
                                    </p:set>
                                    <p:anim calcmode="lin" valueType="num">
                                      <p:cBhvr additive="base">
                                        <p:cTn id="33"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60">
                                            <p:txEl>
                                              <p:pRg st="6" end="6"/>
                                            </p:txEl>
                                          </p:spTgt>
                                        </p:tgtEl>
                                        <p:attrNameLst>
                                          <p:attrName>style.visibility</p:attrName>
                                        </p:attrNameLst>
                                      </p:cBhvr>
                                      <p:to>
                                        <p:strVal val="visible"/>
                                      </p:to>
                                    </p:set>
                                    <p:anim calcmode="lin" valueType="num">
                                      <p:cBhvr additive="base">
                                        <p:cTn id="39"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66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0000"/>
                </a:solidFill>
                <a:latin typeface="Arial"/>
              </a:rPr>
              <a:t>Entonces operacionalizar es..</a:t>
            </a:r>
            <a:endParaRPr b="0" lang="en-US" sz="4200" spc="-1" strike="noStrike">
              <a:solidFill>
                <a:srgbClr val="000000"/>
              </a:solidFill>
              <a:latin typeface="Arial"/>
            </a:endParaRPr>
          </a:p>
        </p:txBody>
      </p:sp>
      <p:sp>
        <p:nvSpPr>
          <p:cNvPr id="668" name=""/>
          <p:cNvSpPr txBox="1"/>
          <p:nvPr/>
        </p:nvSpPr>
        <p:spPr>
          <a:xfrm>
            <a:off x="394920" y="1905120"/>
            <a:ext cx="84978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eracionalizar es definir las variables para que sean medibles y manejables, significa definir operativamente.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investigador necesita traducir los conceptos (dimensiones) a hechos observables para lograr su medición u observacio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finiciones señalan las operaciones que se tienen que realizar para medir la variable, de forma tal, que sean susceptibles de observación y cuantificac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la operacionalizacion permite “transparentar” la manera en que están entiendo los tem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ás ejemplos</a:t>
            </a:r>
            <a:endParaRPr b="0" lang="en-US" sz="4200" spc="-1" strike="noStrike">
              <a:solidFill>
                <a:srgbClr val="000000"/>
              </a:solidFill>
              <a:latin typeface="Arial"/>
            </a:endParaRPr>
          </a:p>
        </p:txBody>
      </p:sp>
      <p:sp>
        <p:nvSpPr>
          <p:cNvPr id="67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1" name=""/>
          <p:cNvGraphicFramePr/>
          <p:nvPr/>
        </p:nvGraphicFramePr>
        <p:xfrm>
          <a:off x="250920" y="692280"/>
          <a:ext cx="8712000" cy="5573520"/>
        </p:xfrm>
        <a:graphic>
          <a:graphicData uri="http://schemas.openxmlformats.org/drawingml/2006/table">
            <a:tbl>
              <a:tblPr/>
              <a:tblGrid>
                <a:gridCol w="1743120"/>
                <a:gridCol w="1741320"/>
                <a:gridCol w="1743120"/>
                <a:gridCol w="1743120"/>
                <a:gridCol w="174132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operacion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nstitucionalidad</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quellos aspectos formales o informales que contribuyen a que existan límites y regla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Reglas institucionales</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ácticas comune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 la normativa vigen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ón de la normativ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dentificación de reglas básicas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Percepción de reglas en la institución</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acciones o actitudes sobre el tema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riterios subyacentes de la acción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2" name=""/>
          <p:cNvGraphicFramePr/>
          <p:nvPr/>
        </p:nvGraphicFramePr>
        <p:xfrm>
          <a:off x="250920" y="692280"/>
          <a:ext cx="8569080" cy="5573520"/>
        </p:xfrm>
        <a:graphic>
          <a:graphicData uri="http://schemas.openxmlformats.org/drawingml/2006/table">
            <a:tbl>
              <a:tblPr/>
              <a:tblGrid>
                <a:gridCol w="2141280"/>
                <a:gridCol w="2143440"/>
                <a:gridCol w="2141280"/>
                <a:gridCol w="214308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Mayor o menor posibilidad de tomar contacto co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geogràf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cultural</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conòm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Tiempo medido en horas y minutos que una persona se demora en trasladars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l sistema de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sobre la atencion en el sistem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on sobre la posibilidad de tomar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uànto dinero gasta para recibir el servicio</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a:t>
            </a:r>
            <a:endParaRPr b="0" lang="en-US" sz="4200" spc="-1" strike="noStrike">
              <a:solidFill>
                <a:srgbClr val="000000"/>
              </a:solidFill>
              <a:latin typeface="Arial"/>
            </a:endParaRPr>
          </a:p>
        </p:txBody>
      </p:sp>
      <p:sp>
        <p:nvSpPr>
          <p:cNvPr id="674" name=""/>
          <p:cNvSpPr txBox="1"/>
          <p:nvPr/>
        </p:nvSpPr>
        <p:spPr>
          <a:xfrm>
            <a:off x="179280" y="1904760"/>
            <a:ext cx="8964720" cy="46926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momentos previos a la implementación: </a:t>
            </a:r>
            <a:r>
              <a:rPr b="0" lang="es-ES" sz="1400" spc="-1" strike="noStrike">
                <a:solidFill>
                  <a:srgbClr val="000000"/>
                </a:solidFill>
                <a:latin typeface="Arial"/>
              </a:rPr>
              <a:t>con enfoque hacia el interior de las instituciones para conocer si hubo una preparación que permitiera una mejor implementación de la política de transparencia y acceso a la información previo al 20 de abril de 2009. A través de la entrevista se indagó si había preocupación por la nueva política; la conformación de grupos de trabajo; el tipo de capacitación hacia los funcionarios y la dirección del cambio.</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stión documental: </a:t>
            </a:r>
            <a:r>
              <a:rPr b="0" lang="es-ES" sz="1400" spc="-1" strike="noStrike">
                <a:solidFill>
                  <a:srgbClr val="000000"/>
                </a:solidFill>
                <a:latin typeface="Arial"/>
              </a:rPr>
              <a:t>para conocer si existían políticas orientadas hacia la organización de datos, archivos, clasificación y digitalización de la información pública y coordinación con el Archivo Nacional, que tuvieran formatos adecuados para responder a las consultas recibidas.</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que facilitan y/o dificultan la aplicación de la Ley: </a:t>
            </a:r>
            <a:r>
              <a:rPr b="0" lang="es-ES" sz="1400" spc="-1" strike="noStrike">
                <a:solidFill>
                  <a:srgbClr val="000000"/>
                </a:solidFill>
                <a:latin typeface="Arial"/>
              </a:rPr>
              <a:t>todos aquellos elementos relativos a Procesos organizacionales, tecnológicos, de recursos humanos y económicos que facilitaron o dificultaron la aplicación de la Ley 20.285.</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legales:</a:t>
            </a:r>
            <a:r>
              <a:rPr b="0" lang="es-ES" sz="1400" spc="-1" strike="noStrike">
                <a:solidFill>
                  <a:srgbClr val="000000"/>
                </a:solidFill>
                <a:latin typeface="Arial"/>
              </a:rPr>
              <a:t> los vacíos y/o falta de precisión tanto de la Ley 20.285 como de su Reglamento que afecten una clara orientación de los proceso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cepciones:</a:t>
            </a:r>
            <a:r>
              <a:rPr b="0" lang="es-ES" sz="1400" spc="-1" strike="noStrike">
                <a:solidFill>
                  <a:srgbClr val="000000"/>
                </a:solidFill>
                <a:latin typeface="Arial"/>
              </a:rPr>
              <a:t> aquellas percepciones al interior de las dependencias del Gobierno Central sobre los factores que se requieren para una mejor aplicación de la LAIP; los temores de los funcionarios públicos con la vigencia de esta nueva Ley.</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ltura Organizacional:</a:t>
            </a:r>
            <a:r>
              <a:rPr b="0" lang="es-ES" sz="1400" spc="-1" strike="noStrike">
                <a:solidFill>
                  <a:srgbClr val="000000"/>
                </a:solidFill>
                <a:latin typeface="Arial"/>
              </a:rPr>
              <a:t> las prácticas habituales de los funcionarios públicos, y la necesidad de cambios que conlleva la aplicación de las nuevas normativa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 2</a:t>
            </a:r>
            <a:endParaRPr b="0" lang="en-US" sz="4200" spc="-1" strike="noStrike">
              <a:solidFill>
                <a:srgbClr val="000000"/>
              </a:solidFill>
              <a:latin typeface="Arial"/>
            </a:endParaRPr>
          </a:p>
        </p:txBody>
      </p:sp>
      <p:pic>
        <p:nvPicPr>
          <p:cNvPr id="676" name="3 Marcador de contenido" descr=""/>
          <p:cNvPicPr/>
          <p:nvPr/>
        </p:nvPicPr>
        <p:blipFill>
          <a:blip r:embed="rId1"/>
          <a:stretch/>
        </p:blipFill>
        <p:spPr>
          <a:xfrm>
            <a:off x="450720" y="1047600"/>
            <a:ext cx="8272440" cy="508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26028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 3</a:t>
            </a:r>
            <a:endParaRPr b="0" lang="en-US" sz="4200" spc="-1" strike="noStrike">
              <a:solidFill>
                <a:srgbClr val="000000"/>
              </a:solidFill>
              <a:latin typeface="Arial"/>
            </a:endParaRPr>
          </a:p>
        </p:txBody>
      </p:sp>
      <p:graphicFrame>
        <p:nvGraphicFramePr>
          <p:cNvPr id="678" name=""/>
          <p:cNvGraphicFramePr/>
          <p:nvPr/>
        </p:nvGraphicFramePr>
        <p:xfrm>
          <a:off x="2195640" y="1268280"/>
          <a:ext cx="6694200" cy="5589720"/>
        </p:xfrm>
        <a:graphic>
          <a:graphicData uri="http://schemas.openxmlformats.org/drawingml/2006/table">
            <a:tbl>
              <a:tblPr/>
              <a:tblGrid>
                <a:gridCol w="2278080"/>
                <a:gridCol w="2278080"/>
                <a:gridCol w="2138040"/>
              </a:tblGrid>
              <a:tr h="2178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DIMENSIÓN</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SUBDIMENS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NDICADOR</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3320">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ncipales TPL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E-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79600">
                <a:tc rowSpan="10">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US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Temas generales sobre Uso de TPL </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elementos que inciden en el uso (espontáne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59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orizar factores que inciden en el us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11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Variables que inciden en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1 (Características propias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2 (Benefic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3 (Beneficiar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80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4 (Otros aspect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736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roblemas y trabas para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trab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ecnologí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0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Sociedad</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636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MPLEMENTACIÓN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uesta en marcha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Característic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73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Rol de los actore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Roles desarrollado y cuál debiera ser a futuro (Gobierno, ciudadanía, empresa privad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isión futur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ariables clave para el futur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936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Necesidad de investigac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3280" y="5467320"/>
            <a:ext cx="81835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800" spc="-1" strike="noStrike">
              <a:solidFill>
                <a:srgbClr val="9fdddd"/>
              </a:solidFill>
              <a:latin typeface="Arial"/>
            </a:endParaRPr>
          </a:p>
        </p:txBody>
      </p:sp>
      <p:pic>
        <p:nvPicPr>
          <p:cNvPr id="680" name="3 Marcador de contenido" descr=""/>
          <p:cNvPicPr/>
          <p:nvPr/>
        </p:nvPicPr>
        <p:blipFill>
          <a:blip r:embed="rId1"/>
          <a:stretch/>
        </p:blipFill>
        <p:spPr>
          <a:xfrm>
            <a:off x="407880" y="566640"/>
            <a:ext cx="8223480" cy="6010200"/>
          </a:xfrm>
          <a:prstGeom prst="rect">
            <a:avLst/>
          </a:prstGeom>
          <a:ln w="0">
            <a:noFill/>
          </a:ln>
        </p:spPr>
      </p:pic>
      <p:sp>
        <p:nvSpPr>
          <p:cNvPr id="681" name="4 Rectángulo"/>
          <p:cNvSpPr/>
          <p:nvPr/>
        </p:nvSpPr>
        <p:spPr>
          <a:xfrm>
            <a:off x="3571920" y="4000680"/>
            <a:ext cx="45720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682" name="8 Grupo"/>
          <p:cNvGrpSpPr/>
          <p:nvPr/>
        </p:nvGrpSpPr>
        <p:grpSpPr>
          <a:xfrm>
            <a:off x="3357720" y="4071960"/>
            <a:ext cx="5260680" cy="428760"/>
            <a:chOff x="3357720" y="4071960"/>
            <a:chExt cx="5260680" cy="428760"/>
          </a:xfrm>
        </p:grpSpPr>
        <p:sp>
          <p:nvSpPr>
            <p:cNvPr id="683" name="9 Redondear rectángulo de esquina del mismo lado"/>
            <p:cNvSpPr/>
            <p:nvPr/>
          </p:nvSpPr>
          <p:spPr>
            <a:xfrm rot="5400000">
              <a:off x="5765040" y="1664280"/>
              <a:ext cx="400320" cy="5214960"/>
            </a:xfrm>
            <a:custGeom>
              <a:avLst/>
              <a:gdLst>
                <a:gd name="textAreaLeft" fmla="*/ 19440 w 400320"/>
                <a:gd name="textAreaRight" fmla="*/ 380880 w 400320"/>
                <a:gd name="textAreaTop" fmla="*/ 45360 h 5214960"/>
                <a:gd name="textAreaBottom" fmla="*/ 5215320 h 5214960"/>
              </a:gdLst>
              <a:ahLst/>
              <a:rect l="textAreaLeft" t="textAreaTop" r="textAreaRight" b="textAreaBottom"/>
              <a:pathLst>
                <a:path w="939992" h="5237045">
                  <a:moveTo>
                    <a:pt x="156668" y="0"/>
                  </a:moveTo>
                  <a:lnTo>
                    <a:pt x="783324" y="0"/>
                  </a:lnTo>
                  <a:lnTo>
                    <a:pt x="783324" y="0"/>
                  </a:lnTo>
                  <a:arcTo wR="156668" hR="156668" stAng="-5400000" swAng="5400000"/>
                  <a:lnTo>
                    <a:pt x="939992" y="5237045"/>
                  </a:lnTo>
                  <a:lnTo>
                    <a:pt x="0" y="5237045"/>
                  </a:lnTo>
                  <a:lnTo>
                    <a:pt x="0" y="156668"/>
                  </a:lnTo>
                  <a:lnTo>
                    <a:pt x="0" y="156668"/>
                  </a:lnTo>
                  <a:arcTo wR="156668" hR="156668"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4" name="Redondear rectángulo de esquina del mismo lado 4"/>
            <p:cNvSpPr/>
            <p:nvPr/>
          </p:nvSpPr>
          <p:spPr>
            <a:xfrm>
              <a:off x="3429000" y="4071960"/>
              <a:ext cx="5189400" cy="42876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ipos, Satisfacción.</a:t>
              </a:r>
              <a:endParaRPr b="0" lang="en-US" sz="1600" spc="-1" strike="noStrike">
                <a:solidFill>
                  <a:srgbClr val="336666"/>
                </a:solidFill>
                <a:latin typeface="Arial"/>
              </a:endParaRPr>
            </a:p>
          </p:txBody>
        </p:sp>
      </p:grpSp>
      <p:grpSp>
        <p:nvGrpSpPr>
          <p:cNvPr id="685" name="11 Grupo"/>
          <p:cNvGrpSpPr/>
          <p:nvPr/>
        </p:nvGrpSpPr>
        <p:grpSpPr>
          <a:xfrm>
            <a:off x="3357720" y="5286240"/>
            <a:ext cx="5402160" cy="606600"/>
            <a:chOff x="3357720" y="5286240"/>
            <a:chExt cx="5402160" cy="606600"/>
          </a:xfrm>
        </p:grpSpPr>
        <p:sp>
          <p:nvSpPr>
            <p:cNvPr id="686" name="12 Redondear rectángulo de esquina del mismo lado"/>
            <p:cNvSpPr/>
            <p:nvPr/>
          </p:nvSpPr>
          <p:spPr>
            <a:xfrm rot="5400000">
              <a:off x="5731560" y="2983320"/>
              <a:ext cx="535320" cy="5283360"/>
            </a:xfrm>
            <a:custGeom>
              <a:avLst/>
              <a:gdLst>
                <a:gd name="textAreaLeft" fmla="*/ 25920 w 535320"/>
                <a:gd name="textAreaRight" fmla="*/ 509400 w 535320"/>
                <a:gd name="textAreaTop" fmla="*/ 27360 h 5283360"/>
                <a:gd name="textAreaBottom" fmla="*/ 5283720 h 5283360"/>
              </a:gdLst>
              <a:ahLst/>
              <a:rect l="textAreaLeft" t="textAreaTop" r="textAreaRight" b="textAreaBottom"/>
              <a:pathLst>
                <a:path w="535672" h="5028374">
                  <a:moveTo>
                    <a:pt x="89280" y="0"/>
                  </a:moveTo>
                  <a:lnTo>
                    <a:pt x="446392" y="0"/>
                  </a:lnTo>
                  <a:lnTo>
                    <a:pt x="446392" y="0"/>
                  </a:lnTo>
                  <a:arcTo wR="89280" hR="89280" stAng="-5400000" swAng="5400000"/>
                  <a:lnTo>
                    <a:pt x="535672" y="5028374"/>
                  </a:lnTo>
                  <a:lnTo>
                    <a:pt x="0" y="5028374"/>
                  </a:lnTo>
                  <a:lnTo>
                    <a:pt x="0" y="89280"/>
                  </a:lnTo>
                  <a:lnTo>
                    <a:pt x="0" y="89280"/>
                  </a:lnTo>
                  <a:arcTo wR="89280" hR="89280"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7" name="Redondear rectángulo de esquina del mismo lado 4"/>
            <p:cNvSpPr/>
            <p:nvPr/>
          </p:nvSpPr>
          <p:spPr>
            <a:xfrm>
              <a:off x="3429000" y="5286240"/>
              <a:ext cx="5330880" cy="58140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ransparencia Gestión Interna y Autoridades.   </a:t>
              </a:r>
              <a:endParaRPr b="0" lang="en-US" sz="1600" spc="-1" strike="noStrike">
                <a:solidFill>
                  <a:srgbClr val="336666"/>
                </a:solidFill>
                <a:latin typeface="Arial"/>
              </a:endParaRPr>
            </a:p>
          </p:txBody>
        </p:sp>
      </p:grpSp>
      <p:grpSp>
        <p:nvGrpSpPr>
          <p:cNvPr id="688" name="14 Grupo"/>
          <p:cNvGrpSpPr/>
          <p:nvPr/>
        </p:nvGrpSpPr>
        <p:grpSpPr>
          <a:xfrm>
            <a:off x="3357360" y="4572000"/>
            <a:ext cx="5357880" cy="571680"/>
            <a:chOff x="3357360" y="4572000"/>
            <a:chExt cx="5357880" cy="571680"/>
          </a:xfrm>
        </p:grpSpPr>
        <p:sp>
          <p:nvSpPr>
            <p:cNvPr id="689" name="15 Redondear rectángulo de esquina del mismo lado"/>
            <p:cNvSpPr/>
            <p:nvPr/>
          </p:nvSpPr>
          <p:spPr>
            <a:xfrm rot="5400000">
              <a:off x="5690880" y="2304720"/>
              <a:ext cx="505080" cy="5172120"/>
            </a:xfrm>
            <a:custGeom>
              <a:avLst/>
              <a:gdLst>
                <a:gd name="textAreaLeft" fmla="*/ 24480 w 505080"/>
                <a:gd name="textAreaRight" fmla="*/ 480600 w 505080"/>
                <a:gd name="textAreaTop" fmla="*/ 26280 h 5172120"/>
                <a:gd name="textAreaBottom" fmla="*/ 5172480 h 5172120"/>
              </a:gdLst>
              <a:ahLst/>
              <a:rect l="textAreaLeft" t="textAreaTop" r="textAreaRight" b="textAreaBottom"/>
              <a:pathLst>
                <a:path w="536361" h="5097941">
                  <a:moveTo>
                    <a:pt x="89395" y="0"/>
                  </a:moveTo>
                  <a:lnTo>
                    <a:pt x="446966" y="0"/>
                  </a:lnTo>
                  <a:lnTo>
                    <a:pt x="446966" y="0"/>
                  </a:lnTo>
                  <a:arcTo wR="89395" hR="89395" stAng="-5400000" swAng="5400000"/>
                  <a:lnTo>
                    <a:pt x="536361" y="5097941"/>
                  </a:lnTo>
                  <a:lnTo>
                    <a:pt x="0" y="5097941"/>
                  </a:lnTo>
                  <a:lnTo>
                    <a:pt x="0" y="89395"/>
                  </a:lnTo>
                  <a:lnTo>
                    <a:pt x="0" y="89395"/>
                  </a:lnTo>
                  <a:arcTo wR="89395" hR="89395"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0" name="Redondear rectángulo de esquina del mismo lado 4"/>
            <p:cNvSpPr/>
            <p:nvPr/>
          </p:nvSpPr>
          <p:spPr>
            <a:xfrm>
              <a:off x="3429000" y="4572000"/>
              <a:ext cx="5286240" cy="54648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Población Objetivo, Derechos,  Institucionalidad </a:t>
              </a:r>
              <a:endParaRPr b="0" lang="en-US" sz="1600" spc="-1" strike="noStrike">
                <a:solidFill>
                  <a:srgbClr val="336666"/>
                </a:solidFill>
                <a:latin typeface="Arial"/>
              </a:endParaRPr>
            </a:p>
          </p:txBody>
        </p:sp>
      </p:grpSp>
      <p:sp>
        <p:nvSpPr>
          <p:cNvPr id="691"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6666"/>
                </a:solidFill>
                <a:latin typeface="Arial"/>
              </a:rPr>
              <a:t>Ejemplo 4</a:t>
            </a:r>
            <a:endParaRPr b="0" lang="en-US" sz="4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596"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99" name="Group 3"/>
          <p:cNvGrpSpPr/>
          <p:nvPr/>
        </p:nvGrpSpPr>
        <p:grpSpPr>
          <a:xfrm>
            <a:off x="735120" y="1292400"/>
            <a:ext cx="8229600" cy="4914720"/>
            <a:chOff x="735120" y="1292400"/>
            <a:chExt cx="8229600" cy="4914720"/>
          </a:xfrm>
        </p:grpSpPr>
        <p:sp>
          <p:nvSpPr>
            <p:cNvPr id="600"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1"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602"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603"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604"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605"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606"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607"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608"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609"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610"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611"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612"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613"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614"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615"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616"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617"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618"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619"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620"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621"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2"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3"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4"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5"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6"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7"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8"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9"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0"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1"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2"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4"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635"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8"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63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 abiert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641"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5-13T14:03:24Z</dcterms:modified>
  <cp:revision>73</cp:revision>
  <dc:subject/>
  <dc:title>TALLER INTRODUCTORIO  ESTUDIOS DE CASO</dc:title>
</cp:coreProperties>
</file>