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C723-9887-474C-8B1B-71CDD94633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AA50-29F0-481B-9DAB-2EB3BAF1468A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E95-C22D-4197-A23B-A8DA01CC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59A-E2C2-4CF1-8AE1-BACE27C7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058-9A85-4AA1-9A3C-96466ECE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8DF-2290-4435-B897-7F70E12D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BA42-582E-43E5-A7DB-7B9334D1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2774-9556-4E54-83F5-A7871647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B115-5B5F-4117-8459-E48F15D4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A6DF-63C9-46B4-B1C6-56398CD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806A-7823-454B-845A-94022D84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7916-3AE4-426F-BF35-7694E4BD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95E2-D9B0-4A6E-ABC4-C0F9307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D65-9FC4-4E3B-9D31-8D1541C0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AC30-BDEC-464A-8494-1B1B2377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A484-5F04-4FDB-A85B-2442069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53D4-A72F-4893-9303-5B3A1A93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D2EE-7F30-4F99-9F8F-82DBCCDE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5A01-0E57-4689-A792-D80E2139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DBE-2777-4488-91FE-CE36C749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1F5-1BDC-4D88-8393-34A4E22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823-37D5-4F8F-A672-F9933861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A49-103A-4CBA-9AA1-27A5CF4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736-25A8-4B62-A884-7D0B034A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022-B13E-4A12-8DCB-89FE0DE0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C2E-B081-46C1-8700-31E27751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FFA6-BDE0-48DA-990A-E0E0B6AEB937}" type="datetime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DF75-18AD-4077-B9F4-0153BB71E1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F794-9E50-4D6A-ABBB-12424AEF2DCC}" type="datetime"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4802-81DC-4C14-A44F-B2BF432FC823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336666"/>
                </a:solidFill>
                <a:latin typeface="Arial"/>
              </a:rPr>
              <a:t>TALLER DE </a:t>
            </a:r>
            <a:br>
              <a:rPr sz="4800"/>
            </a:br>
            <a:r>
              <a:rPr b="0" lang="es-CL" sz="4800" spc="-1" strike="noStrike">
                <a:solidFill>
                  <a:srgbClr val="336666"/>
                </a:solidFill>
                <a:latin typeface="Arial"/>
              </a:rPr>
              <a:t>ESTUDIOS DE CA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íster en gestión y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 de esta ses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1905120"/>
            <a:ext cx="81392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Analizar los aprendizajes a partir del informe del 3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Recordar lo que se debe trabajar para el segundo informe de principios de agos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Compartir dudas y consultas respecto del proceso de elaboración de este segundo inform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Revisión de los borradores de propuestas de Estudios de caso para enviar a la escuela de postgrado y escoger profesor gu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Solicitud a la escuela de Postgrado la aprobación del tema de tesis + Formul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FINES DE OCTUBRE (5 de noviemb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Primer informe de avance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0000"/>
                </a:solidFill>
                <a:latin typeface="Arial"/>
              </a:rPr>
              <a:t>MARZ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ntación oral y 2do Informe (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MAYO-JU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rsión preliminar y solicitud de examen de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0000"/>
                </a:solidFill>
                <a:latin typeface="Arial"/>
              </a:rPr>
              <a:t>AGOSTO-SEPTIEMBRE DEL 201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amen de grado del Estudio de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68360" y="1628640"/>
            <a:ext cx="485640" cy="4942080"/>
          </a:xfrm>
          <a:prstGeom prst="downArrow">
            <a:avLst>
              <a:gd name="adj1" fmla="val 50000"/>
              <a:gd name="adj2" fmla="val 254411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rrores frecuentes en los primeros informes – Lo que no hay que ha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403280" y="1916280"/>
            <a:ext cx="6985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32000" y="2060640"/>
            <a:ext cx="6985080" cy="4249800"/>
          </a:xfrm>
          <a:prstGeom prst="rect">
            <a:avLst/>
          </a:prstGeom>
          <a:solidFill>
            <a:srgbClr val="b2b2b2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8000" y="2565360"/>
            <a:ext cx="7010640" cy="4114800"/>
          </a:xfrm>
          <a:prstGeom prst="rect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ta de F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agen Frankesti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trumentalización de los autores, teorías e investigaciones rec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obre-afi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fra-afi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ta de fundamentación teó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usencia de estructura del est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 Narrow"/>
              </a:rPr>
              <a:t>Informe de avance - 60%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904760"/>
            <a:ext cx="785016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 Narrow"/>
              </a:rPr>
              <a:t>Se realiza una presentación intermedia frente a los integrantes de la comisión y los compañeros del 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95280" y="5950080"/>
            <a:ext cx="8353440" cy="503280"/>
          </a:xfrm>
          <a:prstGeom prst="rect">
            <a:avLst/>
          </a:prstGeom>
          <a:solidFill>
            <a:srgbClr val="ff0000">
              <a:alpha val="18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5950080"/>
            <a:ext cx="5472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395280" y="6308640"/>
            <a:ext cx="7416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435640" y="551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forme de avance – 60%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640" y="1905120"/>
            <a:ext cx="79948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abajo debe contener las correcciones al primer informe de av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lanteamiento metodológico completamente desarrollado, así como requerimientos para logr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jemplo: desarrollo de pautas de entrevi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eño de modelos de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mpieza de bases de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preliminares (de secciones, aproximacion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lementar la revisión bibliográfica y de anteced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17:09Z</dcterms:created>
  <dc:creator>M. Angelica Pavez</dc:creator>
  <dc:description/>
  <dc:language>en-US</dc:language>
  <cp:lastModifiedBy>M. Angelica Pavez</cp:lastModifiedBy>
  <dcterms:modified xsi:type="dcterms:W3CDTF">2012-01-24T16:16:36Z</dcterms:modified>
  <cp:revision>75</cp:revision>
  <dc:subject/>
  <dc:title>TALLER INTRODUCTORIO  ESTUDIOS DE CASO</dc:title>
</cp:coreProperties>
</file>