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526-4A76-46D3-B42E-BD7F0D08B9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3A51-A336-4E43-B2C4-8EB9E5BE96EB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F36-CAE3-4A6B-921C-91C677A9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C53-B33A-47A8-9A5F-FF4DDB89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60A-D312-4B84-9C7E-659F420C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70A-2DFA-44E1-8184-77BAE121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1F2E-86AE-490D-BFE3-494A8399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537-B03F-49CF-84B2-531FC18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4887-F867-4B68-8946-86138173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79EC-DC63-4753-92AD-B462D2C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E84B-540D-4922-A6B4-3820979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2D6A-856C-4AA8-8952-28029C93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7D0C-2339-4F22-9174-D05F0CE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D12-F1E4-4E9A-80C2-2B4AD5F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C32C-5D30-46D2-BF6E-39AF60D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6CF-C09C-488F-96A3-A138CBA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00BC-5CF6-4DB2-BCB9-5334EA9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5484-CB7D-4C9F-A6DB-7519175B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943C-D073-4B3A-829E-820BB8C2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008-D1E1-4530-BAC6-9DDC11AF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B55-5CF0-454B-829B-3648CD6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FCF-9C41-424A-BBA9-D55DE9F3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391-2AB1-4D1C-8972-EC38C2B7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A19-7701-4430-B995-9A5C07A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139-9209-4612-9F92-43BE5BB0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F12-7428-4C96-A5AE-018F794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AD5C-954C-4BAC-A5E5-7CF0F7ADAE39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964E-70DE-408F-AEC3-4DCD3B96D7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B65-D8B9-4225-AA00-85BEBBB64DB3}" type="datetime"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02CA-3587-4592-969E-7DD85120577A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6666"/>
                </a:solidFill>
                <a:latin typeface="Arial"/>
              </a:rPr>
              <a:t>TALLER DE </a:t>
            </a:r>
            <a:br>
              <a:rPr sz="4800"/>
            </a:br>
            <a:r>
              <a:rPr b="0" lang="es-CL" sz="4800" spc="-1" strike="noStrike">
                <a:solidFill>
                  <a:srgbClr val="336666"/>
                </a:solidFill>
                <a:latin typeface="Arial"/>
              </a:rPr>
              <a:t>ESTUDIOS DE CA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íster en gestión y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 de esta ses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1905120"/>
            <a:ext cx="81392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Analizar los aprendizajes a partir del informe del 3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Recordar lo que se debe trabajar para el segundo informe de principios de agos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Compartir dudas y consultas respecto del proceso de elaboración de este segundo inform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AG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Revisión de los borradores de propuestas de Estudios de caso para enviar a la escuela de postgrado y escoger profesor gu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Solicitud a la escuela de Postgrado la aprobación del tema de tesis + Formul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FINES DE OCTUBRE (5 de noviemb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b8b8b"/>
                </a:solidFill>
                <a:latin typeface="Arial"/>
              </a:rPr>
              <a:t>Primer informe de avance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0000"/>
                </a:solidFill>
                <a:latin typeface="Arial"/>
              </a:rPr>
              <a:t>MAR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ción oral y 2do Informe (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AYO-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rsión preliminar y solicitud de examen de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0000"/>
                </a:solidFill>
                <a:latin typeface="Arial"/>
              </a:rPr>
              <a:t>AGOSTO-SEPTIEMBRE DEL 20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amen de grado del Estudi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68360" y="1628640"/>
            <a:ext cx="485640" cy="4942080"/>
          </a:xfrm>
          <a:prstGeom prst="downArrow">
            <a:avLst>
              <a:gd name="adj1" fmla="val 50000"/>
              <a:gd name="adj2" fmla="val 254411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rrores frecuentes en los primeros informes – Lo que no hay que ha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403280" y="1916280"/>
            <a:ext cx="69850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32000" y="2060640"/>
            <a:ext cx="6985080" cy="4249800"/>
          </a:xfrm>
          <a:prstGeom prst="rect">
            <a:avLst/>
          </a:prstGeom>
          <a:solidFill>
            <a:srgbClr val="b2b2b2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2565360"/>
            <a:ext cx="7010640" cy="4114800"/>
          </a:xfrm>
          <a:prstGeom prst="rect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ta de F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agen Frankesti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trumentalización de los autores, teorías e investigaciones rec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re-afi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fra-afi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ta de fundamentación teó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usencia de estructura del e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 Narrow"/>
              </a:rPr>
              <a:t>Informe de avance - 60%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904760"/>
            <a:ext cx="785016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 Narrow"/>
              </a:rPr>
              <a:t>Se realiza una presentación intermedia frente a los integrantes de la comisión y los compañeros del 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5280" y="5950080"/>
            <a:ext cx="8353440" cy="503280"/>
          </a:xfrm>
          <a:prstGeom prst="rect">
            <a:avLst/>
          </a:prstGeom>
          <a:solidFill>
            <a:srgbClr val="ff0000">
              <a:alpha val="18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5950080"/>
            <a:ext cx="547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95280" y="6308640"/>
            <a:ext cx="7416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5640" y="551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forme de avance – 60%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1905120"/>
            <a:ext cx="79948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abajo debe contener las correcciones al primer informe de av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lanteamiento metodológico completamente desarrollado, así como requerimientos para logr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jemplo: desarrollo de pautas de entrevi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eño de modelos de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mpieza de bases de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preliminares (de secciones, aproximacion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lementar la revisión bibliográfica y de antece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17:09Z</dcterms:created>
  <dc:creator>M. Angelica Pavez</dc:creator>
  <dc:description/>
  <dc:language>en-US</dc:language>
  <cp:lastModifiedBy>M. Angelica Pavez</cp:lastModifiedBy>
  <dcterms:modified xsi:type="dcterms:W3CDTF">2012-01-24T16:16:36Z</dcterms:modified>
  <cp:revision>75</cp:revision>
  <dc:subject/>
  <dc:title>TALLER INTRODUCTORIO  ESTUDIOS DE CASO</dc:title>
</cp:coreProperties>
</file>