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5A3F-73C4-4C8B-8091-BB391323E3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2DCC-ACC7-4017-BB7B-5324087B951D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376-5189-4158-97CB-35BD46C2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54F1-D69A-4FCB-B319-ADF91117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E650-5AFF-4AC7-869C-13E664B2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6EF-2285-4021-946C-42224CB0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774A-1346-40D8-BBB4-1CC35BEE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3A0A-A28F-4647-9DDA-AF850E91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A5E3-034D-4B09-B70B-46F681D1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307B-294B-4FA2-8AF4-21FF51C3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8D45-ADBC-4602-93C3-7BCCC0FF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987D-9B6E-4A0E-90EF-90078756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330D-846F-45A7-83F8-C14F93AB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BE6-BA4F-4680-8844-2787CF3F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9EE4-360A-4573-B869-8A316CF8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AB3F-352D-4161-AEB1-47C12CBE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C014-998B-4521-B6FF-C13CEB16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82CC-AB17-4D2F-BAE0-750BCB59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910A-8432-4D67-B4CF-1320E06E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91D-8C70-4A57-AE7C-0FDB2077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6732-EB78-4E9C-9F00-F62AA7BB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C14-312E-4B15-B90F-5B0CECC4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CD8-3976-4FE5-AC86-E440EE9F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7AB-F702-4F8E-873A-A60E0516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CD1-3473-4D2F-BC55-6AD9AC32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347-40F1-41A6-9BA1-E7086FA8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03F8-6C5D-4D90-8F88-7517420E4D00}" type="datetime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8A93-EA01-4470-987D-8ED3AA5DB69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98BB-2C7C-43EB-9B06-9E4C09260C49}" type="datetime"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5D2F-3252-4B27-8B5D-061BA2B439D7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336666"/>
                </a:solidFill>
                <a:latin typeface="Arial"/>
              </a:rPr>
              <a:t>TALLER DE </a:t>
            </a:r>
            <a:br>
              <a:rPr sz="4800"/>
            </a:br>
            <a:r>
              <a:rPr b="0" lang="es-CL" sz="4800" spc="-1" strike="noStrike">
                <a:solidFill>
                  <a:srgbClr val="336666"/>
                </a:solidFill>
                <a:latin typeface="Arial"/>
              </a:rPr>
              <a:t>ESTUDIOS DE CA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gíster en gestión y Polític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 de esta ses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4920" y="1905120"/>
            <a:ext cx="813924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Analizar los aprendizajes a partir del informe del 30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Recordar lo que se debe trabajar para el segundo informe de principios de agos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Compartir dudas y consultas respecto del proceso de elaboración de este segundo inform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ALENDAR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b8b8b"/>
                </a:solidFill>
                <a:latin typeface="Arial"/>
              </a:rPr>
              <a:t>AG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b8b8b"/>
                </a:solidFill>
                <a:latin typeface="Arial"/>
              </a:rPr>
              <a:t>Revisión de los borradores de propuestas de Estudios de caso para enviar a la escuela de postgrado y escoger profesor gu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b8b8b"/>
                </a:solidFill>
                <a:latin typeface="Arial"/>
              </a:rPr>
              <a:t>Solicitud a la escuela de Postgrado la aprobación del tema de tesis + Formul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b8b8b"/>
                </a:solidFill>
                <a:latin typeface="Arial"/>
              </a:rPr>
              <a:t>FINES DE OCTUBRE (5 de noviemb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b8b8b"/>
                </a:solidFill>
                <a:latin typeface="Arial"/>
              </a:rPr>
              <a:t>Primer informe de avance (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0000"/>
                </a:solidFill>
                <a:latin typeface="Arial"/>
              </a:rPr>
              <a:t>MARZ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entación oral y 2do Informe (6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MAYO-JU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rsión preliminar y solicitud de examen de 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0000"/>
                </a:solidFill>
                <a:latin typeface="Arial"/>
              </a:rPr>
              <a:t>AGOSTO-SEPTIEMBRE DEL 201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amen de grado del Estudio de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468360" y="1628640"/>
            <a:ext cx="485640" cy="4942080"/>
          </a:xfrm>
          <a:prstGeom prst="downArrow">
            <a:avLst>
              <a:gd name="adj1" fmla="val 50000"/>
              <a:gd name="adj2" fmla="val 254411"/>
            </a:avLst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rrores frecuentes en los primeros informes – Lo que no hay que hac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403280" y="1916280"/>
            <a:ext cx="69850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332000" y="2060640"/>
            <a:ext cx="6985080" cy="4249800"/>
          </a:xfrm>
          <a:prstGeom prst="rect">
            <a:avLst/>
          </a:prstGeom>
          <a:solidFill>
            <a:srgbClr val="b2b2b2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8000" y="2565360"/>
            <a:ext cx="7010640" cy="4114800"/>
          </a:xfrm>
          <a:prstGeom prst="rect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alta de Fo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magen Frankestia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trumentalización de los autores, teorías e investigaciones rec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obre-afi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fra-afi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alta de fundamentación teó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usencia de estructura del estu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 Narrow"/>
              </a:rPr>
              <a:t>Informe de avance - 60%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904760"/>
            <a:ext cx="785016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 Narrow"/>
              </a:rPr>
              <a:t>Se realiza una presentación intermedia frente a los integrantes de la comisión y los compañeros del cu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95280" y="5950080"/>
            <a:ext cx="8353440" cy="503280"/>
          </a:xfrm>
          <a:prstGeom prst="rect">
            <a:avLst/>
          </a:prstGeom>
          <a:solidFill>
            <a:srgbClr val="ff0000">
              <a:alpha val="18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95280" y="5950080"/>
            <a:ext cx="5472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395280" y="6308640"/>
            <a:ext cx="741672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435640" y="5516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forme de avance – 60%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9640" y="1905120"/>
            <a:ext cx="79948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rabajo debe contener las correcciones al primer informe de av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lanteamiento metodológico completamente desarrollado, así como requerimientos para logr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ejemplo: desarrollo de pautas de entrevis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seño de modelos de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impieza de bases de d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ados preliminares (de secciones, aproximacion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lementar la revisión bibliográfica y de anteced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17:09Z</dcterms:created>
  <dc:creator>M. Angelica Pavez</dc:creator>
  <dc:description/>
  <dc:language>en-US</dc:language>
  <cp:lastModifiedBy>M. Angelica Pavez</cp:lastModifiedBy>
  <dcterms:modified xsi:type="dcterms:W3CDTF">2012-01-24T16:16:36Z</dcterms:modified>
  <cp:revision>75</cp:revision>
  <dc:subject/>
  <dc:title>TALLER INTRODUCTORIO  ESTUDIOS DE CASO</dc:title>
</cp:coreProperties>
</file>